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1B6-CB29-4F00-B807-76C7C19A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76A-ABC6-4887-8DA0-731642F1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FFE-CDB8-493E-B401-9C397ABC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B18-79D7-4D6D-AD38-E8141997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E56-0592-4465-86B0-1F9B894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896-5A60-4703-AE15-4D075CF3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147-AC39-4238-8EAB-5FE708CF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C9F-C809-4EBF-8AA0-AD6E936F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471-F5EC-414F-8528-0B28AAFC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00E-610C-4ADE-BDBA-BA4A6F8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290-5FD0-4DB3-A469-B14F0B5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77D-07E8-4A71-A5E3-57D92B8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6C2F-947A-45DC-B69D-2018E9B8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October 6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arm-up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omplete th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48320" y="1600200"/>
          <a:ext cx="4114440" cy="4419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</a:tblGrid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410080" y="2514600"/>
                <a:ext cx="432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334120" y="4267080"/>
                <a:ext cx="649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098720" y="2857680"/>
            <a:ext cx="1473120" cy="2786040"/>
          </a:xfrm>
          <a:custGeom>
            <a:avLst/>
            <a:gdLst/>
            <a:ahLst/>
            <a:rect l="l" t="t" r="r" b="b"/>
            <a:pathLst>
              <a:path w="4094" h="7740">
                <a:moveTo>
                  <a:pt x="3051" y="8161"/>
                </a:moveTo>
                <a:cubicBezTo>
                  <a:pt x="3226" y="8123"/>
                  <a:pt x="3380" y="8075"/>
                  <a:pt x="3547" y="8012"/>
                </a:cubicBezTo>
              </a:path>
              <a:path w="4094" h="7740">
                <a:moveTo>
                  <a:pt x="3795" y="7987"/>
                </a:moveTo>
                <a:cubicBezTo>
                  <a:pt x="3874" y="7980"/>
                  <a:pt x="3943" y="7965"/>
                  <a:pt x="4018" y="7938"/>
                </a:cubicBezTo>
              </a:path>
              <a:path w="4094" h="7740">
                <a:moveTo>
                  <a:pt x="3795" y="8136"/>
                </a:moveTo>
                <a:cubicBezTo>
                  <a:pt x="3950" y="8167"/>
                  <a:pt x="4020" y="8161"/>
                  <a:pt x="4118" y="8062"/>
                </a:cubicBezTo>
              </a:path>
              <a:path w="4094" h="7740">
                <a:moveTo>
                  <a:pt x="5978" y="13246"/>
                </a:moveTo>
                <a:cubicBezTo>
                  <a:pt x="5955" y="13358"/>
                  <a:pt x="5940" y="13389"/>
                  <a:pt x="6003" y="13444"/>
                </a:cubicBezTo>
                <a:cubicBezTo>
                  <a:pt x="6140" y="13398"/>
                  <a:pt x="6103" y="13386"/>
                  <a:pt x="6127" y="13246"/>
                </a:cubicBezTo>
              </a:path>
              <a:path w="4094" h="7740">
                <a:moveTo>
                  <a:pt x="5978" y="14908"/>
                </a:moveTo>
                <a:cubicBezTo>
                  <a:pt x="6344" y="14779"/>
                  <a:pt x="6711" y="14656"/>
                  <a:pt x="7094" y="14585"/>
                </a:cubicBezTo>
                <a:cubicBezTo>
                  <a:pt x="7169" y="14585"/>
                  <a:pt x="7170" y="14605"/>
                  <a:pt x="7069" y="14684"/>
                </a:cubicBezTo>
              </a:path>
              <a:path w="4094" h="7740">
                <a:moveTo>
                  <a:pt x="6251" y="15677"/>
                </a:moveTo>
                <a:cubicBezTo>
                  <a:pt x="6409" y="15626"/>
                  <a:pt x="6559" y="15585"/>
                  <a:pt x="6722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1160" y="2608200"/>
            <a:ext cx="320760" cy="500040"/>
          </a:xfrm>
          <a:custGeom>
            <a:avLst/>
            <a:gdLst/>
            <a:ahLst/>
            <a:rect l="l" t="t" r="r" b="b"/>
            <a:pathLst>
              <a:path w="894" h="1390">
                <a:moveTo>
                  <a:pt x="2803" y="7293"/>
                </a:moveTo>
                <a:cubicBezTo>
                  <a:pt x="2803" y="7241"/>
                  <a:pt x="2779" y="7631"/>
                  <a:pt x="2778" y="7640"/>
                </a:cubicBezTo>
                <a:cubicBezTo>
                  <a:pt x="2770" y="7681"/>
                  <a:pt x="2761" y="7723"/>
                  <a:pt x="2753" y="7764"/>
                </a:cubicBezTo>
              </a:path>
              <a:path w="894" h="1390">
                <a:moveTo>
                  <a:pt x="3026" y="7268"/>
                </a:moveTo>
                <a:cubicBezTo>
                  <a:pt x="3186" y="7251"/>
                  <a:pt x="3390" y="7252"/>
                  <a:pt x="3299" y="7491"/>
                </a:cubicBezTo>
                <a:cubicBezTo>
                  <a:pt x="3235" y="7657"/>
                  <a:pt x="3076" y="7665"/>
                  <a:pt x="2977" y="7565"/>
                </a:cubicBezTo>
                <a:cubicBezTo>
                  <a:pt x="3124" y="7486"/>
                  <a:pt x="3215" y="7468"/>
                  <a:pt x="3274" y="7665"/>
                </a:cubicBezTo>
                <a:cubicBezTo>
                  <a:pt x="3274" y="7690"/>
                  <a:pt x="3274" y="7714"/>
                  <a:pt x="3274" y="7739"/>
                </a:cubicBezTo>
              </a:path>
              <a:path w="894" h="1390">
                <a:moveTo>
                  <a:pt x="2530" y="7938"/>
                </a:moveTo>
                <a:cubicBezTo>
                  <a:pt x="2803" y="7907"/>
                  <a:pt x="3073" y="7839"/>
                  <a:pt x="3349" y="7813"/>
                </a:cubicBezTo>
                <a:cubicBezTo>
                  <a:pt x="3428" y="7813"/>
                  <a:pt x="3450" y="7817"/>
                  <a:pt x="3373" y="7888"/>
                </a:cubicBezTo>
              </a:path>
              <a:path w="894" h="1390">
                <a:moveTo>
                  <a:pt x="2679" y="8186"/>
                </a:moveTo>
                <a:cubicBezTo>
                  <a:pt x="2683" y="8284"/>
                  <a:pt x="2641" y="8714"/>
                  <a:pt x="2704" y="8558"/>
                </a:cubicBezTo>
              </a:path>
              <a:path w="894" h="1390">
                <a:moveTo>
                  <a:pt x="2977" y="8111"/>
                </a:moveTo>
                <a:cubicBezTo>
                  <a:pt x="2954" y="8173"/>
                  <a:pt x="2921" y="8201"/>
                  <a:pt x="2877" y="8260"/>
                </a:cubicBezTo>
                <a:cubicBezTo>
                  <a:pt x="2997" y="8287"/>
                  <a:pt x="3162" y="8295"/>
                  <a:pt x="3225" y="8409"/>
                </a:cubicBezTo>
                <a:cubicBezTo>
                  <a:pt x="3225" y="8468"/>
                  <a:pt x="3216" y="8481"/>
                  <a:pt x="3150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00120" y="4268880"/>
            <a:ext cx="1143000" cy="1419120"/>
          </a:xfrm>
          <a:custGeom>
            <a:avLst/>
            <a:gdLst/>
            <a:ahLst/>
            <a:rect l="l" t="t" r="r" b="b"/>
            <a:pathLst>
              <a:path w="3176" h="3945">
                <a:moveTo>
                  <a:pt x="5358" y="12725"/>
                </a:moveTo>
                <a:cubicBezTo>
                  <a:pt x="5350" y="12725"/>
                  <a:pt x="5341" y="12725"/>
                  <a:pt x="5333" y="12725"/>
                </a:cubicBezTo>
                <a:cubicBezTo>
                  <a:pt x="5414" y="12694"/>
                  <a:pt x="5535" y="12687"/>
                  <a:pt x="5631" y="12675"/>
                </a:cubicBezTo>
                <a:cubicBezTo>
                  <a:pt x="5631" y="12795"/>
                  <a:pt x="5595" y="12885"/>
                  <a:pt x="5556" y="12998"/>
                </a:cubicBezTo>
                <a:cubicBezTo>
                  <a:pt x="5537" y="13055"/>
                  <a:pt x="5528" y="13062"/>
                  <a:pt x="5531" y="13097"/>
                </a:cubicBezTo>
              </a:path>
              <a:path w="3176" h="3945">
                <a:moveTo>
                  <a:pt x="5209" y="13395"/>
                </a:moveTo>
                <a:cubicBezTo>
                  <a:pt x="5142" y="13215"/>
                  <a:pt x="5040" y="13022"/>
                  <a:pt x="4986" y="12849"/>
                </a:cubicBezTo>
                <a:cubicBezTo>
                  <a:pt x="4986" y="12791"/>
                  <a:pt x="4986" y="12783"/>
                  <a:pt x="4986" y="12750"/>
                </a:cubicBezTo>
                <a:cubicBezTo>
                  <a:pt x="5187" y="12614"/>
                  <a:pt x="5436" y="12589"/>
                  <a:pt x="5680" y="12576"/>
                </a:cubicBezTo>
                <a:cubicBezTo>
                  <a:pt x="5902" y="12565"/>
                  <a:pt x="6128" y="12576"/>
                  <a:pt x="6350" y="12576"/>
                </a:cubicBezTo>
              </a:path>
              <a:path w="3176" h="3945">
                <a:moveTo>
                  <a:pt x="4663" y="12874"/>
                </a:moveTo>
                <a:cubicBezTo>
                  <a:pt x="4627" y="12818"/>
                  <a:pt x="4466" y="12815"/>
                  <a:pt x="4390" y="12849"/>
                </a:cubicBezTo>
                <a:cubicBezTo>
                  <a:pt x="4262" y="12935"/>
                  <a:pt x="4230" y="12951"/>
                  <a:pt x="4167" y="13022"/>
                </a:cubicBezTo>
                <a:cubicBezTo>
                  <a:pt x="4331" y="13116"/>
                  <a:pt x="4519" y="13132"/>
                  <a:pt x="4663" y="13246"/>
                </a:cubicBezTo>
                <a:cubicBezTo>
                  <a:pt x="4579" y="13330"/>
                  <a:pt x="4322" y="13515"/>
                  <a:pt x="4390" y="13221"/>
                </a:cubicBezTo>
                <a:cubicBezTo>
                  <a:pt x="4393" y="13209"/>
                  <a:pt x="4558" y="12889"/>
                  <a:pt x="4539" y="12898"/>
                </a:cubicBezTo>
                <a:cubicBezTo>
                  <a:pt x="4539" y="12906"/>
                  <a:pt x="4539" y="12915"/>
                  <a:pt x="4539" y="12923"/>
                </a:cubicBezTo>
              </a:path>
              <a:path w="3176" h="3945">
                <a:moveTo>
                  <a:pt x="5779" y="13022"/>
                </a:moveTo>
                <a:cubicBezTo>
                  <a:pt x="5779" y="13044"/>
                  <a:pt x="5766" y="13047"/>
                  <a:pt x="5804" y="13022"/>
                </a:cubicBezTo>
              </a:path>
              <a:path w="3176" h="3945">
                <a:moveTo>
                  <a:pt x="5680" y="12402"/>
                </a:moveTo>
                <a:cubicBezTo>
                  <a:pt x="5680" y="12378"/>
                  <a:pt x="5680" y="12369"/>
                  <a:pt x="5680" y="12353"/>
                </a:cubicBezTo>
              </a:path>
              <a:path w="3176" h="3945">
                <a:moveTo>
                  <a:pt x="5259" y="12005"/>
                </a:moveTo>
                <a:cubicBezTo>
                  <a:pt x="5204" y="11987"/>
                  <a:pt x="5208" y="11927"/>
                  <a:pt x="5159" y="12080"/>
                </a:cubicBezTo>
                <a:cubicBezTo>
                  <a:pt x="5118" y="12208"/>
                  <a:pt x="5134" y="12268"/>
                  <a:pt x="5209" y="12353"/>
                </a:cubicBezTo>
                <a:cubicBezTo>
                  <a:pt x="5353" y="12305"/>
                  <a:pt x="5443" y="12158"/>
                  <a:pt x="5308" y="12005"/>
                </a:cubicBezTo>
                <a:cubicBezTo>
                  <a:pt x="5281" y="11975"/>
                  <a:pt x="5181" y="12044"/>
                  <a:pt x="5159" y="12055"/>
                </a:cubicBezTo>
              </a:path>
              <a:path w="3176" h="3945">
                <a:moveTo>
                  <a:pt x="6127" y="12750"/>
                </a:moveTo>
                <a:cubicBezTo>
                  <a:pt x="6101" y="12671"/>
                  <a:pt x="6049" y="12752"/>
                  <a:pt x="6028" y="12799"/>
                </a:cubicBezTo>
                <a:cubicBezTo>
                  <a:pt x="5982" y="12912"/>
                  <a:pt x="5966" y="12942"/>
                  <a:pt x="5978" y="13022"/>
                </a:cubicBezTo>
                <a:cubicBezTo>
                  <a:pt x="6070" y="13034"/>
                  <a:pt x="6307" y="12937"/>
                  <a:pt x="6226" y="12774"/>
                </a:cubicBezTo>
                <a:cubicBezTo>
                  <a:pt x="6144" y="12747"/>
                  <a:pt x="6111" y="12737"/>
                  <a:pt x="6052" y="12725"/>
                </a:cubicBezTo>
              </a:path>
              <a:path w="3176" h="3945">
                <a:moveTo>
                  <a:pt x="6028" y="12005"/>
                </a:moveTo>
                <a:cubicBezTo>
                  <a:pt x="6039" y="11973"/>
                  <a:pt x="6113" y="11976"/>
                  <a:pt x="6052" y="11956"/>
                </a:cubicBezTo>
                <a:cubicBezTo>
                  <a:pt x="5990" y="11956"/>
                  <a:pt x="5902" y="11957"/>
                  <a:pt x="5854" y="12005"/>
                </a:cubicBezTo>
                <a:cubicBezTo>
                  <a:pt x="5854" y="12013"/>
                  <a:pt x="5854" y="12022"/>
                  <a:pt x="5854" y="12030"/>
                </a:cubicBezTo>
                <a:cubicBezTo>
                  <a:pt x="5937" y="12090"/>
                  <a:pt x="6218" y="12143"/>
                  <a:pt x="6226" y="12254"/>
                </a:cubicBezTo>
                <a:cubicBezTo>
                  <a:pt x="6209" y="12279"/>
                  <a:pt x="6193" y="12303"/>
                  <a:pt x="6176" y="12328"/>
                </a:cubicBezTo>
                <a:cubicBezTo>
                  <a:pt x="6021" y="12302"/>
                  <a:pt x="5965" y="12223"/>
                  <a:pt x="6028" y="12055"/>
                </a:cubicBezTo>
                <a:cubicBezTo>
                  <a:pt x="6065" y="11999"/>
                  <a:pt x="6082" y="11995"/>
                  <a:pt x="6077" y="11956"/>
                </a:cubicBezTo>
              </a:path>
              <a:path w="3176" h="3945">
                <a:moveTo>
                  <a:pt x="5531" y="13370"/>
                </a:moveTo>
                <a:cubicBezTo>
                  <a:pt x="5531" y="13474"/>
                  <a:pt x="5497" y="13625"/>
                  <a:pt x="5556" y="13717"/>
                </a:cubicBezTo>
                <a:cubicBezTo>
                  <a:pt x="5581" y="13734"/>
                  <a:pt x="5606" y="13750"/>
                  <a:pt x="5631" y="13767"/>
                </a:cubicBezTo>
                <a:cubicBezTo>
                  <a:pt x="5784" y="13661"/>
                  <a:pt x="5870" y="13615"/>
                  <a:pt x="5804" y="13419"/>
                </a:cubicBezTo>
                <a:cubicBezTo>
                  <a:pt x="5745" y="13538"/>
                  <a:pt x="5675" y="13672"/>
                  <a:pt x="5829" y="13568"/>
                </a:cubicBezTo>
              </a:path>
              <a:path w="3176" h="3945">
                <a:moveTo>
                  <a:pt x="6077" y="13146"/>
                </a:moveTo>
                <a:cubicBezTo>
                  <a:pt x="6081" y="13208"/>
                  <a:pt x="6159" y="13536"/>
                  <a:pt x="6127" y="13568"/>
                </a:cubicBezTo>
                <a:cubicBezTo>
                  <a:pt x="6102" y="13576"/>
                  <a:pt x="6077" y="13585"/>
                  <a:pt x="6052" y="13593"/>
                </a:cubicBezTo>
              </a:path>
              <a:path w="3176" h="3945">
                <a:moveTo>
                  <a:pt x="5308" y="13866"/>
                </a:moveTo>
                <a:cubicBezTo>
                  <a:pt x="5630" y="13725"/>
                  <a:pt x="5925" y="13595"/>
                  <a:pt x="6276" y="13543"/>
                </a:cubicBezTo>
                <a:cubicBezTo>
                  <a:pt x="6292" y="13543"/>
                  <a:pt x="6309" y="13543"/>
                  <a:pt x="6325" y="13543"/>
                </a:cubicBezTo>
              </a:path>
              <a:path w="3176" h="3945">
                <a:moveTo>
                  <a:pt x="6077" y="13767"/>
                </a:moveTo>
                <a:cubicBezTo>
                  <a:pt x="6077" y="13903"/>
                  <a:pt x="6083" y="14029"/>
                  <a:pt x="6102" y="14163"/>
                </a:cubicBezTo>
                <a:cubicBezTo>
                  <a:pt x="6257" y="14176"/>
                  <a:pt x="6367" y="14101"/>
                  <a:pt x="6375" y="13915"/>
                </a:cubicBezTo>
                <a:cubicBezTo>
                  <a:pt x="6378" y="13851"/>
                  <a:pt x="6281" y="14055"/>
                  <a:pt x="6276" y="14114"/>
                </a:cubicBezTo>
              </a:path>
              <a:path w="3176" h="3945">
                <a:moveTo>
                  <a:pt x="6623" y="12774"/>
                </a:moveTo>
                <a:cubicBezTo>
                  <a:pt x="6550" y="12774"/>
                  <a:pt x="6539" y="12803"/>
                  <a:pt x="6499" y="12874"/>
                </a:cubicBezTo>
                <a:cubicBezTo>
                  <a:pt x="6462" y="12947"/>
                  <a:pt x="6445" y="12952"/>
                  <a:pt x="6449" y="12998"/>
                </a:cubicBezTo>
                <a:cubicBezTo>
                  <a:pt x="6583" y="12997"/>
                  <a:pt x="6729" y="12799"/>
                  <a:pt x="6548" y="12799"/>
                </a:cubicBezTo>
                <a:cubicBezTo>
                  <a:pt x="6523" y="12816"/>
                  <a:pt x="6499" y="12832"/>
                  <a:pt x="6474" y="12849"/>
                </a:cubicBezTo>
              </a:path>
              <a:path w="3176" h="3945">
                <a:moveTo>
                  <a:pt x="6573" y="13196"/>
                </a:moveTo>
                <a:cubicBezTo>
                  <a:pt x="6573" y="13373"/>
                  <a:pt x="6581" y="13542"/>
                  <a:pt x="6598" y="13717"/>
                </a:cubicBezTo>
                <a:cubicBezTo>
                  <a:pt x="6598" y="13742"/>
                  <a:pt x="6598" y="13750"/>
                  <a:pt x="6623" y="13742"/>
                </a:cubicBezTo>
              </a:path>
              <a:path w="3176" h="3945">
                <a:moveTo>
                  <a:pt x="6623" y="13866"/>
                </a:moveTo>
                <a:cubicBezTo>
                  <a:pt x="6623" y="13841"/>
                  <a:pt x="6623" y="13833"/>
                  <a:pt x="6623" y="13816"/>
                </a:cubicBezTo>
                <a:cubicBezTo>
                  <a:pt x="6502" y="13846"/>
                  <a:pt x="6533" y="14017"/>
                  <a:pt x="6524" y="14114"/>
                </a:cubicBezTo>
                <a:cubicBezTo>
                  <a:pt x="6669" y="14129"/>
                  <a:pt x="6813" y="13995"/>
                  <a:pt x="6747" y="13816"/>
                </a:cubicBezTo>
                <a:cubicBezTo>
                  <a:pt x="6676" y="13770"/>
                  <a:pt x="6657" y="13754"/>
                  <a:pt x="6598" y="13767"/>
                </a:cubicBezTo>
              </a:path>
              <a:path w="3176" h="3945">
                <a:moveTo>
                  <a:pt x="6276" y="11981"/>
                </a:moveTo>
                <a:cubicBezTo>
                  <a:pt x="6378" y="11981"/>
                  <a:pt x="6435" y="11953"/>
                  <a:pt x="6524" y="11906"/>
                </a:cubicBezTo>
                <a:cubicBezTo>
                  <a:pt x="6540" y="11898"/>
                  <a:pt x="6557" y="11889"/>
                  <a:pt x="6573" y="11881"/>
                </a:cubicBezTo>
                <a:cubicBezTo>
                  <a:pt x="6573" y="11985"/>
                  <a:pt x="6542" y="12078"/>
                  <a:pt x="6524" y="12179"/>
                </a:cubicBezTo>
                <a:cubicBezTo>
                  <a:pt x="6524" y="12187"/>
                  <a:pt x="6524" y="12196"/>
                  <a:pt x="6524" y="12204"/>
                </a:cubicBezTo>
              </a:path>
              <a:path w="3176" h="3945">
                <a:moveTo>
                  <a:pt x="6176" y="14263"/>
                </a:moveTo>
                <a:cubicBezTo>
                  <a:pt x="6100" y="14263"/>
                  <a:pt x="6052" y="14315"/>
                  <a:pt x="5978" y="14337"/>
                </a:cubicBezTo>
                <a:cubicBezTo>
                  <a:pt x="5970" y="14337"/>
                  <a:pt x="5961" y="14337"/>
                  <a:pt x="5953" y="14337"/>
                </a:cubicBezTo>
                <a:cubicBezTo>
                  <a:pt x="5978" y="14464"/>
                  <a:pt x="5984" y="14483"/>
                  <a:pt x="6102" y="14461"/>
                </a:cubicBezTo>
                <a:cubicBezTo>
                  <a:pt x="6225" y="14436"/>
                  <a:pt x="6266" y="14428"/>
                  <a:pt x="6350" y="14436"/>
                </a:cubicBezTo>
                <a:cubicBezTo>
                  <a:pt x="6335" y="14509"/>
                  <a:pt x="6161" y="14771"/>
                  <a:pt x="6052" y="14660"/>
                </a:cubicBezTo>
                <a:cubicBezTo>
                  <a:pt x="6069" y="14635"/>
                  <a:pt x="6085" y="14610"/>
                  <a:pt x="6102" y="14585"/>
                </a:cubicBezTo>
              </a:path>
              <a:path w="3176" h="3945">
                <a:moveTo>
                  <a:pt x="6499" y="14163"/>
                </a:moveTo>
                <a:cubicBezTo>
                  <a:pt x="6506" y="14256"/>
                  <a:pt x="6488" y="14455"/>
                  <a:pt x="6623" y="14387"/>
                </a:cubicBezTo>
                <a:cubicBezTo>
                  <a:pt x="6724" y="14336"/>
                  <a:pt x="6751" y="14283"/>
                  <a:pt x="6772" y="14188"/>
                </a:cubicBezTo>
                <a:cubicBezTo>
                  <a:pt x="6772" y="14163"/>
                  <a:pt x="6772" y="14155"/>
                  <a:pt x="6747" y="14163"/>
                </a:cubicBezTo>
                <a:cubicBezTo>
                  <a:pt x="6733" y="14189"/>
                  <a:pt x="6609" y="14410"/>
                  <a:pt x="6648" y="14436"/>
                </a:cubicBezTo>
                <a:cubicBezTo>
                  <a:pt x="6664" y="14436"/>
                  <a:pt x="6681" y="14436"/>
                  <a:pt x="6697" y="14436"/>
                </a:cubicBezTo>
              </a:path>
              <a:path w="3176" h="3945">
                <a:moveTo>
                  <a:pt x="6573" y="14932"/>
                </a:moveTo>
                <a:cubicBezTo>
                  <a:pt x="6584" y="15046"/>
                  <a:pt x="6582" y="15162"/>
                  <a:pt x="6747" y="15106"/>
                </a:cubicBezTo>
                <a:cubicBezTo>
                  <a:pt x="6906" y="15052"/>
                  <a:pt x="6896" y="14983"/>
                  <a:pt x="6871" y="14858"/>
                </a:cubicBezTo>
                <a:cubicBezTo>
                  <a:pt x="6828" y="14986"/>
                  <a:pt x="6821" y="15093"/>
                  <a:pt x="6821" y="15230"/>
                </a:cubicBezTo>
              </a:path>
              <a:path w="3176" h="3945">
                <a:moveTo>
                  <a:pt x="7020" y="12948"/>
                </a:moveTo>
                <a:cubicBezTo>
                  <a:pt x="6979" y="12908"/>
                  <a:pt x="6969" y="12886"/>
                  <a:pt x="6921" y="12874"/>
                </a:cubicBezTo>
                <a:cubicBezTo>
                  <a:pt x="6909" y="12940"/>
                  <a:pt x="6891" y="13289"/>
                  <a:pt x="7069" y="13097"/>
                </a:cubicBezTo>
                <a:cubicBezTo>
                  <a:pt x="7194" y="12962"/>
                  <a:pt x="7005" y="12755"/>
                  <a:pt x="6921" y="12874"/>
                </a:cubicBezTo>
                <a:cubicBezTo>
                  <a:pt x="6921" y="12899"/>
                  <a:pt x="6921" y="12923"/>
                  <a:pt x="6921" y="12948"/>
                </a:cubicBezTo>
              </a:path>
              <a:path w="3176" h="3945">
                <a:moveTo>
                  <a:pt x="7020" y="13196"/>
                </a:moveTo>
                <a:cubicBezTo>
                  <a:pt x="6944" y="13171"/>
                  <a:pt x="7088" y="13601"/>
                  <a:pt x="7094" y="13667"/>
                </a:cubicBezTo>
                <a:cubicBezTo>
                  <a:pt x="7117" y="13906"/>
                  <a:pt x="7062" y="14154"/>
                  <a:pt x="7119" y="14387"/>
                </a:cubicBezTo>
                <a:cubicBezTo>
                  <a:pt x="7143" y="14484"/>
                  <a:pt x="7162" y="14586"/>
                  <a:pt x="7169" y="14684"/>
                </a:cubicBezTo>
                <a:cubicBezTo>
                  <a:pt x="7169" y="14692"/>
                  <a:pt x="7169" y="14701"/>
                  <a:pt x="7169" y="14709"/>
                </a:cubicBezTo>
              </a:path>
              <a:path w="3176" h="3945">
                <a:moveTo>
                  <a:pt x="7218" y="14908"/>
                </a:moveTo>
                <a:cubicBezTo>
                  <a:pt x="7218" y="14883"/>
                  <a:pt x="7218" y="14875"/>
                  <a:pt x="7218" y="14858"/>
                </a:cubicBezTo>
                <a:cubicBezTo>
                  <a:pt x="7179" y="14871"/>
                  <a:pt x="7137" y="14958"/>
                  <a:pt x="7119" y="15007"/>
                </a:cubicBezTo>
                <a:cubicBezTo>
                  <a:pt x="7097" y="15096"/>
                  <a:pt x="7081" y="15121"/>
                  <a:pt x="7144" y="15156"/>
                </a:cubicBezTo>
                <a:cubicBezTo>
                  <a:pt x="7202" y="15114"/>
                  <a:pt x="7431" y="14940"/>
                  <a:pt x="7268" y="14858"/>
                </a:cubicBezTo>
                <a:cubicBezTo>
                  <a:pt x="7200" y="14858"/>
                  <a:pt x="7181" y="14861"/>
                  <a:pt x="7144" y="14833"/>
                </a:cubicBezTo>
              </a:path>
              <a:path w="3176" h="3945">
                <a:moveTo>
                  <a:pt x="7045" y="11857"/>
                </a:moveTo>
                <a:cubicBezTo>
                  <a:pt x="6972" y="11857"/>
                  <a:pt x="6918" y="11897"/>
                  <a:pt x="6846" y="11906"/>
                </a:cubicBezTo>
                <a:cubicBezTo>
                  <a:pt x="6808" y="11911"/>
                  <a:pt x="6808" y="12012"/>
                  <a:pt x="6796" y="12055"/>
                </a:cubicBezTo>
                <a:cubicBezTo>
                  <a:pt x="6796" y="12063"/>
                  <a:pt x="6796" y="12072"/>
                  <a:pt x="6796" y="12080"/>
                </a:cubicBezTo>
                <a:cubicBezTo>
                  <a:pt x="6874" y="12061"/>
                  <a:pt x="6923" y="12017"/>
                  <a:pt x="7020" y="12030"/>
                </a:cubicBezTo>
                <a:cubicBezTo>
                  <a:pt x="7087" y="12053"/>
                  <a:pt x="7108" y="12054"/>
                  <a:pt x="7119" y="12105"/>
                </a:cubicBezTo>
                <a:cubicBezTo>
                  <a:pt x="7010" y="12213"/>
                  <a:pt x="6978" y="12213"/>
                  <a:pt x="6821" y="12229"/>
                </a:cubicBezTo>
              </a:path>
              <a:path w="3176" h="3945">
                <a:moveTo>
                  <a:pt x="6722" y="15528"/>
                </a:moveTo>
                <a:cubicBezTo>
                  <a:pt x="6722" y="15568"/>
                  <a:pt x="6710" y="15656"/>
                  <a:pt x="6772" y="15652"/>
                </a:cubicBezTo>
                <a:cubicBezTo>
                  <a:pt x="6938" y="15640"/>
                  <a:pt x="6943" y="15584"/>
                  <a:pt x="6995" y="15453"/>
                </a:cubicBezTo>
              </a:path>
              <a:path w="3176" h="3945">
                <a:moveTo>
                  <a:pt x="6921" y="15354"/>
                </a:moveTo>
                <a:cubicBezTo>
                  <a:pt x="6897" y="15504"/>
                  <a:pt x="6896" y="15647"/>
                  <a:pt x="6896" y="15801"/>
                </a:cubicBezTo>
              </a:path>
              <a:path w="3176" h="3945">
                <a:moveTo>
                  <a:pt x="7119" y="15354"/>
                </a:moveTo>
                <a:cubicBezTo>
                  <a:pt x="7111" y="15539"/>
                  <a:pt x="7091" y="15549"/>
                  <a:pt x="7218" y="15677"/>
                </a:cubicBezTo>
                <a:cubicBezTo>
                  <a:pt x="7361" y="15495"/>
                  <a:pt x="7391" y="15419"/>
                  <a:pt x="7169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08160" y="2759040"/>
            <a:ext cx="990720" cy="125280"/>
          </a:xfrm>
          <a:custGeom>
            <a:avLst/>
            <a:gdLst/>
            <a:ahLst/>
            <a:rect l="l" t="t" r="r" b="b"/>
            <a:pathLst>
              <a:path w="2754" h="348">
                <a:moveTo>
                  <a:pt x="5879" y="7689"/>
                </a:moveTo>
                <a:cubicBezTo>
                  <a:pt x="5879" y="7665"/>
                  <a:pt x="5879" y="7657"/>
                  <a:pt x="5854" y="7665"/>
                </a:cubicBezTo>
              </a:path>
              <a:path w="2754" h="348">
                <a:moveTo>
                  <a:pt x="5904" y="8012"/>
                </a:moveTo>
                <a:lnTo>
                  <a:pt x="5904" y="8012"/>
                </a:lnTo>
              </a:path>
              <a:path w="2754" h="348">
                <a:moveTo>
                  <a:pt x="7417" y="7813"/>
                </a:moveTo>
                <a:cubicBezTo>
                  <a:pt x="7594" y="7790"/>
                  <a:pt x="7763" y="7774"/>
                  <a:pt x="7938" y="7739"/>
                </a:cubicBezTo>
                <a:cubicBezTo>
                  <a:pt x="7946" y="7739"/>
                  <a:pt x="7954" y="7739"/>
                  <a:pt x="7962" y="7739"/>
                </a:cubicBezTo>
              </a:path>
              <a:path w="2754" h="348">
                <a:moveTo>
                  <a:pt x="8607" y="7838"/>
                </a:moveTo>
                <a:cubicBezTo>
                  <a:pt x="8607" y="7830"/>
                  <a:pt x="8607" y="7821"/>
                  <a:pt x="8607" y="7813"/>
                </a:cubicBezTo>
              </a:path>
              <a:path w="2754" h="348">
                <a:moveTo>
                  <a:pt x="8607" y="7813"/>
                </a:moveTo>
                <a:lnTo>
                  <a:pt x="8607" y="7813"/>
                </a:lnTo>
              </a:path>
              <a:path w="2754" h="348">
                <a:moveTo>
                  <a:pt x="8607" y="7813"/>
                </a:moveTo>
                <a:cubicBezTo>
                  <a:pt x="8599" y="7813"/>
                  <a:pt x="8590" y="7813"/>
                  <a:pt x="8582" y="7813"/>
                </a:cubicBezTo>
              </a:path>
              <a:path w="2754" h="348">
                <a:moveTo>
                  <a:pt x="8582" y="7813"/>
                </a:moveTo>
                <a:lnTo>
                  <a:pt x="8582" y="7813"/>
                </a:lnTo>
              </a:path>
              <a:path w="2754" h="348">
                <a:moveTo>
                  <a:pt x="8558" y="7813"/>
                </a:moveTo>
                <a:lnTo>
                  <a:pt x="8558" y="7813"/>
                </a:lnTo>
              </a:path>
              <a:path w="2754" h="348">
                <a:moveTo>
                  <a:pt x="8582" y="7813"/>
                </a:moveTo>
                <a:lnTo>
                  <a:pt x="8582" y="7813"/>
                </a:lnTo>
              </a:path>
              <a:path w="2754" h="348">
                <a:moveTo>
                  <a:pt x="8582" y="7789"/>
                </a:moveTo>
                <a:lnTo>
                  <a:pt x="8582" y="7789"/>
                </a:lnTo>
              </a:path>
              <a:path w="2754" h="348">
                <a:moveTo>
                  <a:pt x="8582" y="7813"/>
                </a:moveTo>
                <a:lnTo>
                  <a:pt x="8582" y="781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9040" y="2490840"/>
            <a:ext cx="2376360" cy="598320"/>
          </a:xfrm>
          <a:custGeom>
            <a:avLst/>
            <a:gdLst/>
            <a:ahLst/>
            <a:rect l="l" t="t" r="r" b="b"/>
            <a:pathLst>
              <a:path w="6599" h="1662">
                <a:moveTo>
                  <a:pt x="4688" y="7317"/>
                </a:moveTo>
                <a:cubicBezTo>
                  <a:pt x="4856" y="7347"/>
                  <a:pt x="5028" y="7395"/>
                  <a:pt x="4862" y="7590"/>
                </a:cubicBezTo>
                <a:cubicBezTo>
                  <a:pt x="4773" y="7695"/>
                  <a:pt x="4733" y="7670"/>
                  <a:pt x="4638" y="7615"/>
                </a:cubicBezTo>
                <a:cubicBezTo>
                  <a:pt x="4772" y="7627"/>
                  <a:pt x="4805" y="7623"/>
                  <a:pt x="4936" y="7590"/>
                </a:cubicBezTo>
              </a:path>
              <a:path w="6599" h="1662">
                <a:moveTo>
                  <a:pt x="5035" y="7342"/>
                </a:moveTo>
                <a:cubicBezTo>
                  <a:pt x="5046" y="7388"/>
                  <a:pt x="5093" y="7527"/>
                  <a:pt x="5159" y="7516"/>
                </a:cubicBezTo>
                <a:cubicBezTo>
                  <a:pt x="5176" y="7499"/>
                  <a:pt x="5192" y="7483"/>
                  <a:pt x="5209" y="7466"/>
                </a:cubicBezTo>
              </a:path>
              <a:path w="6599" h="1662">
                <a:moveTo>
                  <a:pt x="5234" y="7193"/>
                </a:moveTo>
                <a:cubicBezTo>
                  <a:pt x="5217" y="7376"/>
                  <a:pt x="5209" y="7553"/>
                  <a:pt x="5209" y="7739"/>
                </a:cubicBezTo>
                <a:cubicBezTo>
                  <a:pt x="5209" y="7747"/>
                  <a:pt x="5209" y="7756"/>
                  <a:pt x="5209" y="7764"/>
                </a:cubicBezTo>
              </a:path>
              <a:path w="6599" h="1662">
                <a:moveTo>
                  <a:pt x="4514" y="7888"/>
                </a:moveTo>
                <a:cubicBezTo>
                  <a:pt x="4820" y="7879"/>
                  <a:pt x="5153" y="7803"/>
                  <a:pt x="5457" y="7838"/>
                </a:cubicBezTo>
                <a:cubicBezTo>
                  <a:pt x="5465" y="7846"/>
                  <a:pt x="5474" y="7855"/>
                  <a:pt x="5482" y="7863"/>
                </a:cubicBezTo>
              </a:path>
              <a:path w="6599" h="1662">
                <a:moveTo>
                  <a:pt x="4589" y="8260"/>
                </a:moveTo>
                <a:cubicBezTo>
                  <a:pt x="4592" y="8259"/>
                  <a:pt x="5024" y="8141"/>
                  <a:pt x="4812" y="8310"/>
                </a:cubicBezTo>
                <a:cubicBezTo>
                  <a:pt x="4735" y="8348"/>
                  <a:pt x="4720" y="8347"/>
                  <a:pt x="4688" y="8384"/>
                </a:cubicBezTo>
                <a:cubicBezTo>
                  <a:pt x="4768" y="8384"/>
                  <a:pt x="4757" y="8390"/>
                  <a:pt x="4837" y="8434"/>
                </a:cubicBezTo>
                <a:cubicBezTo>
                  <a:pt x="4754" y="8585"/>
                  <a:pt x="4619" y="8606"/>
                  <a:pt x="4440" y="8582"/>
                </a:cubicBezTo>
                <a:cubicBezTo>
                  <a:pt x="4340" y="8569"/>
                  <a:pt x="4546" y="8474"/>
                  <a:pt x="4638" y="8434"/>
                </a:cubicBezTo>
              </a:path>
              <a:path w="6599" h="1662">
                <a:moveTo>
                  <a:pt x="5135" y="8186"/>
                </a:moveTo>
                <a:cubicBezTo>
                  <a:pt x="5041" y="8313"/>
                  <a:pt x="4999" y="8397"/>
                  <a:pt x="5060" y="8533"/>
                </a:cubicBezTo>
                <a:cubicBezTo>
                  <a:pt x="5152" y="8504"/>
                  <a:pt x="5511" y="8363"/>
                  <a:pt x="5308" y="8210"/>
                </a:cubicBezTo>
                <a:cubicBezTo>
                  <a:pt x="5184" y="8169"/>
                  <a:pt x="5159" y="8144"/>
                  <a:pt x="5085" y="8186"/>
                </a:cubicBezTo>
              </a:path>
              <a:path w="6599" h="1662">
                <a:moveTo>
                  <a:pt x="5755" y="7863"/>
                </a:moveTo>
                <a:cubicBezTo>
                  <a:pt x="5829" y="7863"/>
                  <a:pt x="5904" y="7863"/>
                  <a:pt x="5978" y="7863"/>
                </a:cubicBezTo>
              </a:path>
              <a:path w="6599" h="1662">
                <a:moveTo>
                  <a:pt x="6201" y="7293"/>
                </a:moveTo>
                <a:cubicBezTo>
                  <a:pt x="6169" y="7324"/>
                  <a:pt x="6154" y="7496"/>
                  <a:pt x="6176" y="7565"/>
                </a:cubicBezTo>
                <a:cubicBezTo>
                  <a:pt x="6184" y="7565"/>
                  <a:pt x="6193" y="7565"/>
                  <a:pt x="6201" y="7565"/>
                </a:cubicBezTo>
                <a:cubicBezTo>
                  <a:pt x="6311" y="7542"/>
                  <a:pt x="6425" y="7526"/>
                  <a:pt x="6449" y="7392"/>
                </a:cubicBezTo>
                <a:cubicBezTo>
                  <a:pt x="6449" y="7367"/>
                  <a:pt x="6449" y="7359"/>
                  <a:pt x="6424" y="7367"/>
                </a:cubicBezTo>
                <a:cubicBezTo>
                  <a:pt x="6341" y="7427"/>
                  <a:pt x="6328" y="7467"/>
                  <a:pt x="6350" y="7565"/>
                </a:cubicBezTo>
              </a:path>
              <a:path w="6599" h="1662">
                <a:moveTo>
                  <a:pt x="6251" y="7813"/>
                </a:moveTo>
                <a:cubicBezTo>
                  <a:pt x="6184" y="7813"/>
                  <a:pt x="6334" y="7803"/>
                  <a:pt x="6400" y="7789"/>
                </a:cubicBezTo>
                <a:cubicBezTo>
                  <a:pt x="6474" y="7770"/>
                  <a:pt x="6481" y="7762"/>
                  <a:pt x="6524" y="7764"/>
                </a:cubicBezTo>
              </a:path>
              <a:path w="6599" h="1662">
                <a:moveTo>
                  <a:pt x="6201" y="8062"/>
                </a:moveTo>
                <a:cubicBezTo>
                  <a:pt x="6201" y="8142"/>
                  <a:pt x="6187" y="8208"/>
                  <a:pt x="6176" y="8285"/>
                </a:cubicBezTo>
                <a:cubicBezTo>
                  <a:pt x="6163" y="8382"/>
                  <a:pt x="6287" y="8388"/>
                  <a:pt x="6350" y="8359"/>
                </a:cubicBezTo>
                <a:cubicBezTo>
                  <a:pt x="6434" y="8320"/>
                  <a:pt x="6455" y="8286"/>
                  <a:pt x="6474" y="8210"/>
                </a:cubicBezTo>
                <a:cubicBezTo>
                  <a:pt x="6355" y="8210"/>
                  <a:pt x="6354" y="8203"/>
                  <a:pt x="6325" y="8334"/>
                </a:cubicBezTo>
                <a:cubicBezTo>
                  <a:pt x="6325" y="8342"/>
                  <a:pt x="6325" y="8351"/>
                  <a:pt x="6325" y="8359"/>
                </a:cubicBezTo>
              </a:path>
              <a:path w="6599" h="1662">
                <a:moveTo>
                  <a:pt x="6896" y="7888"/>
                </a:moveTo>
                <a:cubicBezTo>
                  <a:pt x="6979" y="7888"/>
                  <a:pt x="7041" y="7859"/>
                  <a:pt x="7119" y="7838"/>
                </a:cubicBezTo>
                <a:cubicBezTo>
                  <a:pt x="7127" y="7838"/>
                  <a:pt x="7136" y="7838"/>
                  <a:pt x="7144" y="7838"/>
                </a:cubicBezTo>
              </a:path>
              <a:path w="6599" h="1662">
                <a:moveTo>
                  <a:pt x="6945" y="8037"/>
                </a:moveTo>
                <a:cubicBezTo>
                  <a:pt x="7060" y="8018"/>
                  <a:pt x="7079" y="8011"/>
                  <a:pt x="7169" y="7938"/>
                </a:cubicBezTo>
              </a:path>
              <a:path w="6599" h="1662">
                <a:moveTo>
                  <a:pt x="7938" y="7144"/>
                </a:moveTo>
                <a:cubicBezTo>
                  <a:pt x="7871" y="7155"/>
                  <a:pt x="7707" y="7172"/>
                  <a:pt x="7665" y="7218"/>
                </a:cubicBezTo>
                <a:cubicBezTo>
                  <a:pt x="7626" y="7260"/>
                  <a:pt x="7638" y="7321"/>
                  <a:pt x="7615" y="7367"/>
                </a:cubicBezTo>
                <a:cubicBezTo>
                  <a:pt x="7678" y="7380"/>
                  <a:pt x="7778" y="7296"/>
                  <a:pt x="7888" y="7317"/>
                </a:cubicBezTo>
                <a:cubicBezTo>
                  <a:pt x="7896" y="7325"/>
                  <a:pt x="7905" y="7334"/>
                  <a:pt x="7913" y="7342"/>
                </a:cubicBezTo>
                <a:cubicBezTo>
                  <a:pt x="7818" y="7594"/>
                  <a:pt x="7744" y="7578"/>
                  <a:pt x="7491" y="7541"/>
                </a:cubicBezTo>
              </a:path>
              <a:path w="6599" h="1662">
                <a:moveTo>
                  <a:pt x="7813" y="7962"/>
                </a:moveTo>
                <a:cubicBezTo>
                  <a:pt x="7787" y="7883"/>
                  <a:pt x="7641" y="8002"/>
                  <a:pt x="7590" y="8037"/>
                </a:cubicBezTo>
                <a:cubicBezTo>
                  <a:pt x="7552" y="8063"/>
                  <a:pt x="7569" y="8158"/>
                  <a:pt x="7590" y="8186"/>
                </a:cubicBezTo>
                <a:cubicBezTo>
                  <a:pt x="7609" y="8211"/>
                  <a:pt x="7731" y="8163"/>
                  <a:pt x="7739" y="8161"/>
                </a:cubicBezTo>
                <a:cubicBezTo>
                  <a:pt x="7811" y="8268"/>
                  <a:pt x="7783" y="8372"/>
                  <a:pt x="7640" y="8409"/>
                </a:cubicBezTo>
                <a:cubicBezTo>
                  <a:pt x="7599" y="8409"/>
                  <a:pt x="7557" y="8409"/>
                  <a:pt x="7516" y="8409"/>
                </a:cubicBezTo>
              </a:path>
              <a:path w="6599" h="1662">
                <a:moveTo>
                  <a:pt x="7615" y="7119"/>
                </a:moveTo>
                <a:cubicBezTo>
                  <a:pt x="7615" y="7053"/>
                  <a:pt x="7626" y="7203"/>
                  <a:pt x="7615" y="7268"/>
                </a:cubicBezTo>
                <a:cubicBezTo>
                  <a:pt x="7596" y="7325"/>
                  <a:pt x="7587" y="7332"/>
                  <a:pt x="7590" y="7367"/>
                </a:cubicBezTo>
                <a:cubicBezTo>
                  <a:pt x="7693" y="7350"/>
                  <a:pt x="7782" y="7322"/>
                  <a:pt x="7888" y="7317"/>
                </a:cubicBezTo>
                <a:cubicBezTo>
                  <a:pt x="7948" y="7314"/>
                  <a:pt x="7894" y="7200"/>
                  <a:pt x="7888" y="7169"/>
                </a:cubicBezTo>
                <a:cubicBezTo>
                  <a:pt x="7880" y="7119"/>
                  <a:pt x="7871" y="7070"/>
                  <a:pt x="7863" y="7020"/>
                </a:cubicBezTo>
                <a:cubicBezTo>
                  <a:pt x="7863" y="6995"/>
                  <a:pt x="7863" y="6970"/>
                  <a:pt x="7863" y="6945"/>
                </a:cubicBezTo>
                <a:cubicBezTo>
                  <a:pt x="7888" y="7143"/>
                  <a:pt x="7876" y="7316"/>
                  <a:pt x="7863" y="7516"/>
                </a:cubicBezTo>
                <a:cubicBezTo>
                  <a:pt x="7858" y="7593"/>
                  <a:pt x="7854" y="7691"/>
                  <a:pt x="7838" y="7516"/>
                </a:cubicBezTo>
              </a:path>
              <a:path w="6599" h="1662">
                <a:moveTo>
                  <a:pt x="7590" y="7094"/>
                </a:moveTo>
                <a:cubicBezTo>
                  <a:pt x="7581" y="7179"/>
                  <a:pt x="7554" y="7259"/>
                  <a:pt x="7541" y="7342"/>
                </a:cubicBezTo>
                <a:cubicBezTo>
                  <a:pt x="7617" y="7329"/>
                  <a:pt x="7686" y="7298"/>
                  <a:pt x="7764" y="7293"/>
                </a:cubicBezTo>
                <a:cubicBezTo>
                  <a:pt x="7789" y="7293"/>
                  <a:pt x="7797" y="7293"/>
                  <a:pt x="7789" y="7317"/>
                </a:cubicBezTo>
                <a:cubicBezTo>
                  <a:pt x="7810" y="7188"/>
                  <a:pt x="7800" y="7133"/>
                  <a:pt x="7789" y="6995"/>
                </a:cubicBezTo>
                <a:cubicBezTo>
                  <a:pt x="7789" y="6970"/>
                  <a:pt x="7789" y="6946"/>
                  <a:pt x="7789" y="6921"/>
                </a:cubicBezTo>
                <a:cubicBezTo>
                  <a:pt x="7789" y="7054"/>
                  <a:pt x="7834" y="7179"/>
                  <a:pt x="7838" y="7317"/>
                </a:cubicBezTo>
                <a:cubicBezTo>
                  <a:pt x="7842" y="7434"/>
                  <a:pt x="7813" y="7732"/>
                  <a:pt x="7813" y="7615"/>
                </a:cubicBezTo>
                <a:cubicBezTo>
                  <a:pt x="7813" y="7598"/>
                  <a:pt x="7813" y="7582"/>
                  <a:pt x="7813" y="7565"/>
                </a:cubicBezTo>
              </a:path>
              <a:path w="6599" h="1662">
                <a:moveTo>
                  <a:pt x="7615" y="7144"/>
                </a:moveTo>
                <a:cubicBezTo>
                  <a:pt x="7603" y="7150"/>
                  <a:pt x="7610" y="7234"/>
                  <a:pt x="7590" y="7293"/>
                </a:cubicBezTo>
                <a:cubicBezTo>
                  <a:pt x="7647" y="7311"/>
                  <a:pt x="7715" y="7293"/>
                  <a:pt x="7789" y="7293"/>
                </a:cubicBezTo>
                <a:cubicBezTo>
                  <a:pt x="7885" y="7293"/>
                  <a:pt x="7861" y="7196"/>
                  <a:pt x="7863" y="7119"/>
                </a:cubicBezTo>
                <a:cubicBezTo>
                  <a:pt x="7863" y="7003"/>
                  <a:pt x="7863" y="6987"/>
                  <a:pt x="7863" y="6921"/>
                </a:cubicBezTo>
                <a:cubicBezTo>
                  <a:pt x="7885" y="7074"/>
                  <a:pt x="7910" y="7210"/>
                  <a:pt x="7913" y="7367"/>
                </a:cubicBezTo>
                <a:cubicBezTo>
                  <a:pt x="7913" y="7466"/>
                  <a:pt x="7913" y="7483"/>
                  <a:pt x="7913" y="7541"/>
                </a:cubicBezTo>
              </a:path>
              <a:path w="6599" h="1662">
                <a:moveTo>
                  <a:pt x="8086" y="7565"/>
                </a:moveTo>
                <a:cubicBezTo>
                  <a:pt x="8119" y="7643"/>
                  <a:pt x="8180" y="7714"/>
                  <a:pt x="8210" y="7789"/>
                </a:cubicBezTo>
                <a:cubicBezTo>
                  <a:pt x="8224" y="7824"/>
                  <a:pt x="8235" y="7811"/>
                  <a:pt x="8235" y="7863"/>
                </a:cubicBezTo>
              </a:path>
              <a:path w="6599" h="1662">
                <a:moveTo>
                  <a:pt x="8260" y="7565"/>
                </a:moveTo>
                <a:cubicBezTo>
                  <a:pt x="8181" y="7664"/>
                  <a:pt x="8142" y="7786"/>
                  <a:pt x="8062" y="7888"/>
                </a:cubicBezTo>
                <a:cubicBezTo>
                  <a:pt x="8045" y="7905"/>
                  <a:pt x="8029" y="7921"/>
                  <a:pt x="8012" y="7938"/>
                </a:cubicBezTo>
              </a:path>
              <a:path w="6599" h="1662">
                <a:moveTo>
                  <a:pt x="8582" y="7813"/>
                </a:moveTo>
                <a:cubicBezTo>
                  <a:pt x="8621" y="7804"/>
                  <a:pt x="8638" y="7789"/>
                  <a:pt x="8682" y="7789"/>
                </a:cubicBezTo>
                <a:cubicBezTo>
                  <a:pt x="8790" y="7789"/>
                  <a:pt x="8688" y="7913"/>
                  <a:pt x="8657" y="7938"/>
                </a:cubicBezTo>
                <a:cubicBezTo>
                  <a:pt x="8615" y="7973"/>
                  <a:pt x="8563" y="8002"/>
                  <a:pt x="8533" y="8012"/>
                </a:cubicBezTo>
                <a:cubicBezTo>
                  <a:pt x="8594" y="8020"/>
                  <a:pt x="8642" y="8037"/>
                  <a:pt x="8706" y="8037"/>
                </a:cubicBezTo>
                <a:cubicBezTo>
                  <a:pt x="8731" y="8037"/>
                  <a:pt x="8739" y="8037"/>
                  <a:pt x="8756" y="8037"/>
                </a:cubicBezTo>
              </a:path>
              <a:path w="6599" h="1662">
                <a:moveTo>
                  <a:pt x="8806" y="7789"/>
                </a:moveTo>
                <a:cubicBezTo>
                  <a:pt x="8758" y="7916"/>
                  <a:pt x="8792" y="7993"/>
                  <a:pt x="8855" y="8111"/>
                </a:cubicBezTo>
                <a:cubicBezTo>
                  <a:pt x="8950" y="8059"/>
                  <a:pt x="9063" y="7991"/>
                  <a:pt x="8979" y="7863"/>
                </a:cubicBezTo>
                <a:cubicBezTo>
                  <a:pt x="8955" y="7826"/>
                  <a:pt x="8867" y="7819"/>
                  <a:pt x="8830" y="7813"/>
                </a:cubicBezTo>
              </a:path>
              <a:path w="6599" h="1662">
                <a:moveTo>
                  <a:pt x="8632" y="7640"/>
                </a:moveTo>
                <a:cubicBezTo>
                  <a:pt x="8739" y="7640"/>
                  <a:pt x="8825" y="7635"/>
                  <a:pt x="8930" y="7615"/>
                </a:cubicBezTo>
              </a:path>
              <a:path w="6599" h="1662">
                <a:moveTo>
                  <a:pt x="8731" y="7218"/>
                </a:moveTo>
                <a:cubicBezTo>
                  <a:pt x="8853" y="7274"/>
                  <a:pt x="8915" y="7370"/>
                  <a:pt x="8756" y="7466"/>
                </a:cubicBezTo>
                <a:cubicBezTo>
                  <a:pt x="8685" y="7508"/>
                  <a:pt x="8617" y="7496"/>
                  <a:pt x="8558" y="7466"/>
                </a:cubicBezTo>
                <a:cubicBezTo>
                  <a:pt x="8635" y="7449"/>
                  <a:pt x="8719" y="7497"/>
                  <a:pt x="8781" y="7491"/>
                </a:cubicBezTo>
                <a:cubicBezTo>
                  <a:pt x="8806" y="7483"/>
                  <a:pt x="8830" y="7474"/>
                  <a:pt x="8855" y="7466"/>
                </a:cubicBezTo>
              </a:path>
              <a:path w="6599" h="1662">
                <a:moveTo>
                  <a:pt x="8930" y="7193"/>
                </a:moveTo>
                <a:cubicBezTo>
                  <a:pt x="8834" y="7241"/>
                  <a:pt x="8806" y="7306"/>
                  <a:pt x="8830" y="7417"/>
                </a:cubicBezTo>
                <a:cubicBezTo>
                  <a:pt x="8846" y="7415"/>
                  <a:pt x="9193" y="7315"/>
                  <a:pt x="9029" y="7243"/>
                </a:cubicBezTo>
                <a:cubicBezTo>
                  <a:pt x="8971" y="7243"/>
                  <a:pt x="8963" y="7243"/>
                  <a:pt x="8930" y="7243"/>
                </a:cubicBezTo>
              </a:path>
              <a:path w="6599" h="1662">
                <a:moveTo>
                  <a:pt x="9426" y="7640"/>
                </a:moveTo>
                <a:cubicBezTo>
                  <a:pt x="9500" y="7640"/>
                  <a:pt x="9555" y="7638"/>
                  <a:pt x="9624" y="7615"/>
                </a:cubicBezTo>
              </a:path>
              <a:path w="6599" h="1662">
                <a:moveTo>
                  <a:pt x="9897" y="7764"/>
                </a:moveTo>
                <a:cubicBezTo>
                  <a:pt x="10008" y="7764"/>
                  <a:pt x="10108" y="7786"/>
                  <a:pt x="10220" y="7789"/>
                </a:cubicBezTo>
                <a:cubicBezTo>
                  <a:pt x="10394" y="7793"/>
                  <a:pt x="10569" y="7808"/>
                  <a:pt x="10740" y="7838"/>
                </a:cubicBezTo>
                <a:cubicBezTo>
                  <a:pt x="10754" y="7840"/>
                  <a:pt x="11003" y="7850"/>
                  <a:pt x="11013" y="7863"/>
                </a:cubicBezTo>
                <a:cubicBezTo>
                  <a:pt x="11013" y="7871"/>
                  <a:pt x="11013" y="7880"/>
                  <a:pt x="11013" y="7888"/>
                </a:cubicBezTo>
              </a:path>
              <a:path w="6599" h="1662">
                <a:moveTo>
                  <a:pt x="10418" y="7218"/>
                </a:moveTo>
                <a:cubicBezTo>
                  <a:pt x="10290" y="7188"/>
                  <a:pt x="10269" y="7196"/>
                  <a:pt x="10145" y="7243"/>
                </a:cubicBezTo>
                <a:cubicBezTo>
                  <a:pt x="10166" y="7371"/>
                  <a:pt x="10378" y="7318"/>
                  <a:pt x="10418" y="7466"/>
                </a:cubicBezTo>
                <a:cubicBezTo>
                  <a:pt x="10459" y="7621"/>
                  <a:pt x="10266" y="7555"/>
                  <a:pt x="10220" y="7541"/>
                </a:cubicBezTo>
                <a:cubicBezTo>
                  <a:pt x="10220" y="7449"/>
                  <a:pt x="10241" y="7331"/>
                  <a:pt x="10344" y="7268"/>
                </a:cubicBezTo>
                <a:cubicBezTo>
                  <a:pt x="10352" y="7268"/>
                  <a:pt x="10360" y="7268"/>
                  <a:pt x="10368" y="7268"/>
                </a:cubicBezTo>
              </a:path>
              <a:path w="6599" h="1662">
                <a:moveTo>
                  <a:pt x="10765" y="7119"/>
                </a:moveTo>
                <a:cubicBezTo>
                  <a:pt x="10659" y="7172"/>
                  <a:pt x="10574" y="7336"/>
                  <a:pt x="10592" y="7466"/>
                </a:cubicBezTo>
                <a:cubicBezTo>
                  <a:pt x="10608" y="7491"/>
                  <a:pt x="10625" y="7516"/>
                  <a:pt x="10641" y="7541"/>
                </a:cubicBezTo>
                <a:cubicBezTo>
                  <a:pt x="10862" y="7490"/>
                  <a:pt x="10871" y="7380"/>
                  <a:pt x="10815" y="7169"/>
                </a:cubicBezTo>
                <a:cubicBezTo>
                  <a:pt x="10787" y="7114"/>
                  <a:pt x="10773" y="7097"/>
                  <a:pt x="10716" y="7119"/>
                </a:cubicBezTo>
              </a:path>
              <a:path w="6599" h="1662">
                <a:moveTo>
                  <a:pt x="9996" y="8037"/>
                </a:moveTo>
                <a:cubicBezTo>
                  <a:pt x="10047" y="8121"/>
                  <a:pt x="9992" y="8319"/>
                  <a:pt x="9947" y="8434"/>
                </a:cubicBezTo>
                <a:cubicBezTo>
                  <a:pt x="9922" y="8458"/>
                  <a:pt x="9914" y="8466"/>
                  <a:pt x="9947" y="8434"/>
                </a:cubicBezTo>
              </a:path>
              <a:path w="6599" h="1662">
                <a:moveTo>
                  <a:pt x="10319" y="8037"/>
                </a:moveTo>
                <a:cubicBezTo>
                  <a:pt x="10242" y="8172"/>
                  <a:pt x="10197" y="8259"/>
                  <a:pt x="10220" y="8409"/>
                </a:cubicBezTo>
                <a:cubicBezTo>
                  <a:pt x="10364" y="8451"/>
                  <a:pt x="10437" y="8309"/>
                  <a:pt x="10443" y="8161"/>
                </a:cubicBezTo>
                <a:cubicBezTo>
                  <a:pt x="10445" y="8105"/>
                  <a:pt x="10352" y="8081"/>
                  <a:pt x="10319" y="8062"/>
                </a:cubicBezTo>
              </a:path>
              <a:path w="6599" h="1662">
                <a:moveTo>
                  <a:pt x="10740" y="8037"/>
                </a:moveTo>
                <a:cubicBezTo>
                  <a:pt x="10643" y="8057"/>
                  <a:pt x="10630" y="8146"/>
                  <a:pt x="10592" y="8235"/>
                </a:cubicBezTo>
                <a:cubicBezTo>
                  <a:pt x="10546" y="8348"/>
                  <a:pt x="10530" y="8378"/>
                  <a:pt x="10542" y="8458"/>
                </a:cubicBezTo>
                <a:cubicBezTo>
                  <a:pt x="10645" y="8502"/>
                  <a:pt x="10793" y="8483"/>
                  <a:pt x="10815" y="8334"/>
                </a:cubicBezTo>
                <a:cubicBezTo>
                  <a:pt x="10831" y="8223"/>
                  <a:pt x="10745" y="8170"/>
                  <a:pt x="10666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16160" y="2795760"/>
            <a:ext cx="938160" cy="2098440"/>
          </a:xfrm>
          <a:custGeom>
            <a:avLst/>
            <a:gdLst/>
            <a:ahLst/>
            <a:rect l="l" t="t" r="r" b="b"/>
            <a:pathLst>
              <a:path w="2605" h="5830">
                <a:moveTo>
                  <a:pt x="9327" y="7838"/>
                </a:moveTo>
                <a:cubicBezTo>
                  <a:pt x="9430" y="7822"/>
                  <a:pt x="9518" y="7779"/>
                  <a:pt x="9624" y="7764"/>
                </a:cubicBezTo>
              </a:path>
              <a:path w="2605" h="5830">
                <a:moveTo>
                  <a:pt x="9500" y="12229"/>
                </a:moveTo>
                <a:cubicBezTo>
                  <a:pt x="9447" y="12429"/>
                  <a:pt x="9410" y="12553"/>
                  <a:pt x="9302" y="12725"/>
                </a:cubicBezTo>
              </a:path>
              <a:path w="2605" h="5830">
                <a:moveTo>
                  <a:pt x="8657" y="13022"/>
                </a:moveTo>
                <a:cubicBezTo>
                  <a:pt x="8822" y="13024"/>
                  <a:pt x="8901" y="13192"/>
                  <a:pt x="8905" y="13370"/>
                </a:cubicBezTo>
                <a:cubicBezTo>
                  <a:pt x="8897" y="13395"/>
                  <a:pt x="8888" y="13419"/>
                  <a:pt x="8880" y="13444"/>
                </a:cubicBezTo>
              </a:path>
              <a:path w="2605" h="5830">
                <a:moveTo>
                  <a:pt x="8855" y="12998"/>
                </a:moveTo>
                <a:cubicBezTo>
                  <a:pt x="8777" y="13212"/>
                  <a:pt x="8520" y="13629"/>
                  <a:pt x="8880" y="13345"/>
                </a:cubicBezTo>
              </a:path>
              <a:path w="2605" h="5830">
                <a:moveTo>
                  <a:pt x="9079" y="13593"/>
                </a:moveTo>
                <a:cubicBezTo>
                  <a:pt x="9767" y="13497"/>
                  <a:pt x="10441" y="13389"/>
                  <a:pt x="11137" y="13444"/>
                </a:cubicBezTo>
                <a:cubicBezTo>
                  <a:pt x="11228" y="13462"/>
                  <a:pt x="11269" y="13437"/>
                  <a:pt x="11261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5880" y="4340160"/>
            <a:ext cx="723960" cy="893880"/>
          </a:xfrm>
          <a:custGeom>
            <a:avLst/>
            <a:gdLst/>
            <a:ahLst/>
            <a:rect l="l" t="t" r="r" b="b"/>
            <a:pathLst>
              <a:path w="2010" h="2482">
                <a:moveTo>
                  <a:pt x="9723" y="12154"/>
                </a:moveTo>
                <a:cubicBezTo>
                  <a:pt x="9623" y="12390"/>
                  <a:pt x="9574" y="12449"/>
                  <a:pt x="9649" y="12675"/>
                </a:cubicBezTo>
                <a:cubicBezTo>
                  <a:pt x="9827" y="12604"/>
                  <a:pt x="10245" y="12357"/>
                  <a:pt x="9897" y="12154"/>
                </a:cubicBezTo>
                <a:cubicBezTo>
                  <a:pt x="9763" y="12135"/>
                  <a:pt x="9741" y="12108"/>
                  <a:pt x="9674" y="12154"/>
                </a:cubicBezTo>
              </a:path>
              <a:path w="2010" h="2482">
                <a:moveTo>
                  <a:pt x="10220" y="12154"/>
                </a:moveTo>
                <a:cubicBezTo>
                  <a:pt x="10111" y="12372"/>
                  <a:pt x="10065" y="12421"/>
                  <a:pt x="10120" y="12576"/>
                </a:cubicBezTo>
                <a:cubicBezTo>
                  <a:pt x="10229" y="12561"/>
                  <a:pt x="10787" y="12224"/>
                  <a:pt x="10468" y="12055"/>
                </a:cubicBezTo>
                <a:cubicBezTo>
                  <a:pt x="10393" y="12063"/>
                  <a:pt x="10319" y="12072"/>
                  <a:pt x="10244" y="12080"/>
                </a:cubicBezTo>
              </a:path>
              <a:path w="2010" h="2482">
                <a:moveTo>
                  <a:pt x="9699" y="12948"/>
                </a:moveTo>
                <a:cubicBezTo>
                  <a:pt x="9672" y="13001"/>
                  <a:pt x="9616" y="13067"/>
                  <a:pt x="9575" y="13122"/>
                </a:cubicBezTo>
                <a:cubicBezTo>
                  <a:pt x="9688" y="13122"/>
                  <a:pt x="9792" y="13085"/>
                  <a:pt x="9897" y="13047"/>
                </a:cubicBezTo>
                <a:cubicBezTo>
                  <a:pt x="9914" y="13039"/>
                  <a:pt x="9930" y="13030"/>
                  <a:pt x="9947" y="13022"/>
                </a:cubicBezTo>
              </a:path>
              <a:path w="2010" h="2482">
                <a:moveTo>
                  <a:pt x="9897" y="12849"/>
                </a:moveTo>
                <a:cubicBezTo>
                  <a:pt x="9868" y="13045"/>
                  <a:pt x="9861" y="13244"/>
                  <a:pt x="9773" y="13419"/>
                </a:cubicBezTo>
              </a:path>
              <a:path w="2010" h="2482">
                <a:moveTo>
                  <a:pt x="10443" y="12824"/>
                </a:moveTo>
                <a:cubicBezTo>
                  <a:pt x="10347" y="12708"/>
                  <a:pt x="10204" y="12859"/>
                  <a:pt x="10145" y="12973"/>
                </a:cubicBezTo>
                <a:cubicBezTo>
                  <a:pt x="10145" y="12998"/>
                  <a:pt x="10145" y="13022"/>
                  <a:pt x="10145" y="13047"/>
                </a:cubicBezTo>
                <a:cubicBezTo>
                  <a:pt x="10268" y="13047"/>
                  <a:pt x="10332" y="12998"/>
                  <a:pt x="10443" y="12923"/>
                </a:cubicBezTo>
                <a:cubicBezTo>
                  <a:pt x="10483" y="13097"/>
                  <a:pt x="10471" y="13240"/>
                  <a:pt x="10393" y="13395"/>
                </a:cubicBezTo>
              </a:path>
              <a:path w="2010" h="2482">
                <a:moveTo>
                  <a:pt x="8855" y="13915"/>
                </a:moveTo>
                <a:cubicBezTo>
                  <a:pt x="8802" y="14042"/>
                  <a:pt x="8764" y="14151"/>
                  <a:pt x="8682" y="14263"/>
                </a:cubicBezTo>
                <a:cubicBezTo>
                  <a:pt x="8830" y="14196"/>
                  <a:pt x="8967" y="14212"/>
                  <a:pt x="9128" y="14238"/>
                </a:cubicBezTo>
              </a:path>
              <a:path w="2010" h="2482">
                <a:moveTo>
                  <a:pt x="9153" y="13891"/>
                </a:moveTo>
                <a:cubicBezTo>
                  <a:pt x="9128" y="14111"/>
                  <a:pt x="9101" y="14321"/>
                  <a:pt x="9054" y="14536"/>
                </a:cubicBezTo>
              </a:path>
              <a:path w="2010" h="2482">
                <a:moveTo>
                  <a:pt x="9550" y="14064"/>
                </a:moveTo>
                <a:cubicBezTo>
                  <a:pt x="9575" y="13991"/>
                  <a:pt x="9583" y="13967"/>
                  <a:pt x="9575" y="13915"/>
                </a:cubicBezTo>
                <a:cubicBezTo>
                  <a:pt x="9399" y="13867"/>
                  <a:pt x="9323" y="14079"/>
                  <a:pt x="9302" y="14238"/>
                </a:cubicBezTo>
                <a:cubicBezTo>
                  <a:pt x="9310" y="14255"/>
                  <a:pt x="9319" y="14271"/>
                  <a:pt x="9327" y="14288"/>
                </a:cubicBezTo>
                <a:cubicBezTo>
                  <a:pt x="9414" y="14206"/>
                  <a:pt x="9541" y="13983"/>
                  <a:pt x="9550" y="14039"/>
                </a:cubicBezTo>
                <a:cubicBezTo>
                  <a:pt x="9576" y="14200"/>
                  <a:pt x="9498" y="14544"/>
                  <a:pt x="9624" y="14436"/>
                </a:cubicBezTo>
              </a:path>
              <a:path w="2010" h="2482">
                <a:moveTo>
                  <a:pt x="9947" y="13915"/>
                </a:moveTo>
                <a:cubicBezTo>
                  <a:pt x="9819" y="14114"/>
                  <a:pt x="9779" y="14238"/>
                  <a:pt x="9872" y="14436"/>
                </a:cubicBezTo>
                <a:cubicBezTo>
                  <a:pt x="9957" y="14352"/>
                  <a:pt x="10366" y="13940"/>
                  <a:pt x="10021" y="13940"/>
                </a:cubicBezTo>
                <a:cubicBezTo>
                  <a:pt x="9906" y="13979"/>
                  <a:pt x="9820" y="13995"/>
                  <a:pt x="9922" y="13990"/>
                </a:cubicBezTo>
              </a:path>
              <a:path w="2010" h="2482">
                <a:moveTo>
                  <a:pt x="10368" y="13816"/>
                </a:moveTo>
                <a:cubicBezTo>
                  <a:pt x="10289" y="14029"/>
                  <a:pt x="10278" y="14115"/>
                  <a:pt x="10319" y="14337"/>
                </a:cubicBezTo>
                <a:cubicBezTo>
                  <a:pt x="10424" y="14312"/>
                  <a:pt x="10965" y="14015"/>
                  <a:pt x="10616" y="13866"/>
                </a:cubicBezTo>
                <a:cubicBezTo>
                  <a:pt x="10448" y="13890"/>
                  <a:pt x="10395" y="13895"/>
                  <a:pt x="10319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26200" y="2776680"/>
            <a:ext cx="250920" cy="295200"/>
          </a:xfrm>
          <a:custGeom>
            <a:avLst/>
            <a:gdLst/>
            <a:ahLst/>
            <a:rect l="l" t="t" r="r" b="b"/>
            <a:pathLst>
              <a:path w="696" h="820">
                <a:moveTo>
                  <a:pt x="20216" y="7888"/>
                </a:moveTo>
                <a:cubicBezTo>
                  <a:pt x="20095" y="7864"/>
                  <a:pt x="20071" y="7898"/>
                  <a:pt x="19993" y="8012"/>
                </a:cubicBezTo>
                <a:cubicBezTo>
                  <a:pt x="19860" y="8206"/>
                  <a:pt x="19812" y="8280"/>
                  <a:pt x="19844" y="8483"/>
                </a:cubicBezTo>
                <a:cubicBezTo>
                  <a:pt x="20093" y="8546"/>
                  <a:pt x="20298" y="8489"/>
                  <a:pt x="20439" y="8235"/>
                </a:cubicBezTo>
                <a:cubicBezTo>
                  <a:pt x="20557" y="8023"/>
                  <a:pt x="20449" y="7845"/>
                  <a:pt x="20265" y="7739"/>
                </a:cubicBezTo>
                <a:cubicBezTo>
                  <a:pt x="20191" y="7714"/>
                  <a:pt x="20166" y="7706"/>
                  <a:pt x="20166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83320" y="3000240"/>
            <a:ext cx="27000" cy="36720"/>
          </a:xfrm>
          <a:custGeom>
            <a:avLst/>
            <a:gdLst/>
            <a:ahLst/>
            <a:rect l="l" t="t" r="r" b="b"/>
            <a:pathLst>
              <a:path w="76" h="101">
                <a:moveTo>
                  <a:pt x="20786" y="8384"/>
                </a:moveTo>
                <a:cubicBezTo>
                  <a:pt x="20831" y="8351"/>
                  <a:pt x="20838" y="8374"/>
                  <a:pt x="20811" y="8334"/>
                </a:cubicBezTo>
                <a:cubicBezTo>
                  <a:pt x="20811" y="8366"/>
                  <a:pt x="20792" y="8464"/>
                  <a:pt x="20861" y="8384"/>
                </a:cubicBezTo>
                <a:cubicBezTo>
                  <a:pt x="20861" y="8376"/>
                  <a:pt x="20861" y="8367"/>
                  <a:pt x="20861" y="8359"/>
                </a:cubicBezTo>
              </a:path>
              <a:path w="76" h="101">
                <a:moveTo>
                  <a:pt x="20861" y="8384"/>
                </a:moveTo>
                <a:cubicBezTo>
                  <a:pt x="20810" y="8384"/>
                  <a:pt x="20798" y="8384"/>
                  <a:pt x="20786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75160" y="3000240"/>
            <a:ext cx="2081160" cy="1866960"/>
          </a:xfrm>
          <a:custGeom>
            <a:avLst/>
            <a:gdLst/>
            <a:ahLst/>
            <a:rect l="l" t="t" r="r" b="b"/>
            <a:pathLst>
              <a:path w="5781" h="5186">
                <a:moveTo>
                  <a:pt x="20712" y="8334"/>
                </a:moveTo>
                <a:cubicBezTo>
                  <a:pt x="20712" y="8342"/>
                  <a:pt x="20712" y="8351"/>
                  <a:pt x="20712" y="8359"/>
                </a:cubicBezTo>
              </a:path>
              <a:path w="5781" h="5186">
                <a:moveTo>
                  <a:pt x="14932" y="13519"/>
                </a:moveTo>
                <a:lnTo>
                  <a:pt x="14932" y="1351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81960" y="2795760"/>
            <a:ext cx="142920" cy="25848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21382" y="7764"/>
                </a:moveTo>
                <a:cubicBezTo>
                  <a:pt x="21229" y="7783"/>
                  <a:pt x="21156" y="7813"/>
                  <a:pt x="21059" y="7938"/>
                </a:cubicBezTo>
                <a:cubicBezTo>
                  <a:pt x="21130" y="8079"/>
                  <a:pt x="21430" y="8180"/>
                  <a:pt x="21456" y="8310"/>
                </a:cubicBezTo>
                <a:cubicBezTo>
                  <a:pt x="21439" y="8351"/>
                  <a:pt x="21423" y="8393"/>
                  <a:pt x="21406" y="8434"/>
                </a:cubicBezTo>
                <a:cubicBezTo>
                  <a:pt x="21155" y="8496"/>
                  <a:pt x="21144" y="8363"/>
                  <a:pt x="21233" y="8136"/>
                </a:cubicBezTo>
                <a:cubicBezTo>
                  <a:pt x="21272" y="8036"/>
                  <a:pt x="21355" y="7864"/>
                  <a:pt x="21431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31080" y="2786040"/>
            <a:ext cx="17928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22051" y="7764"/>
                </a:moveTo>
                <a:cubicBezTo>
                  <a:pt x="21899" y="7825"/>
                  <a:pt x="21754" y="8025"/>
                  <a:pt x="21754" y="8210"/>
                </a:cubicBezTo>
                <a:cubicBezTo>
                  <a:pt x="21800" y="8349"/>
                  <a:pt x="21809" y="8390"/>
                  <a:pt x="21878" y="8458"/>
                </a:cubicBezTo>
                <a:cubicBezTo>
                  <a:pt x="22148" y="8397"/>
                  <a:pt x="22262" y="8291"/>
                  <a:pt x="22250" y="7987"/>
                </a:cubicBezTo>
                <a:cubicBezTo>
                  <a:pt x="22243" y="7812"/>
                  <a:pt x="22137" y="7803"/>
                  <a:pt x="22002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2803680"/>
            <a:ext cx="5160960" cy="1268280"/>
          </a:xfrm>
          <a:custGeom>
            <a:avLst/>
            <a:gdLst/>
            <a:ahLst/>
            <a:rect l="l" t="t" r="r" b="b"/>
            <a:pathLst>
              <a:path w="14338" h="3523">
                <a:moveTo>
                  <a:pt x="20241" y="7789"/>
                </a:moveTo>
                <a:cubicBezTo>
                  <a:pt x="20132" y="7810"/>
                  <a:pt x="20118" y="7890"/>
                  <a:pt x="20092" y="7987"/>
                </a:cubicBezTo>
              </a:path>
              <a:path w="14338" h="3523">
                <a:moveTo>
                  <a:pt x="5904" y="10492"/>
                </a:moveTo>
                <a:lnTo>
                  <a:pt x="5904" y="10492"/>
                </a:lnTo>
              </a:path>
              <a:path w="14338" h="3523">
                <a:moveTo>
                  <a:pt x="15801" y="9922"/>
                </a:moveTo>
                <a:cubicBezTo>
                  <a:pt x="15858" y="9893"/>
                  <a:pt x="15919" y="9855"/>
                  <a:pt x="15974" y="9823"/>
                </a:cubicBezTo>
              </a:path>
              <a:path w="14338" h="3523">
                <a:moveTo>
                  <a:pt x="15925" y="9674"/>
                </a:moveTo>
                <a:lnTo>
                  <a:pt x="15925" y="9674"/>
                </a:lnTo>
              </a:path>
              <a:path w="14338" h="3523">
                <a:moveTo>
                  <a:pt x="15999" y="10021"/>
                </a:moveTo>
                <a:lnTo>
                  <a:pt x="15999" y="10021"/>
                </a:lnTo>
              </a:path>
              <a:path w="14338" h="3523">
                <a:moveTo>
                  <a:pt x="15949" y="10616"/>
                </a:moveTo>
                <a:lnTo>
                  <a:pt x="15949" y="10616"/>
                </a:lnTo>
                <a:lnTo>
                  <a:pt x="15949" y="10616"/>
                </a:lnTo>
              </a:path>
              <a:path w="14338" h="3523">
                <a:moveTo>
                  <a:pt x="15949" y="10616"/>
                </a:moveTo>
                <a:lnTo>
                  <a:pt x="15949" y="10616"/>
                </a:lnTo>
              </a:path>
              <a:path w="14338" h="3523">
                <a:moveTo>
                  <a:pt x="15875" y="10964"/>
                </a:moveTo>
                <a:lnTo>
                  <a:pt x="15875" y="10964"/>
                </a:lnTo>
              </a:path>
              <a:path w="14338" h="3523">
                <a:moveTo>
                  <a:pt x="19745" y="11311"/>
                </a:moveTo>
                <a:cubicBezTo>
                  <a:pt x="19753" y="11311"/>
                  <a:pt x="19761" y="11311"/>
                  <a:pt x="19769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24320" y="3394080"/>
            <a:ext cx="1143000" cy="642960"/>
          </a:xfrm>
          <a:custGeom>
            <a:avLst/>
            <a:gdLst/>
            <a:ahLst/>
            <a:rect l="l" t="t" r="r" b="b"/>
            <a:pathLst>
              <a:path w="3176" h="1787">
                <a:moveTo>
                  <a:pt x="15280" y="9847"/>
                </a:moveTo>
                <a:cubicBezTo>
                  <a:pt x="15339" y="9817"/>
                  <a:pt x="15180" y="9776"/>
                  <a:pt x="15156" y="9773"/>
                </a:cubicBezTo>
                <a:cubicBezTo>
                  <a:pt x="15084" y="9764"/>
                  <a:pt x="14867" y="9803"/>
                  <a:pt x="14908" y="9922"/>
                </a:cubicBezTo>
                <a:cubicBezTo>
                  <a:pt x="14947" y="10036"/>
                  <a:pt x="15181" y="10100"/>
                  <a:pt x="15156" y="10244"/>
                </a:cubicBezTo>
                <a:cubicBezTo>
                  <a:pt x="15099" y="10301"/>
                  <a:pt x="15072" y="10321"/>
                  <a:pt x="15007" y="10319"/>
                </a:cubicBezTo>
                <a:cubicBezTo>
                  <a:pt x="14929" y="10147"/>
                  <a:pt x="15040" y="10093"/>
                  <a:pt x="15156" y="9947"/>
                </a:cubicBezTo>
              </a:path>
              <a:path w="3176" h="1787">
                <a:moveTo>
                  <a:pt x="15354" y="9872"/>
                </a:moveTo>
                <a:cubicBezTo>
                  <a:pt x="15347" y="9938"/>
                  <a:pt x="15331" y="9985"/>
                  <a:pt x="15304" y="10046"/>
                </a:cubicBezTo>
                <a:cubicBezTo>
                  <a:pt x="15454" y="10089"/>
                  <a:pt x="15484" y="10094"/>
                  <a:pt x="15627" y="10021"/>
                </a:cubicBezTo>
              </a:path>
              <a:path w="3176" h="1787">
                <a:moveTo>
                  <a:pt x="15553" y="9674"/>
                </a:moveTo>
                <a:cubicBezTo>
                  <a:pt x="15525" y="9888"/>
                  <a:pt x="15510" y="10103"/>
                  <a:pt x="15503" y="10319"/>
                </a:cubicBezTo>
                <a:cubicBezTo>
                  <a:pt x="15503" y="10327"/>
                  <a:pt x="15503" y="10336"/>
                  <a:pt x="15503" y="10344"/>
                </a:cubicBezTo>
              </a:path>
              <a:path w="3176" h="1787">
                <a:moveTo>
                  <a:pt x="14709" y="10344"/>
                </a:moveTo>
                <a:cubicBezTo>
                  <a:pt x="14995" y="10326"/>
                  <a:pt x="15369" y="10254"/>
                  <a:pt x="15652" y="10319"/>
                </a:cubicBezTo>
                <a:cubicBezTo>
                  <a:pt x="15652" y="10327"/>
                  <a:pt x="15652" y="10336"/>
                  <a:pt x="15652" y="10344"/>
                </a:cubicBezTo>
              </a:path>
              <a:path w="3176" h="1787">
                <a:moveTo>
                  <a:pt x="14684" y="10468"/>
                </a:moveTo>
                <a:cubicBezTo>
                  <a:pt x="14630" y="10642"/>
                  <a:pt x="14553" y="10810"/>
                  <a:pt x="14511" y="10988"/>
                </a:cubicBezTo>
                <a:cubicBezTo>
                  <a:pt x="14511" y="10996"/>
                  <a:pt x="14511" y="11005"/>
                  <a:pt x="14511" y="11013"/>
                </a:cubicBezTo>
              </a:path>
              <a:path w="3176" h="1787">
                <a:moveTo>
                  <a:pt x="14982" y="10517"/>
                </a:moveTo>
                <a:cubicBezTo>
                  <a:pt x="14955" y="10623"/>
                  <a:pt x="14862" y="10714"/>
                  <a:pt x="14858" y="10840"/>
                </a:cubicBezTo>
                <a:cubicBezTo>
                  <a:pt x="14866" y="10856"/>
                  <a:pt x="14875" y="10873"/>
                  <a:pt x="14883" y="10889"/>
                </a:cubicBezTo>
                <a:cubicBezTo>
                  <a:pt x="14996" y="10872"/>
                  <a:pt x="15315" y="10800"/>
                  <a:pt x="15131" y="10616"/>
                </a:cubicBezTo>
                <a:cubicBezTo>
                  <a:pt x="15058" y="10580"/>
                  <a:pt x="15025" y="10592"/>
                  <a:pt x="15032" y="10542"/>
                </a:cubicBezTo>
              </a:path>
              <a:path w="3176" h="1787">
                <a:moveTo>
                  <a:pt x="15379" y="10492"/>
                </a:moveTo>
                <a:cubicBezTo>
                  <a:pt x="15316" y="10630"/>
                  <a:pt x="15289" y="10739"/>
                  <a:pt x="15280" y="10889"/>
                </a:cubicBezTo>
                <a:cubicBezTo>
                  <a:pt x="15448" y="10889"/>
                  <a:pt x="15542" y="10846"/>
                  <a:pt x="15503" y="10641"/>
                </a:cubicBezTo>
                <a:cubicBezTo>
                  <a:pt x="15455" y="10570"/>
                  <a:pt x="15442" y="10547"/>
                  <a:pt x="15379" y="10542"/>
                </a:cubicBezTo>
              </a:path>
              <a:path w="3176" h="1787">
                <a:moveTo>
                  <a:pt x="16148" y="9624"/>
                </a:moveTo>
                <a:cubicBezTo>
                  <a:pt x="16148" y="9672"/>
                  <a:pt x="16150" y="9685"/>
                  <a:pt x="16173" y="9723"/>
                </a:cubicBezTo>
                <a:cubicBezTo>
                  <a:pt x="16270" y="9738"/>
                  <a:pt x="16277" y="9700"/>
                  <a:pt x="16346" y="9624"/>
                </a:cubicBezTo>
              </a:path>
              <a:path w="3176" h="1787">
                <a:moveTo>
                  <a:pt x="16272" y="9426"/>
                </a:moveTo>
                <a:cubicBezTo>
                  <a:pt x="16300" y="9582"/>
                  <a:pt x="16306" y="9750"/>
                  <a:pt x="16346" y="9897"/>
                </a:cubicBezTo>
              </a:path>
              <a:path w="3176" h="1787">
                <a:moveTo>
                  <a:pt x="15825" y="10691"/>
                </a:moveTo>
                <a:cubicBezTo>
                  <a:pt x="15865" y="10731"/>
                  <a:pt x="15948" y="10739"/>
                  <a:pt x="15974" y="10765"/>
                </a:cubicBezTo>
                <a:cubicBezTo>
                  <a:pt x="15974" y="10793"/>
                  <a:pt x="15976" y="10799"/>
                  <a:pt x="15999" y="10765"/>
                </a:cubicBezTo>
              </a:path>
              <a:path w="3176" h="1787">
                <a:moveTo>
                  <a:pt x="16148" y="10790"/>
                </a:moveTo>
                <a:cubicBezTo>
                  <a:pt x="16176" y="10818"/>
                  <a:pt x="16185" y="10831"/>
                  <a:pt x="16173" y="10864"/>
                </a:cubicBezTo>
                <a:cubicBezTo>
                  <a:pt x="16301" y="10864"/>
                  <a:pt x="16313" y="10846"/>
                  <a:pt x="16371" y="10740"/>
                </a:cubicBezTo>
              </a:path>
              <a:path w="3176" h="1787">
                <a:moveTo>
                  <a:pt x="16346" y="10666"/>
                </a:moveTo>
                <a:cubicBezTo>
                  <a:pt x="16326" y="10781"/>
                  <a:pt x="16321" y="11130"/>
                  <a:pt x="16321" y="11013"/>
                </a:cubicBezTo>
                <a:cubicBezTo>
                  <a:pt x="16321" y="10988"/>
                  <a:pt x="16321" y="10964"/>
                  <a:pt x="16321" y="10939"/>
                </a:cubicBezTo>
              </a:path>
              <a:path w="3176" h="1787">
                <a:moveTo>
                  <a:pt x="16396" y="10294"/>
                </a:moveTo>
                <a:cubicBezTo>
                  <a:pt x="16470" y="10294"/>
                  <a:pt x="16525" y="10292"/>
                  <a:pt x="16594" y="10269"/>
                </a:cubicBezTo>
              </a:path>
              <a:path w="3176" h="1787">
                <a:moveTo>
                  <a:pt x="16396" y="10368"/>
                </a:moveTo>
                <a:cubicBezTo>
                  <a:pt x="16456" y="10358"/>
                  <a:pt x="16508" y="10344"/>
                  <a:pt x="16570" y="10344"/>
                </a:cubicBezTo>
                <a:cubicBezTo>
                  <a:pt x="16578" y="10344"/>
                  <a:pt x="16586" y="10344"/>
                  <a:pt x="16594" y="10344"/>
                </a:cubicBezTo>
              </a:path>
              <a:path w="3176" h="1787">
                <a:moveTo>
                  <a:pt x="16892" y="9922"/>
                </a:moveTo>
                <a:cubicBezTo>
                  <a:pt x="16918" y="9857"/>
                  <a:pt x="16929" y="9863"/>
                  <a:pt x="16991" y="9847"/>
                </a:cubicBezTo>
                <a:cubicBezTo>
                  <a:pt x="17052" y="9928"/>
                  <a:pt x="16989" y="9993"/>
                  <a:pt x="16917" y="10071"/>
                </a:cubicBezTo>
                <a:cubicBezTo>
                  <a:pt x="16909" y="10079"/>
                  <a:pt x="16900" y="10088"/>
                  <a:pt x="16892" y="10096"/>
                </a:cubicBezTo>
                <a:cubicBezTo>
                  <a:pt x="16943" y="10087"/>
                  <a:pt x="16988" y="10071"/>
                  <a:pt x="17041" y="10071"/>
                </a:cubicBezTo>
                <a:cubicBezTo>
                  <a:pt x="17069" y="10071"/>
                  <a:pt x="17080" y="10069"/>
                  <a:pt x="17090" y="10046"/>
                </a:cubicBezTo>
              </a:path>
              <a:path w="3176" h="1787">
                <a:moveTo>
                  <a:pt x="17239" y="9798"/>
                </a:moveTo>
                <a:cubicBezTo>
                  <a:pt x="17239" y="9739"/>
                  <a:pt x="17259" y="9863"/>
                  <a:pt x="17264" y="9922"/>
                </a:cubicBezTo>
                <a:cubicBezTo>
                  <a:pt x="17269" y="9978"/>
                  <a:pt x="17264" y="10039"/>
                  <a:pt x="17264" y="10096"/>
                </a:cubicBezTo>
              </a:path>
              <a:path w="3176" h="1787">
                <a:moveTo>
                  <a:pt x="16917" y="10319"/>
                </a:moveTo>
                <a:cubicBezTo>
                  <a:pt x="16936" y="10263"/>
                  <a:pt x="17113" y="10249"/>
                  <a:pt x="17165" y="10244"/>
                </a:cubicBezTo>
                <a:cubicBezTo>
                  <a:pt x="17237" y="10238"/>
                  <a:pt x="17315" y="10244"/>
                  <a:pt x="17388" y="10244"/>
                </a:cubicBezTo>
              </a:path>
              <a:path w="3176" h="1787">
                <a:moveTo>
                  <a:pt x="16966" y="10542"/>
                </a:moveTo>
                <a:cubicBezTo>
                  <a:pt x="16942" y="10542"/>
                  <a:pt x="16934" y="10542"/>
                  <a:pt x="16942" y="10567"/>
                </a:cubicBezTo>
                <a:cubicBezTo>
                  <a:pt x="16949" y="10554"/>
                  <a:pt x="17055" y="10473"/>
                  <a:pt x="17066" y="10517"/>
                </a:cubicBezTo>
                <a:cubicBezTo>
                  <a:pt x="17100" y="10652"/>
                  <a:pt x="17043" y="10778"/>
                  <a:pt x="16942" y="10864"/>
                </a:cubicBezTo>
                <a:cubicBezTo>
                  <a:pt x="16901" y="10884"/>
                  <a:pt x="16885" y="10882"/>
                  <a:pt x="16892" y="10914"/>
                </a:cubicBezTo>
                <a:cubicBezTo>
                  <a:pt x="16951" y="10902"/>
                  <a:pt x="17013" y="10853"/>
                  <a:pt x="17066" y="10840"/>
                </a:cubicBezTo>
                <a:cubicBezTo>
                  <a:pt x="17129" y="10825"/>
                  <a:pt x="17101" y="10852"/>
                  <a:pt x="17140" y="10864"/>
                </a:cubicBezTo>
              </a:path>
              <a:path w="3176" h="1787">
                <a:moveTo>
                  <a:pt x="17363" y="10492"/>
                </a:moveTo>
                <a:cubicBezTo>
                  <a:pt x="17291" y="10492"/>
                  <a:pt x="17240" y="10465"/>
                  <a:pt x="17214" y="10542"/>
                </a:cubicBezTo>
                <a:cubicBezTo>
                  <a:pt x="17194" y="10624"/>
                  <a:pt x="17186" y="10640"/>
                  <a:pt x="17190" y="10691"/>
                </a:cubicBezTo>
                <a:cubicBezTo>
                  <a:pt x="17237" y="10691"/>
                  <a:pt x="17269" y="10669"/>
                  <a:pt x="17314" y="10666"/>
                </a:cubicBezTo>
                <a:cubicBezTo>
                  <a:pt x="17387" y="10661"/>
                  <a:pt x="17495" y="10707"/>
                  <a:pt x="17487" y="10790"/>
                </a:cubicBezTo>
                <a:cubicBezTo>
                  <a:pt x="17482" y="10842"/>
                  <a:pt x="17378" y="10881"/>
                  <a:pt x="17338" y="10889"/>
                </a:cubicBezTo>
              </a:path>
              <a:path w="3176" h="1787">
                <a:moveTo>
                  <a:pt x="16570" y="9723"/>
                </a:moveTo>
                <a:cubicBezTo>
                  <a:pt x="16613" y="9862"/>
                  <a:pt x="16645" y="9978"/>
                  <a:pt x="16669" y="10120"/>
                </a:cubicBezTo>
                <a:cubicBezTo>
                  <a:pt x="16685" y="10219"/>
                  <a:pt x="16718" y="10293"/>
                  <a:pt x="16718" y="10393"/>
                </a:cubicBezTo>
                <a:cubicBezTo>
                  <a:pt x="16718" y="10462"/>
                  <a:pt x="16740" y="10523"/>
                  <a:pt x="16743" y="10592"/>
                </a:cubicBezTo>
                <a:cubicBezTo>
                  <a:pt x="16749" y="10713"/>
                  <a:pt x="16737" y="10826"/>
                  <a:pt x="16718" y="10939"/>
                </a:cubicBezTo>
                <a:cubicBezTo>
                  <a:pt x="16710" y="10989"/>
                  <a:pt x="16700" y="11039"/>
                  <a:pt x="16694" y="11088"/>
                </a:cubicBezTo>
                <a:cubicBezTo>
                  <a:pt x="16688" y="11133"/>
                  <a:pt x="16681" y="11169"/>
                  <a:pt x="16669" y="11212"/>
                </a:cubicBezTo>
                <a:cubicBezTo>
                  <a:pt x="16777" y="11167"/>
                  <a:pt x="16891" y="11123"/>
                  <a:pt x="17016" y="11112"/>
                </a:cubicBezTo>
                <a:cubicBezTo>
                  <a:pt x="17154" y="11100"/>
                  <a:pt x="17275" y="11044"/>
                  <a:pt x="17413" y="11038"/>
                </a:cubicBezTo>
                <a:cubicBezTo>
                  <a:pt x="17493" y="11035"/>
                  <a:pt x="17555" y="11017"/>
                  <a:pt x="17636" y="11013"/>
                </a:cubicBezTo>
                <a:cubicBezTo>
                  <a:pt x="17644" y="11013"/>
                  <a:pt x="17653" y="11013"/>
                  <a:pt x="17661" y="11013"/>
                </a:cubicBezTo>
                <a:cubicBezTo>
                  <a:pt x="17661" y="10779"/>
                  <a:pt x="17670" y="10550"/>
                  <a:pt x="17686" y="10319"/>
                </a:cubicBezTo>
                <a:cubicBezTo>
                  <a:pt x="17696" y="10173"/>
                  <a:pt x="17680" y="10037"/>
                  <a:pt x="17661" y="9897"/>
                </a:cubicBezTo>
                <a:cubicBezTo>
                  <a:pt x="17644" y="9775"/>
                  <a:pt x="17650" y="9645"/>
                  <a:pt x="17636" y="9525"/>
                </a:cubicBezTo>
                <a:cubicBezTo>
                  <a:pt x="17636" y="9467"/>
                  <a:pt x="17636" y="9459"/>
                  <a:pt x="17636" y="9426"/>
                </a:cubicBezTo>
                <a:cubicBezTo>
                  <a:pt x="17510" y="9426"/>
                  <a:pt x="17386" y="9414"/>
                  <a:pt x="17264" y="9451"/>
                </a:cubicBezTo>
                <a:cubicBezTo>
                  <a:pt x="17186" y="9474"/>
                  <a:pt x="17098" y="9491"/>
                  <a:pt x="17016" y="9500"/>
                </a:cubicBezTo>
                <a:cubicBezTo>
                  <a:pt x="16944" y="9508"/>
                  <a:pt x="16890" y="9521"/>
                  <a:pt x="16818" y="9525"/>
                </a:cubicBezTo>
                <a:cubicBezTo>
                  <a:pt x="16775" y="9527"/>
                  <a:pt x="16735" y="9537"/>
                  <a:pt x="16694" y="9550"/>
                </a:cubicBezTo>
                <a:cubicBezTo>
                  <a:pt x="16665" y="9559"/>
                  <a:pt x="16622" y="9562"/>
                  <a:pt x="16594" y="9575"/>
                </a:cubicBezTo>
                <a:cubicBezTo>
                  <a:pt x="16594" y="9599"/>
                  <a:pt x="16594" y="9607"/>
                  <a:pt x="16570" y="9599"/>
                </a:cubicBezTo>
                <a:cubicBezTo>
                  <a:pt x="16579" y="9693"/>
                  <a:pt x="16600" y="9783"/>
                  <a:pt x="16619" y="9872"/>
                </a:cubicBezTo>
                <a:cubicBezTo>
                  <a:pt x="16619" y="9880"/>
                  <a:pt x="16619" y="9889"/>
                  <a:pt x="16619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80200" y="4483080"/>
            <a:ext cx="1106640" cy="366840"/>
          </a:xfrm>
          <a:custGeom>
            <a:avLst/>
            <a:gdLst/>
            <a:ahLst/>
            <a:rect l="l" t="t" r="r" b="b"/>
            <a:pathLst>
              <a:path w="3077" h="1018">
                <a:moveTo>
                  <a:pt x="20141" y="12576"/>
                </a:moveTo>
                <a:cubicBezTo>
                  <a:pt x="20149" y="12568"/>
                  <a:pt x="20158" y="12559"/>
                  <a:pt x="20166" y="12551"/>
                </a:cubicBezTo>
                <a:cubicBezTo>
                  <a:pt x="20137" y="12724"/>
                  <a:pt x="20064" y="12901"/>
                  <a:pt x="20017" y="13072"/>
                </a:cubicBezTo>
                <a:cubicBezTo>
                  <a:pt x="19989" y="13171"/>
                  <a:pt x="19943" y="13423"/>
                  <a:pt x="19943" y="13320"/>
                </a:cubicBezTo>
              </a:path>
              <a:path w="3077" h="1018">
                <a:moveTo>
                  <a:pt x="21010" y="12477"/>
                </a:moveTo>
                <a:cubicBezTo>
                  <a:pt x="20889" y="12477"/>
                  <a:pt x="20781" y="12510"/>
                  <a:pt x="20662" y="12526"/>
                </a:cubicBezTo>
                <a:cubicBezTo>
                  <a:pt x="20615" y="12532"/>
                  <a:pt x="20604" y="12510"/>
                  <a:pt x="20588" y="12551"/>
                </a:cubicBezTo>
                <a:cubicBezTo>
                  <a:pt x="20542" y="12667"/>
                  <a:pt x="20489" y="12749"/>
                  <a:pt x="20489" y="12874"/>
                </a:cubicBezTo>
                <a:cubicBezTo>
                  <a:pt x="20548" y="12848"/>
                  <a:pt x="20640" y="12797"/>
                  <a:pt x="20712" y="12799"/>
                </a:cubicBezTo>
                <a:cubicBezTo>
                  <a:pt x="20810" y="12802"/>
                  <a:pt x="20898" y="12987"/>
                  <a:pt x="20886" y="13072"/>
                </a:cubicBezTo>
                <a:cubicBezTo>
                  <a:pt x="20866" y="13214"/>
                  <a:pt x="20709" y="13382"/>
                  <a:pt x="20563" y="13395"/>
                </a:cubicBezTo>
                <a:cubicBezTo>
                  <a:pt x="20506" y="13400"/>
                  <a:pt x="20347" y="13365"/>
                  <a:pt x="20315" y="13295"/>
                </a:cubicBezTo>
                <a:cubicBezTo>
                  <a:pt x="20315" y="13287"/>
                  <a:pt x="20315" y="13279"/>
                  <a:pt x="20315" y="13271"/>
                </a:cubicBezTo>
              </a:path>
              <a:path w="3077" h="1018">
                <a:moveTo>
                  <a:pt x="21158" y="13370"/>
                </a:moveTo>
                <a:cubicBezTo>
                  <a:pt x="21091" y="13392"/>
                  <a:pt x="21114" y="13390"/>
                  <a:pt x="21084" y="13469"/>
                </a:cubicBezTo>
                <a:cubicBezTo>
                  <a:pt x="21121" y="13469"/>
                  <a:pt x="21204" y="13467"/>
                  <a:pt x="21183" y="13395"/>
                </a:cubicBezTo>
                <a:cubicBezTo>
                  <a:pt x="21179" y="13382"/>
                  <a:pt x="21115" y="13355"/>
                  <a:pt x="21084" y="13370"/>
                </a:cubicBezTo>
                <a:cubicBezTo>
                  <a:pt x="21028" y="13398"/>
                  <a:pt x="21029" y="13429"/>
                  <a:pt x="21059" y="13469"/>
                </a:cubicBezTo>
                <a:cubicBezTo>
                  <a:pt x="21075" y="13462"/>
                  <a:pt x="21253" y="13371"/>
                  <a:pt x="21158" y="13345"/>
                </a:cubicBezTo>
                <a:cubicBezTo>
                  <a:pt x="21091" y="13327"/>
                  <a:pt x="21094" y="13372"/>
                  <a:pt x="21084" y="13419"/>
                </a:cubicBezTo>
                <a:cubicBezTo>
                  <a:pt x="21124" y="13397"/>
                  <a:pt x="21174" y="13391"/>
                  <a:pt x="21134" y="13370"/>
                </a:cubicBezTo>
              </a:path>
              <a:path w="3077" h="1018">
                <a:moveTo>
                  <a:pt x="21754" y="12725"/>
                </a:moveTo>
                <a:cubicBezTo>
                  <a:pt x="21762" y="12725"/>
                  <a:pt x="21771" y="12725"/>
                  <a:pt x="21779" y="12725"/>
                </a:cubicBezTo>
                <a:cubicBezTo>
                  <a:pt x="21779" y="12660"/>
                  <a:pt x="21797" y="12630"/>
                  <a:pt x="21729" y="12601"/>
                </a:cubicBezTo>
                <a:cubicBezTo>
                  <a:pt x="21630" y="12559"/>
                  <a:pt x="21584" y="12580"/>
                  <a:pt x="21506" y="12650"/>
                </a:cubicBezTo>
                <a:cubicBezTo>
                  <a:pt x="21420" y="12727"/>
                  <a:pt x="21448" y="12779"/>
                  <a:pt x="21530" y="12849"/>
                </a:cubicBezTo>
                <a:cubicBezTo>
                  <a:pt x="21623" y="12929"/>
                  <a:pt x="21789" y="13009"/>
                  <a:pt x="21779" y="13146"/>
                </a:cubicBezTo>
                <a:cubicBezTo>
                  <a:pt x="21767" y="13306"/>
                  <a:pt x="21543" y="13289"/>
                  <a:pt x="21431" y="13295"/>
                </a:cubicBezTo>
                <a:cubicBezTo>
                  <a:pt x="21405" y="13218"/>
                  <a:pt x="21387" y="13116"/>
                  <a:pt x="21456" y="13047"/>
                </a:cubicBezTo>
                <a:cubicBezTo>
                  <a:pt x="21546" y="12957"/>
                  <a:pt x="21683" y="12956"/>
                  <a:pt x="21754" y="12849"/>
                </a:cubicBezTo>
                <a:cubicBezTo>
                  <a:pt x="21796" y="12785"/>
                  <a:pt x="21804" y="12735"/>
                  <a:pt x="21779" y="12700"/>
                </a:cubicBezTo>
                <a:cubicBezTo>
                  <a:pt x="21749" y="12659"/>
                  <a:pt x="21747" y="12621"/>
                  <a:pt x="21729" y="12675"/>
                </a:cubicBezTo>
              </a:path>
              <a:path w="3077" h="1018">
                <a:moveTo>
                  <a:pt x="22027" y="12650"/>
                </a:moveTo>
                <a:cubicBezTo>
                  <a:pt x="22027" y="12692"/>
                  <a:pt x="22027" y="12700"/>
                  <a:pt x="22027" y="12725"/>
                </a:cubicBezTo>
                <a:cubicBezTo>
                  <a:pt x="22010" y="12607"/>
                  <a:pt x="21979" y="12584"/>
                  <a:pt x="22101" y="12526"/>
                </a:cubicBezTo>
                <a:cubicBezTo>
                  <a:pt x="22162" y="12497"/>
                  <a:pt x="22211" y="12502"/>
                  <a:pt x="22275" y="12502"/>
                </a:cubicBezTo>
                <a:cubicBezTo>
                  <a:pt x="22275" y="12661"/>
                  <a:pt x="22202" y="12800"/>
                  <a:pt x="22151" y="12948"/>
                </a:cubicBezTo>
                <a:cubicBezTo>
                  <a:pt x="22112" y="13062"/>
                  <a:pt x="22101" y="13076"/>
                  <a:pt x="22101" y="13171"/>
                </a:cubicBezTo>
              </a:path>
              <a:path w="3077" h="1018">
                <a:moveTo>
                  <a:pt x="23019" y="12477"/>
                </a:moveTo>
                <a:cubicBezTo>
                  <a:pt x="22927" y="12477"/>
                  <a:pt x="22838" y="12456"/>
                  <a:pt x="22746" y="12452"/>
                </a:cubicBezTo>
                <a:cubicBezTo>
                  <a:pt x="22691" y="12449"/>
                  <a:pt x="22658" y="12648"/>
                  <a:pt x="22647" y="12700"/>
                </a:cubicBezTo>
                <a:cubicBezTo>
                  <a:pt x="22647" y="12708"/>
                  <a:pt x="22647" y="12717"/>
                  <a:pt x="22647" y="12725"/>
                </a:cubicBezTo>
                <a:cubicBezTo>
                  <a:pt x="22725" y="12725"/>
                  <a:pt x="22793" y="12688"/>
                  <a:pt x="22870" y="12700"/>
                </a:cubicBezTo>
                <a:cubicBezTo>
                  <a:pt x="23034" y="12725"/>
                  <a:pt x="23022" y="12887"/>
                  <a:pt x="22969" y="12998"/>
                </a:cubicBezTo>
                <a:cubicBezTo>
                  <a:pt x="22890" y="13162"/>
                  <a:pt x="22763" y="13113"/>
                  <a:pt x="22622" y="13097"/>
                </a:cubicBezTo>
                <a:cubicBezTo>
                  <a:pt x="22605" y="13097"/>
                  <a:pt x="22589" y="13097"/>
                  <a:pt x="22572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5680080"/>
            <a:ext cx="331920" cy="204840"/>
          </a:xfrm>
          <a:custGeom>
            <a:avLst/>
            <a:gdLst/>
            <a:ahLst/>
            <a:rect l="l" t="t" r="r" b="b"/>
            <a:pathLst>
              <a:path w="918" h="571">
                <a:moveTo>
                  <a:pt x="6524" y="15925"/>
                </a:moveTo>
                <a:cubicBezTo>
                  <a:pt x="6819" y="15884"/>
                  <a:pt x="7129" y="15785"/>
                  <a:pt x="7417" y="15801"/>
                </a:cubicBezTo>
              </a:path>
              <a:path w="918" h="571">
                <a:moveTo>
                  <a:pt x="7293" y="16024"/>
                </a:moveTo>
                <a:cubicBezTo>
                  <a:pt x="7201" y="16069"/>
                  <a:pt x="7173" y="16220"/>
                  <a:pt x="7218" y="16321"/>
                </a:cubicBezTo>
                <a:cubicBezTo>
                  <a:pt x="7235" y="16329"/>
                  <a:pt x="7251" y="16338"/>
                  <a:pt x="7268" y="16346"/>
                </a:cubicBezTo>
                <a:cubicBezTo>
                  <a:pt x="7387" y="16282"/>
                  <a:pt x="7591" y="16085"/>
                  <a:pt x="7342" y="16024"/>
                </a:cubicBezTo>
                <a:cubicBezTo>
                  <a:pt x="7301" y="16024"/>
                  <a:pt x="7259" y="16024"/>
                  <a:pt x="7218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78080" y="5313240"/>
            <a:ext cx="1974960" cy="633600"/>
          </a:xfrm>
          <a:custGeom>
            <a:avLst/>
            <a:gdLst/>
            <a:ahLst/>
            <a:rect l="l" t="t" r="r" b="b"/>
            <a:pathLst>
              <a:path w="5483" h="1762">
                <a:moveTo>
                  <a:pt x="8830" y="14957"/>
                </a:moveTo>
                <a:cubicBezTo>
                  <a:pt x="9012" y="14880"/>
                  <a:pt x="9076" y="14850"/>
                  <a:pt x="9178" y="14759"/>
                </a:cubicBezTo>
              </a:path>
              <a:path w="5483" h="1762">
                <a:moveTo>
                  <a:pt x="14312" y="16148"/>
                </a:moveTo>
                <a:cubicBezTo>
                  <a:pt x="14289" y="16273"/>
                  <a:pt x="14266" y="16396"/>
                  <a:pt x="14238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71880" y="5180040"/>
            <a:ext cx="803160" cy="588960"/>
          </a:xfrm>
          <a:custGeom>
            <a:avLst/>
            <a:gdLst/>
            <a:ahLst/>
            <a:rect l="l" t="t" r="r" b="b"/>
            <a:pathLst>
              <a:path w="2233" h="1638">
                <a:moveTo>
                  <a:pt x="8855" y="14784"/>
                </a:moveTo>
                <a:cubicBezTo>
                  <a:pt x="8875" y="14880"/>
                  <a:pt x="8913" y="15031"/>
                  <a:pt x="8905" y="15106"/>
                </a:cubicBezTo>
              </a:path>
              <a:path w="2233" h="1638">
                <a:moveTo>
                  <a:pt x="9872" y="14560"/>
                </a:moveTo>
                <a:cubicBezTo>
                  <a:pt x="9900" y="14555"/>
                  <a:pt x="10043" y="14493"/>
                  <a:pt x="10046" y="14560"/>
                </a:cubicBezTo>
                <a:cubicBezTo>
                  <a:pt x="10021" y="14661"/>
                  <a:pt x="10012" y="14694"/>
                  <a:pt x="9947" y="14734"/>
                </a:cubicBezTo>
                <a:cubicBezTo>
                  <a:pt x="9939" y="14742"/>
                  <a:pt x="9930" y="14751"/>
                  <a:pt x="9922" y="14759"/>
                </a:cubicBezTo>
                <a:cubicBezTo>
                  <a:pt x="10095" y="14734"/>
                  <a:pt x="10236" y="14806"/>
                  <a:pt x="10021" y="14957"/>
                </a:cubicBezTo>
                <a:cubicBezTo>
                  <a:pt x="9877" y="15058"/>
                  <a:pt x="9833" y="15013"/>
                  <a:pt x="9823" y="14908"/>
                </a:cubicBezTo>
              </a:path>
              <a:path w="2233" h="1638">
                <a:moveTo>
                  <a:pt x="10344" y="14387"/>
                </a:moveTo>
                <a:cubicBezTo>
                  <a:pt x="10329" y="14412"/>
                  <a:pt x="10160" y="14764"/>
                  <a:pt x="10294" y="14660"/>
                </a:cubicBezTo>
                <a:cubicBezTo>
                  <a:pt x="10386" y="14567"/>
                  <a:pt x="10415" y="14543"/>
                  <a:pt x="10443" y="14461"/>
                </a:cubicBezTo>
                <a:cubicBezTo>
                  <a:pt x="10469" y="14616"/>
                  <a:pt x="10461" y="14750"/>
                  <a:pt x="10443" y="14908"/>
                </a:cubicBezTo>
              </a:path>
              <a:path w="2233" h="1638">
                <a:moveTo>
                  <a:pt x="8533" y="15280"/>
                </a:moveTo>
                <a:cubicBezTo>
                  <a:pt x="9146" y="15134"/>
                  <a:pt x="9740" y="14998"/>
                  <a:pt x="10368" y="14932"/>
                </a:cubicBezTo>
                <a:cubicBezTo>
                  <a:pt x="10600" y="14913"/>
                  <a:pt x="10632" y="14905"/>
                  <a:pt x="10765" y="14908"/>
                </a:cubicBezTo>
              </a:path>
              <a:path w="2233" h="1638">
                <a:moveTo>
                  <a:pt x="9079" y="15453"/>
                </a:moveTo>
                <a:cubicBezTo>
                  <a:pt x="9187" y="15481"/>
                  <a:pt x="9090" y="15695"/>
                  <a:pt x="9079" y="15776"/>
                </a:cubicBezTo>
                <a:cubicBezTo>
                  <a:pt x="9079" y="15784"/>
                  <a:pt x="9079" y="15793"/>
                  <a:pt x="9079" y="15801"/>
                </a:cubicBezTo>
                <a:cubicBezTo>
                  <a:pt x="9210" y="15763"/>
                  <a:pt x="9371" y="15726"/>
                  <a:pt x="9451" y="15627"/>
                </a:cubicBezTo>
              </a:path>
              <a:path w="2233" h="1638">
                <a:moveTo>
                  <a:pt x="9426" y="15404"/>
                </a:moveTo>
                <a:cubicBezTo>
                  <a:pt x="9445" y="15613"/>
                  <a:pt x="9451" y="15814"/>
                  <a:pt x="9451" y="16024"/>
                </a:cubicBezTo>
              </a:path>
              <a:path w="2233" h="1638">
                <a:moveTo>
                  <a:pt x="9798" y="15453"/>
                </a:moveTo>
                <a:cubicBezTo>
                  <a:pt x="9703" y="15285"/>
                  <a:pt x="9647" y="15450"/>
                  <a:pt x="9599" y="15602"/>
                </a:cubicBezTo>
                <a:cubicBezTo>
                  <a:pt x="9591" y="15643"/>
                  <a:pt x="9583" y="15685"/>
                  <a:pt x="9575" y="15726"/>
                </a:cubicBezTo>
                <a:cubicBezTo>
                  <a:pt x="9742" y="15701"/>
                  <a:pt x="9779" y="15594"/>
                  <a:pt x="9823" y="15404"/>
                </a:cubicBezTo>
                <a:cubicBezTo>
                  <a:pt x="9845" y="15558"/>
                  <a:pt x="9826" y="15738"/>
                  <a:pt x="9872" y="15875"/>
                </a:cubicBezTo>
              </a:path>
              <a:path w="2233" h="1638">
                <a:moveTo>
                  <a:pt x="10021" y="15280"/>
                </a:moveTo>
                <a:cubicBezTo>
                  <a:pt x="10128" y="15270"/>
                  <a:pt x="10340" y="15219"/>
                  <a:pt x="10220" y="15429"/>
                </a:cubicBezTo>
                <a:cubicBezTo>
                  <a:pt x="10187" y="15462"/>
                  <a:pt x="10153" y="15495"/>
                  <a:pt x="10120" y="15528"/>
                </a:cubicBezTo>
                <a:cubicBezTo>
                  <a:pt x="10112" y="15536"/>
                  <a:pt x="10104" y="15545"/>
                  <a:pt x="10096" y="15553"/>
                </a:cubicBezTo>
                <a:cubicBezTo>
                  <a:pt x="10228" y="15508"/>
                  <a:pt x="10491" y="15467"/>
                  <a:pt x="10344" y="15701"/>
                </a:cubicBezTo>
                <a:cubicBezTo>
                  <a:pt x="10239" y="15868"/>
                  <a:pt x="10113" y="15866"/>
                  <a:pt x="9971" y="15825"/>
                </a:cubicBezTo>
              </a:path>
              <a:path w="2233" h="1638">
                <a:moveTo>
                  <a:pt x="10542" y="15230"/>
                </a:moveTo>
                <a:cubicBezTo>
                  <a:pt x="10499" y="15366"/>
                  <a:pt x="10459" y="15382"/>
                  <a:pt x="10542" y="15478"/>
                </a:cubicBezTo>
                <a:cubicBezTo>
                  <a:pt x="10620" y="15374"/>
                  <a:pt x="10669" y="15281"/>
                  <a:pt x="10716" y="15156"/>
                </a:cubicBezTo>
                <a:cubicBezTo>
                  <a:pt x="10716" y="15347"/>
                  <a:pt x="10734" y="15535"/>
                  <a:pt x="10740" y="15726"/>
                </a:cubicBezTo>
                <a:cubicBezTo>
                  <a:pt x="10740" y="15734"/>
                  <a:pt x="10740" y="15743"/>
                  <a:pt x="10740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05200" y="5232240"/>
            <a:ext cx="1197000" cy="706680"/>
          </a:xfrm>
          <a:custGeom>
            <a:avLst/>
            <a:gdLst/>
            <a:ahLst/>
            <a:rect l="l" t="t" r="r" b="b"/>
            <a:pathLst>
              <a:path w="3325" h="1960">
                <a:moveTo>
                  <a:pt x="15602" y="14585"/>
                </a:moveTo>
                <a:cubicBezTo>
                  <a:pt x="15664" y="14571"/>
                  <a:pt x="15714" y="14550"/>
                  <a:pt x="15776" y="14536"/>
                </a:cubicBezTo>
                <a:cubicBezTo>
                  <a:pt x="15776" y="14671"/>
                  <a:pt x="15756" y="14702"/>
                  <a:pt x="15652" y="14784"/>
                </a:cubicBezTo>
                <a:cubicBezTo>
                  <a:pt x="15726" y="14784"/>
                  <a:pt x="15797" y="14785"/>
                  <a:pt x="15801" y="14883"/>
                </a:cubicBezTo>
                <a:cubicBezTo>
                  <a:pt x="15805" y="14991"/>
                  <a:pt x="15614" y="15055"/>
                  <a:pt x="15528" y="15032"/>
                </a:cubicBezTo>
                <a:cubicBezTo>
                  <a:pt x="15520" y="15024"/>
                  <a:pt x="15511" y="15015"/>
                  <a:pt x="15503" y="15007"/>
                </a:cubicBezTo>
              </a:path>
              <a:path w="3325" h="1960">
                <a:moveTo>
                  <a:pt x="16173" y="14660"/>
                </a:moveTo>
                <a:cubicBezTo>
                  <a:pt x="16173" y="14587"/>
                  <a:pt x="16159" y="14551"/>
                  <a:pt x="16073" y="14536"/>
                </a:cubicBezTo>
                <a:cubicBezTo>
                  <a:pt x="15999" y="14523"/>
                  <a:pt x="15854" y="14678"/>
                  <a:pt x="15925" y="14734"/>
                </a:cubicBezTo>
                <a:cubicBezTo>
                  <a:pt x="15988" y="14784"/>
                  <a:pt x="16083" y="14623"/>
                  <a:pt x="16098" y="14585"/>
                </a:cubicBezTo>
                <a:cubicBezTo>
                  <a:pt x="16112" y="14696"/>
                  <a:pt x="16123" y="14796"/>
                  <a:pt x="16123" y="14908"/>
                </a:cubicBezTo>
              </a:path>
              <a:path w="3325" h="1960">
                <a:moveTo>
                  <a:pt x="15304" y="15255"/>
                </a:moveTo>
                <a:cubicBezTo>
                  <a:pt x="15572" y="15173"/>
                  <a:pt x="15845" y="15146"/>
                  <a:pt x="16123" y="15106"/>
                </a:cubicBezTo>
                <a:cubicBezTo>
                  <a:pt x="16138" y="15104"/>
                  <a:pt x="16342" y="15040"/>
                  <a:pt x="16346" y="15106"/>
                </a:cubicBezTo>
                <a:cubicBezTo>
                  <a:pt x="16346" y="15131"/>
                  <a:pt x="16346" y="15155"/>
                  <a:pt x="16346" y="15180"/>
                </a:cubicBezTo>
              </a:path>
              <a:path w="3325" h="1960">
                <a:moveTo>
                  <a:pt x="15503" y="15429"/>
                </a:moveTo>
                <a:cubicBezTo>
                  <a:pt x="15503" y="15558"/>
                  <a:pt x="15496" y="15674"/>
                  <a:pt x="15503" y="15801"/>
                </a:cubicBezTo>
                <a:cubicBezTo>
                  <a:pt x="15503" y="15859"/>
                  <a:pt x="15503" y="15900"/>
                  <a:pt x="15503" y="15850"/>
                </a:cubicBezTo>
              </a:path>
              <a:path w="3325" h="1960">
                <a:moveTo>
                  <a:pt x="15801" y="15478"/>
                </a:moveTo>
                <a:cubicBezTo>
                  <a:pt x="15784" y="15565"/>
                  <a:pt x="15740" y="15636"/>
                  <a:pt x="15726" y="15726"/>
                </a:cubicBezTo>
                <a:cubicBezTo>
                  <a:pt x="15878" y="15712"/>
                  <a:pt x="16021" y="15675"/>
                  <a:pt x="15974" y="15478"/>
                </a:cubicBezTo>
                <a:cubicBezTo>
                  <a:pt x="15955" y="15399"/>
                  <a:pt x="15853" y="15429"/>
                  <a:pt x="15801" y="15429"/>
                </a:cubicBezTo>
              </a:path>
              <a:path w="3325" h="1960">
                <a:moveTo>
                  <a:pt x="16247" y="15304"/>
                </a:moveTo>
                <a:cubicBezTo>
                  <a:pt x="16185" y="15441"/>
                  <a:pt x="16165" y="15508"/>
                  <a:pt x="16197" y="15652"/>
                </a:cubicBezTo>
                <a:cubicBezTo>
                  <a:pt x="16326" y="15665"/>
                  <a:pt x="16452" y="15572"/>
                  <a:pt x="16396" y="15404"/>
                </a:cubicBezTo>
                <a:cubicBezTo>
                  <a:pt x="16339" y="15376"/>
                  <a:pt x="16316" y="15365"/>
                  <a:pt x="16272" y="15354"/>
                </a:cubicBezTo>
              </a:path>
              <a:path w="3325" h="1960">
                <a:moveTo>
                  <a:pt x="14734" y="14635"/>
                </a:moveTo>
                <a:cubicBezTo>
                  <a:pt x="14751" y="14627"/>
                  <a:pt x="14767" y="14618"/>
                  <a:pt x="14784" y="14610"/>
                </a:cubicBezTo>
                <a:cubicBezTo>
                  <a:pt x="14784" y="14736"/>
                  <a:pt x="14768" y="14761"/>
                  <a:pt x="14684" y="14858"/>
                </a:cubicBezTo>
                <a:cubicBezTo>
                  <a:pt x="14753" y="14881"/>
                  <a:pt x="14836" y="14829"/>
                  <a:pt x="14932" y="14833"/>
                </a:cubicBezTo>
                <a:cubicBezTo>
                  <a:pt x="14949" y="14841"/>
                  <a:pt x="14965" y="14850"/>
                  <a:pt x="14982" y="14858"/>
                </a:cubicBezTo>
              </a:path>
              <a:path w="3325" h="1960">
                <a:moveTo>
                  <a:pt x="14957" y="14660"/>
                </a:moveTo>
                <a:cubicBezTo>
                  <a:pt x="14957" y="14718"/>
                  <a:pt x="14909" y="15223"/>
                  <a:pt x="14982" y="15032"/>
                </a:cubicBezTo>
              </a:path>
              <a:path w="3325" h="1960">
                <a:moveTo>
                  <a:pt x="15280" y="14684"/>
                </a:moveTo>
                <a:cubicBezTo>
                  <a:pt x="15255" y="14654"/>
                  <a:pt x="15192" y="14537"/>
                  <a:pt x="15131" y="14585"/>
                </a:cubicBezTo>
                <a:cubicBezTo>
                  <a:pt x="15059" y="14641"/>
                  <a:pt x="15045" y="14730"/>
                  <a:pt x="15032" y="14808"/>
                </a:cubicBezTo>
                <a:cubicBezTo>
                  <a:pt x="15162" y="14819"/>
                  <a:pt x="15225" y="14783"/>
                  <a:pt x="15255" y="14635"/>
                </a:cubicBezTo>
                <a:cubicBezTo>
                  <a:pt x="15255" y="14610"/>
                  <a:pt x="15255" y="14602"/>
                  <a:pt x="15255" y="14635"/>
                </a:cubicBezTo>
                <a:cubicBezTo>
                  <a:pt x="15266" y="14769"/>
                  <a:pt x="15280" y="14897"/>
                  <a:pt x="15280" y="15032"/>
                </a:cubicBezTo>
              </a:path>
              <a:path w="3325" h="1960">
                <a:moveTo>
                  <a:pt x="13221" y="15875"/>
                </a:moveTo>
                <a:cubicBezTo>
                  <a:pt x="13153" y="15988"/>
                  <a:pt x="13137" y="16019"/>
                  <a:pt x="13072" y="16073"/>
                </a:cubicBezTo>
                <a:cubicBezTo>
                  <a:pt x="13215" y="16014"/>
                  <a:pt x="13364" y="16102"/>
                  <a:pt x="13519" y="16098"/>
                </a:cubicBezTo>
                <a:cubicBezTo>
                  <a:pt x="13576" y="16079"/>
                  <a:pt x="13601" y="16088"/>
                  <a:pt x="13593" y="16049"/>
                </a:cubicBezTo>
              </a:path>
              <a:path w="3325" h="1960">
                <a:moveTo>
                  <a:pt x="13519" y="15677"/>
                </a:moveTo>
                <a:cubicBezTo>
                  <a:pt x="13519" y="15919"/>
                  <a:pt x="13516" y="16156"/>
                  <a:pt x="13494" y="16396"/>
                </a:cubicBezTo>
                <a:cubicBezTo>
                  <a:pt x="13494" y="16388"/>
                  <a:pt x="13494" y="16379"/>
                  <a:pt x="13494" y="16371"/>
                </a:cubicBezTo>
              </a:path>
              <a:path w="3325" h="1960">
                <a:moveTo>
                  <a:pt x="13965" y="15974"/>
                </a:moveTo>
                <a:cubicBezTo>
                  <a:pt x="13965" y="15858"/>
                  <a:pt x="13952" y="15842"/>
                  <a:pt x="13915" y="15726"/>
                </a:cubicBezTo>
                <a:cubicBezTo>
                  <a:pt x="13740" y="15653"/>
                  <a:pt x="13604" y="15817"/>
                  <a:pt x="13643" y="16024"/>
                </a:cubicBezTo>
                <a:cubicBezTo>
                  <a:pt x="13706" y="16353"/>
                  <a:pt x="13951" y="15783"/>
                  <a:pt x="13965" y="15726"/>
                </a:cubicBezTo>
                <a:cubicBezTo>
                  <a:pt x="13965" y="15600"/>
                  <a:pt x="13953" y="15924"/>
                  <a:pt x="13965" y="16049"/>
                </a:cubicBezTo>
                <a:cubicBezTo>
                  <a:pt x="13980" y="16206"/>
                  <a:pt x="13990" y="16529"/>
                  <a:pt x="13990" y="16371"/>
                </a:cubicBezTo>
              </a:path>
              <a:path w="3325" h="1960">
                <a:moveTo>
                  <a:pt x="14263" y="15577"/>
                </a:moveTo>
                <a:cubicBezTo>
                  <a:pt x="14306" y="15556"/>
                  <a:pt x="14318" y="15552"/>
                  <a:pt x="14337" y="15528"/>
                </a:cubicBezTo>
                <a:cubicBezTo>
                  <a:pt x="14415" y="15644"/>
                  <a:pt x="14385" y="15661"/>
                  <a:pt x="14288" y="15776"/>
                </a:cubicBezTo>
                <a:cubicBezTo>
                  <a:pt x="14273" y="15732"/>
                  <a:pt x="14382" y="15701"/>
                  <a:pt x="14412" y="15776"/>
                </a:cubicBezTo>
                <a:cubicBezTo>
                  <a:pt x="14449" y="15867"/>
                  <a:pt x="14259" y="16066"/>
                  <a:pt x="14188" y="15974"/>
                </a:cubicBezTo>
                <a:cubicBezTo>
                  <a:pt x="14196" y="15949"/>
                  <a:pt x="14205" y="15925"/>
                  <a:pt x="14213" y="15900"/>
                </a:cubicBezTo>
              </a:path>
              <a:path w="3325" h="1960">
                <a:moveTo>
                  <a:pt x="14660" y="15503"/>
                </a:moveTo>
                <a:cubicBezTo>
                  <a:pt x="14577" y="15441"/>
                  <a:pt x="14538" y="15583"/>
                  <a:pt x="14511" y="15652"/>
                </a:cubicBezTo>
                <a:cubicBezTo>
                  <a:pt x="14511" y="15660"/>
                  <a:pt x="14511" y="15669"/>
                  <a:pt x="14511" y="15677"/>
                </a:cubicBezTo>
                <a:cubicBezTo>
                  <a:pt x="14595" y="15631"/>
                  <a:pt x="14611" y="15615"/>
                  <a:pt x="14660" y="15528"/>
                </a:cubicBezTo>
                <a:cubicBezTo>
                  <a:pt x="14645" y="15663"/>
                  <a:pt x="14635" y="15789"/>
                  <a:pt x="14635" y="15925"/>
                </a:cubicBezTo>
                <a:cubicBezTo>
                  <a:pt x="14635" y="15933"/>
                  <a:pt x="14635" y="15941"/>
                  <a:pt x="14635" y="15949"/>
                </a:cubicBezTo>
              </a:path>
              <a:path w="3325" h="1960">
                <a:moveTo>
                  <a:pt x="14139" y="16123"/>
                </a:moveTo>
                <a:cubicBezTo>
                  <a:pt x="14377" y="16052"/>
                  <a:pt x="14611" y="16006"/>
                  <a:pt x="14858" y="15974"/>
                </a:cubicBezTo>
                <a:cubicBezTo>
                  <a:pt x="14909" y="15967"/>
                  <a:pt x="14843" y="16035"/>
                  <a:pt x="14808" y="16073"/>
                </a:cubicBezTo>
              </a:path>
              <a:path w="3325" h="1960">
                <a:moveTo>
                  <a:pt x="14585" y="16073"/>
                </a:moveTo>
                <a:cubicBezTo>
                  <a:pt x="14536" y="16219"/>
                  <a:pt x="14478" y="16340"/>
                  <a:pt x="14461" y="16495"/>
                </a:cubicBezTo>
                <a:cubicBezTo>
                  <a:pt x="14550" y="16456"/>
                  <a:pt x="14795" y="16337"/>
                  <a:pt x="14610" y="16222"/>
                </a:cubicBezTo>
                <a:cubicBezTo>
                  <a:pt x="14577" y="16202"/>
                  <a:pt x="14507" y="16214"/>
                  <a:pt x="14610" y="16197"/>
                </a:cubicBezTo>
              </a:path>
              <a:path w="3325" h="1960">
                <a:moveTo>
                  <a:pt x="14808" y="16123"/>
                </a:moveTo>
                <a:cubicBezTo>
                  <a:pt x="14763" y="16260"/>
                  <a:pt x="14760" y="16325"/>
                  <a:pt x="14784" y="16470"/>
                </a:cubicBezTo>
                <a:cubicBezTo>
                  <a:pt x="14884" y="16447"/>
                  <a:pt x="15112" y="16310"/>
                  <a:pt x="14957" y="16173"/>
                </a:cubicBezTo>
                <a:cubicBezTo>
                  <a:pt x="14874" y="16099"/>
                  <a:pt x="14867" y="16245"/>
                  <a:pt x="14808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PW 11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Problems 1-1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866880"/>
            <a:ext cx="4241520" cy="2187360"/>
          </a:xfrm>
          <a:custGeom>
            <a:avLst/>
            <a:gdLst/>
            <a:ahLst/>
            <a:rect l="l" t="t" r="r" b="b"/>
            <a:pathLst>
              <a:path w="11783" h="6078">
                <a:moveTo>
                  <a:pt x="11485" y="3051"/>
                </a:moveTo>
                <a:cubicBezTo>
                  <a:pt x="11377" y="3042"/>
                  <a:pt x="11345" y="3036"/>
                  <a:pt x="11237" y="3026"/>
                </a:cubicBezTo>
                <a:cubicBezTo>
                  <a:pt x="10917" y="2997"/>
                  <a:pt x="10638" y="3009"/>
                  <a:pt x="10319" y="3051"/>
                </a:cubicBezTo>
                <a:cubicBezTo>
                  <a:pt x="9812" y="3118"/>
                  <a:pt x="9305" y="3226"/>
                  <a:pt x="8830" y="3423"/>
                </a:cubicBezTo>
                <a:cubicBezTo>
                  <a:pt x="8358" y="3618"/>
                  <a:pt x="8004" y="3903"/>
                  <a:pt x="7739" y="4341"/>
                </a:cubicBezTo>
                <a:cubicBezTo>
                  <a:pt x="7419" y="4869"/>
                  <a:pt x="7288" y="5674"/>
                  <a:pt x="7441" y="6276"/>
                </a:cubicBezTo>
                <a:cubicBezTo>
                  <a:pt x="7595" y="6886"/>
                  <a:pt x="8033" y="7137"/>
                  <a:pt x="8533" y="7441"/>
                </a:cubicBezTo>
                <a:cubicBezTo>
                  <a:pt x="9653" y="8123"/>
                  <a:pt x="10948" y="8443"/>
                  <a:pt x="12254" y="8483"/>
                </a:cubicBezTo>
                <a:cubicBezTo>
                  <a:pt x="12981" y="8505"/>
                  <a:pt x="13735" y="8485"/>
                  <a:pt x="14461" y="8434"/>
                </a:cubicBezTo>
                <a:cubicBezTo>
                  <a:pt x="15121" y="8388"/>
                  <a:pt x="15812" y="8252"/>
                  <a:pt x="16446" y="8062"/>
                </a:cubicBezTo>
                <a:cubicBezTo>
                  <a:pt x="17210" y="7833"/>
                  <a:pt x="18041" y="7319"/>
                  <a:pt x="18554" y="6697"/>
                </a:cubicBezTo>
                <a:cubicBezTo>
                  <a:pt x="19150" y="5975"/>
                  <a:pt x="19341" y="4938"/>
                  <a:pt x="19000" y="4068"/>
                </a:cubicBezTo>
                <a:cubicBezTo>
                  <a:pt x="18855" y="3699"/>
                  <a:pt x="18665" y="3468"/>
                  <a:pt x="18355" y="3225"/>
                </a:cubicBezTo>
                <a:cubicBezTo>
                  <a:pt x="17973" y="2925"/>
                  <a:pt x="17460" y="2732"/>
                  <a:pt x="16991" y="2629"/>
                </a:cubicBezTo>
                <a:cubicBezTo>
                  <a:pt x="16642" y="2552"/>
                  <a:pt x="16281" y="2514"/>
                  <a:pt x="15925" y="2480"/>
                </a:cubicBezTo>
                <a:cubicBezTo>
                  <a:pt x="15583" y="2447"/>
                  <a:pt x="15250" y="2448"/>
                  <a:pt x="14908" y="2431"/>
                </a:cubicBezTo>
                <a:cubicBezTo>
                  <a:pt x="14117" y="2392"/>
                  <a:pt x="13316" y="2385"/>
                  <a:pt x="12526" y="2431"/>
                </a:cubicBezTo>
                <a:cubicBezTo>
                  <a:pt x="12018" y="2460"/>
                  <a:pt x="11527" y="2563"/>
                  <a:pt x="11038" y="2704"/>
                </a:cubicBezTo>
                <a:cubicBezTo>
                  <a:pt x="10619" y="2825"/>
                  <a:pt x="10185" y="2947"/>
                  <a:pt x="9798" y="3150"/>
                </a:cubicBezTo>
                <a:cubicBezTo>
                  <a:pt x="9441" y="3337"/>
                  <a:pt x="9100" y="3597"/>
                  <a:pt x="8830" y="3894"/>
                </a:cubicBezTo>
                <a:cubicBezTo>
                  <a:pt x="8736" y="3997"/>
                  <a:pt x="8618" y="4107"/>
                  <a:pt x="8533" y="41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0847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 - Day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(Decimals to fractions &amp; perc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0120" y="5732640"/>
            <a:ext cx="1731960" cy="179280"/>
          </a:xfrm>
          <a:custGeom>
            <a:avLst/>
            <a:gdLst/>
            <a:ahLst/>
            <a:rect l="l" t="t" r="r" b="b"/>
            <a:pathLst>
              <a:path w="4813" h="497">
                <a:moveTo>
                  <a:pt x="10666" y="16272"/>
                </a:moveTo>
                <a:cubicBezTo>
                  <a:pt x="10735" y="16328"/>
                  <a:pt x="10755" y="16371"/>
                  <a:pt x="10840" y="16396"/>
                </a:cubicBezTo>
                <a:cubicBezTo>
                  <a:pt x="11100" y="16474"/>
                  <a:pt x="11383" y="16301"/>
                  <a:pt x="11584" y="16148"/>
                </a:cubicBezTo>
                <a:cubicBezTo>
                  <a:pt x="11770" y="16007"/>
                  <a:pt x="11596" y="16173"/>
                  <a:pt x="11832" y="16173"/>
                </a:cubicBezTo>
                <a:cubicBezTo>
                  <a:pt x="12114" y="16173"/>
                  <a:pt x="12369" y="15903"/>
                  <a:pt x="12650" y="15949"/>
                </a:cubicBezTo>
                <a:cubicBezTo>
                  <a:pt x="12803" y="15974"/>
                  <a:pt x="12835" y="16095"/>
                  <a:pt x="13022" y="16073"/>
                </a:cubicBezTo>
                <a:cubicBezTo>
                  <a:pt x="13315" y="16038"/>
                  <a:pt x="13594" y="15944"/>
                  <a:pt x="13891" y="15925"/>
                </a:cubicBezTo>
                <a:cubicBezTo>
                  <a:pt x="13899" y="15925"/>
                  <a:pt x="13907" y="15925"/>
                  <a:pt x="13915" y="15925"/>
                </a:cubicBezTo>
                <a:cubicBezTo>
                  <a:pt x="13954" y="16097"/>
                  <a:pt x="13951" y="16144"/>
                  <a:pt x="14188" y="16123"/>
                </a:cubicBezTo>
                <a:cubicBezTo>
                  <a:pt x="14516" y="16094"/>
                  <a:pt x="14878" y="15890"/>
                  <a:pt x="15205" y="15974"/>
                </a:cubicBezTo>
                <a:cubicBezTo>
                  <a:pt x="15269" y="15990"/>
                  <a:pt x="15273" y="16007"/>
                  <a:pt x="15404" y="15999"/>
                </a:cubicBezTo>
                <a:cubicBezTo>
                  <a:pt x="15429" y="15999"/>
                  <a:pt x="15453" y="15999"/>
                  <a:pt x="15478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00200" y="1143000"/>
                <a:ext cx="507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715080" y="1517760"/>
            <a:ext cx="36720" cy="20628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8752" y="4217"/>
                </a:moveTo>
                <a:cubicBezTo>
                  <a:pt x="18731" y="4417"/>
                  <a:pt x="18744" y="4607"/>
                  <a:pt x="18653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05240" y="1177920"/>
            <a:ext cx="1268640" cy="554040"/>
          </a:xfrm>
          <a:custGeom>
            <a:avLst/>
            <a:gdLst/>
            <a:ahLst/>
            <a:rect l="l" t="t" r="r" b="b"/>
            <a:pathLst>
              <a:path w="3523" h="1539">
                <a:moveTo>
                  <a:pt x="15106" y="3373"/>
                </a:moveTo>
                <a:cubicBezTo>
                  <a:pt x="15193" y="3352"/>
                  <a:pt x="15250" y="3293"/>
                  <a:pt x="15354" y="3274"/>
                </a:cubicBezTo>
                <a:cubicBezTo>
                  <a:pt x="15371" y="3274"/>
                  <a:pt x="15387" y="3274"/>
                  <a:pt x="15404" y="3274"/>
                </a:cubicBezTo>
                <a:cubicBezTo>
                  <a:pt x="15351" y="3387"/>
                  <a:pt x="15298" y="3454"/>
                  <a:pt x="15205" y="3547"/>
                </a:cubicBezTo>
                <a:cubicBezTo>
                  <a:pt x="15328" y="3510"/>
                  <a:pt x="15467" y="3561"/>
                  <a:pt x="15354" y="3721"/>
                </a:cubicBezTo>
                <a:cubicBezTo>
                  <a:pt x="15260" y="3853"/>
                  <a:pt x="15049" y="3832"/>
                  <a:pt x="14957" y="3770"/>
                </a:cubicBezTo>
              </a:path>
              <a:path w="3523" h="1539">
                <a:moveTo>
                  <a:pt x="14660" y="3969"/>
                </a:moveTo>
                <a:cubicBezTo>
                  <a:pt x="15006" y="3988"/>
                  <a:pt x="15332" y="3935"/>
                  <a:pt x="15677" y="3919"/>
                </a:cubicBezTo>
                <a:cubicBezTo>
                  <a:pt x="15685" y="3919"/>
                  <a:pt x="15693" y="3919"/>
                  <a:pt x="15701" y="3919"/>
                </a:cubicBezTo>
              </a:path>
              <a:path w="3523" h="1539">
                <a:moveTo>
                  <a:pt x="14784" y="4242"/>
                </a:moveTo>
                <a:cubicBezTo>
                  <a:pt x="14996" y="4324"/>
                  <a:pt x="15066" y="4472"/>
                  <a:pt x="14833" y="4663"/>
                </a:cubicBezTo>
                <a:cubicBezTo>
                  <a:pt x="14711" y="4763"/>
                  <a:pt x="14558" y="4805"/>
                  <a:pt x="14461" y="4762"/>
                </a:cubicBezTo>
                <a:cubicBezTo>
                  <a:pt x="14548" y="4667"/>
                  <a:pt x="14678" y="4558"/>
                  <a:pt x="14808" y="4688"/>
                </a:cubicBezTo>
                <a:cubicBezTo>
                  <a:pt x="14828" y="4748"/>
                  <a:pt x="14827" y="4763"/>
                  <a:pt x="14858" y="4787"/>
                </a:cubicBezTo>
              </a:path>
              <a:path w="3523" h="1539">
                <a:moveTo>
                  <a:pt x="15528" y="4217"/>
                </a:moveTo>
                <a:cubicBezTo>
                  <a:pt x="15475" y="4221"/>
                  <a:pt x="15311" y="4207"/>
                  <a:pt x="15280" y="4242"/>
                </a:cubicBezTo>
                <a:cubicBezTo>
                  <a:pt x="15235" y="4292"/>
                  <a:pt x="15193" y="4376"/>
                  <a:pt x="15180" y="4440"/>
                </a:cubicBezTo>
                <a:cubicBezTo>
                  <a:pt x="15281" y="4428"/>
                  <a:pt x="15548" y="4381"/>
                  <a:pt x="15528" y="4564"/>
                </a:cubicBezTo>
                <a:cubicBezTo>
                  <a:pt x="15509" y="4738"/>
                  <a:pt x="15196" y="4751"/>
                  <a:pt x="15081" y="4762"/>
                </a:cubicBezTo>
              </a:path>
              <a:path w="3523" h="1539">
                <a:moveTo>
                  <a:pt x="15999" y="3795"/>
                </a:moveTo>
                <a:cubicBezTo>
                  <a:pt x="15991" y="3795"/>
                  <a:pt x="15982" y="3795"/>
                  <a:pt x="15974" y="3795"/>
                </a:cubicBezTo>
                <a:cubicBezTo>
                  <a:pt x="16008" y="3897"/>
                  <a:pt x="16099" y="3970"/>
                  <a:pt x="16148" y="4068"/>
                </a:cubicBezTo>
                <a:cubicBezTo>
                  <a:pt x="16148" y="4093"/>
                  <a:pt x="16148" y="4101"/>
                  <a:pt x="16123" y="4093"/>
                </a:cubicBezTo>
              </a:path>
              <a:path w="3523" h="1539">
                <a:moveTo>
                  <a:pt x="16148" y="3870"/>
                </a:moveTo>
                <a:cubicBezTo>
                  <a:pt x="16099" y="3958"/>
                  <a:pt x="16046" y="4021"/>
                  <a:pt x="15974" y="4093"/>
                </a:cubicBezTo>
              </a:path>
              <a:path w="3523" h="1539">
                <a:moveTo>
                  <a:pt x="16495" y="4018"/>
                </a:moveTo>
                <a:cubicBezTo>
                  <a:pt x="16473" y="4085"/>
                  <a:pt x="16402" y="4208"/>
                  <a:pt x="16470" y="4266"/>
                </a:cubicBezTo>
                <a:cubicBezTo>
                  <a:pt x="16524" y="4311"/>
                  <a:pt x="16638" y="4339"/>
                  <a:pt x="16694" y="4291"/>
                </a:cubicBezTo>
                <a:cubicBezTo>
                  <a:pt x="16694" y="4283"/>
                  <a:pt x="16694" y="4274"/>
                  <a:pt x="16694" y="4266"/>
                </a:cubicBezTo>
              </a:path>
              <a:path w="3523" h="1539">
                <a:moveTo>
                  <a:pt x="16743" y="4118"/>
                </a:moveTo>
                <a:cubicBezTo>
                  <a:pt x="16675" y="4219"/>
                  <a:pt x="16669" y="4325"/>
                  <a:pt x="16644" y="4440"/>
                </a:cubicBezTo>
                <a:cubicBezTo>
                  <a:pt x="16636" y="4465"/>
                  <a:pt x="16627" y="4489"/>
                  <a:pt x="16619" y="4514"/>
                </a:cubicBezTo>
              </a:path>
              <a:path w="3523" h="1539">
                <a:moveTo>
                  <a:pt x="16470" y="3870"/>
                </a:moveTo>
                <a:cubicBezTo>
                  <a:pt x="16650" y="3870"/>
                  <a:pt x="16846" y="3845"/>
                  <a:pt x="17016" y="3894"/>
                </a:cubicBezTo>
              </a:path>
              <a:path w="3523" h="1539">
                <a:moveTo>
                  <a:pt x="17462" y="3944"/>
                </a:moveTo>
                <a:cubicBezTo>
                  <a:pt x="17608" y="3926"/>
                  <a:pt x="17692" y="3943"/>
                  <a:pt x="17835" y="3969"/>
                </a:cubicBezTo>
                <a:cubicBezTo>
                  <a:pt x="17859" y="3969"/>
                  <a:pt x="17867" y="3969"/>
                  <a:pt x="17859" y="3994"/>
                </a:cubicBezTo>
              </a:path>
              <a:path w="3523" h="1539">
                <a:moveTo>
                  <a:pt x="17462" y="4118"/>
                </a:moveTo>
                <a:cubicBezTo>
                  <a:pt x="17636" y="4118"/>
                  <a:pt x="17809" y="4118"/>
                  <a:pt x="17983" y="4118"/>
                </a:cubicBezTo>
              </a:path>
              <a:path w="3523" h="1539">
                <a:moveTo>
                  <a:pt x="16570" y="3349"/>
                </a:moveTo>
                <a:cubicBezTo>
                  <a:pt x="16570" y="3288"/>
                  <a:pt x="16570" y="3419"/>
                  <a:pt x="16570" y="3448"/>
                </a:cubicBezTo>
                <a:cubicBezTo>
                  <a:pt x="16669" y="3478"/>
                  <a:pt x="16739" y="3498"/>
                  <a:pt x="16793" y="3398"/>
                </a:cubicBezTo>
                <a:cubicBezTo>
                  <a:pt x="16827" y="3334"/>
                  <a:pt x="16812" y="3343"/>
                  <a:pt x="16768" y="3299"/>
                </a:cubicBezTo>
                <a:cubicBezTo>
                  <a:pt x="16768" y="3434"/>
                  <a:pt x="16758" y="3562"/>
                  <a:pt x="16743" y="3696"/>
                </a:cubicBezTo>
                <a:cubicBezTo>
                  <a:pt x="16739" y="3732"/>
                  <a:pt x="16723" y="3676"/>
                  <a:pt x="16669" y="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69080" y="1197000"/>
            <a:ext cx="1625760" cy="517680"/>
          </a:xfrm>
          <a:custGeom>
            <a:avLst/>
            <a:gdLst/>
            <a:ahLst/>
            <a:rect l="l" t="t" r="r" b="b"/>
            <a:pathLst>
              <a:path w="4515" h="1439">
                <a:moveTo>
                  <a:pt x="19174" y="4217"/>
                </a:moveTo>
                <a:cubicBezTo>
                  <a:pt x="19122" y="4372"/>
                  <a:pt x="18968" y="4478"/>
                  <a:pt x="18976" y="4663"/>
                </a:cubicBezTo>
                <a:cubicBezTo>
                  <a:pt x="18992" y="4696"/>
                  <a:pt x="19009" y="4729"/>
                  <a:pt x="19025" y="4762"/>
                </a:cubicBezTo>
                <a:cubicBezTo>
                  <a:pt x="19171" y="4719"/>
                  <a:pt x="19575" y="4588"/>
                  <a:pt x="19323" y="4366"/>
                </a:cubicBezTo>
                <a:cubicBezTo>
                  <a:pt x="19223" y="4326"/>
                  <a:pt x="19205" y="4321"/>
                  <a:pt x="19149" y="4291"/>
                </a:cubicBezTo>
              </a:path>
              <a:path w="4515" h="1439">
                <a:moveTo>
                  <a:pt x="19819" y="4242"/>
                </a:moveTo>
                <a:cubicBezTo>
                  <a:pt x="19663" y="4395"/>
                  <a:pt x="19608" y="4481"/>
                  <a:pt x="19571" y="4688"/>
                </a:cubicBezTo>
                <a:cubicBezTo>
                  <a:pt x="19725" y="4723"/>
                  <a:pt x="20022" y="4671"/>
                  <a:pt x="19993" y="4415"/>
                </a:cubicBezTo>
                <a:cubicBezTo>
                  <a:pt x="19902" y="4325"/>
                  <a:pt x="19854" y="4297"/>
                  <a:pt x="19745" y="4316"/>
                </a:cubicBezTo>
              </a:path>
              <a:path w="4515" h="1439">
                <a:moveTo>
                  <a:pt x="18802" y="3994"/>
                </a:moveTo>
                <a:cubicBezTo>
                  <a:pt x="19166" y="4002"/>
                  <a:pt x="19529" y="4033"/>
                  <a:pt x="19893" y="4043"/>
                </a:cubicBezTo>
                <a:cubicBezTo>
                  <a:pt x="19901" y="4043"/>
                  <a:pt x="19910" y="4043"/>
                  <a:pt x="19918" y="4043"/>
                </a:cubicBezTo>
              </a:path>
              <a:path w="4515" h="1439">
                <a:moveTo>
                  <a:pt x="19273" y="3423"/>
                </a:moveTo>
                <a:cubicBezTo>
                  <a:pt x="19224" y="3572"/>
                  <a:pt x="19188" y="3713"/>
                  <a:pt x="19174" y="3870"/>
                </a:cubicBezTo>
              </a:path>
              <a:path w="4515" h="1439">
                <a:moveTo>
                  <a:pt x="19521" y="3373"/>
                </a:moveTo>
                <a:cubicBezTo>
                  <a:pt x="19601" y="3311"/>
                  <a:pt x="19670" y="3324"/>
                  <a:pt x="19769" y="3324"/>
                </a:cubicBezTo>
                <a:cubicBezTo>
                  <a:pt x="19781" y="3430"/>
                  <a:pt x="19810" y="3507"/>
                  <a:pt x="19720" y="3597"/>
                </a:cubicBezTo>
                <a:cubicBezTo>
                  <a:pt x="19646" y="3671"/>
                  <a:pt x="19448" y="3710"/>
                  <a:pt x="19397" y="3795"/>
                </a:cubicBezTo>
                <a:cubicBezTo>
                  <a:pt x="19397" y="3812"/>
                  <a:pt x="19397" y="3828"/>
                  <a:pt x="19397" y="3845"/>
                </a:cubicBezTo>
                <a:cubicBezTo>
                  <a:pt x="19450" y="3922"/>
                  <a:pt x="19466" y="3726"/>
                  <a:pt x="19571" y="3671"/>
                </a:cubicBezTo>
                <a:cubicBezTo>
                  <a:pt x="19636" y="3637"/>
                  <a:pt x="19750" y="3735"/>
                  <a:pt x="19794" y="3770"/>
                </a:cubicBezTo>
                <a:cubicBezTo>
                  <a:pt x="19862" y="3824"/>
                  <a:pt x="19928" y="3788"/>
                  <a:pt x="19993" y="3746"/>
                </a:cubicBezTo>
              </a:path>
              <a:path w="4515" h="1439">
                <a:moveTo>
                  <a:pt x="20389" y="4068"/>
                </a:moveTo>
                <a:cubicBezTo>
                  <a:pt x="20409" y="4009"/>
                  <a:pt x="20504" y="4062"/>
                  <a:pt x="20563" y="4068"/>
                </a:cubicBezTo>
                <a:cubicBezTo>
                  <a:pt x="20632" y="4075"/>
                  <a:pt x="20659" y="4050"/>
                  <a:pt x="20687" y="4093"/>
                </a:cubicBezTo>
              </a:path>
              <a:path w="4515" h="1439">
                <a:moveTo>
                  <a:pt x="20340" y="4217"/>
                </a:moveTo>
                <a:cubicBezTo>
                  <a:pt x="20446" y="4217"/>
                  <a:pt x="20536" y="4225"/>
                  <a:pt x="20638" y="4242"/>
                </a:cubicBezTo>
              </a:path>
              <a:path w="4515" h="1439">
                <a:moveTo>
                  <a:pt x="21530" y="3746"/>
                </a:moveTo>
                <a:cubicBezTo>
                  <a:pt x="21415" y="3797"/>
                  <a:pt x="21287" y="3895"/>
                  <a:pt x="21233" y="4018"/>
                </a:cubicBezTo>
                <a:cubicBezTo>
                  <a:pt x="21199" y="4095"/>
                  <a:pt x="21143" y="4310"/>
                  <a:pt x="21208" y="4390"/>
                </a:cubicBezTo>
                <a:cubicBezTo>
                  <a:pt x="21289" y="4489"/>
                  <a:pt x="21450" y="4478"/>
                  <a:pt x="21555" y="4440"/>
                </a:cubicBezTo>
                <a:cubicBezTo>
                  <a:pt x="21678" y="4395"/>
                  <a:pt x="21784" y="4297"/>
                  <a:pt x="21803" y="4167"/>
                </a:cubicBezTo>
                <a:cubicBezTo>
                  <a:pt x="21820" y="4048"/>
                  <a:pt x="21782" y="3936"/>
                  <a:pt x="21679" y="3870"/>
                </a:cubicBezTo>
                <a:cubicBezTo>
                  <a:pt x="21625" y="3835"/>
                  <a:pt x="21540" y="3790"/>
                  <a:pt x="21481" y="3770"/>
                </a:cubicBezTo>
              </a:path>
              <a:path w="4515" h="1439">
                <a:moveTo>
                  <a:pt x="22027" y="4316"/>
                </a:moveTo>
                <a:cubicBezTo>
                  <a:pt x="22027" y="4371"/>
                  <a:pt x="22027" y="4371"/>
                  <a:pt x="22027" y="4316"/>
                </a:cubicBezTo>
              </a:path>
              <a:path w="4515" h="1439">
                <a:moveTo>
                  <a:pt x="22473" y="3770"/>
                </a:moveTo>
                <a:cubicBezTo>
                  <a:pt x="22493" y="3927"/>
                  <a:pt x="22480" y="4085"/>
                  <a:pt x="22498" y="4242"/>
                </a:cubicBezTo>
                <a:cubicBezTo>
                  <a:pt x="22517" y="4316"/>
                  <a:pt x="22525" y="4323"/>
                  <a:pt x="22523" y="4366"/>
                </a:cubicBezTo>
              </a:path>
              <a:path w="4515" h="1439">
                <a:moveTo>
                  <a:pt x="22796" y="3845"/>
                </a:moveTo>
                <a:cubicBezTo>
                  <a:pt x="22860" y="3796"/>
                  <a:pt x="22935" y="3767"/>
                  <a:pt x="23019" y="3746"/>
                </a:cubicBezTo>
                <a:cubicBezTo>
                  <a:pt x="23114" y="3723"/>
                  <a:pt x="23131" y="3921"/>
                  <a:pt x="23118" y="3969"/>
                </a:cubicBezTo>
                <a:cubicBezTo>
                  <a:pt x="23081" y="4111"/>
                  <a:pt x="22941" y="4198"/>
                  <a:pt x="22870" y="4316"/>
                </a:cubicBezTo>
                <a:cubicBezTo>
                  <a:pt x="22813" y="4411"/>
                  <a:pt x="22880" y="4313"/>
                  <a:pt x="22920" y="4291"/>
                </a:cubicBezTo>
                <a:cubicBezTo>
                  <a:pt x="22991" y="4252"/>
                  <a:pt x="23097" y="4255"/>
                  <a:pt x="23168" y="4291"/>
                </a:cubicBezTo>
                <a:cubicBezTo>
                  <a:pt x="23231" y="4323"/>
                  <a:pt x="23246" y="4305"/>
                  <a:pt x="23316" y="4291"/>
                </a:cubicBezTo>
              </a:path>
              <a:path w="4515" h="1439">
                <a:moveTo>
                  <a:pt x="22027" y="4366"/>
                </a:moveTo>
                <a:cubicBezTo>
                  <a:pt x="21993" y="4366"/>
                  <a:pt x="21985" y="4407"/>
                  <a:pt x="21977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49800" y="3867120"/>
            <a:ext cx="9036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12055" y="10740"/>
                </a:moveTo>
                <a:cubicBezTo>
                  <a:pt x="11986" y="10931"/>
                  <a:pt x="11895" y="11086"/>
                  <a:pt x="11807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05160" y="3633840"/>
            <a:ext cx="527040" cy="430200"/>
          </a:xfrm>
          <a:custGeom>
            <a:avLst/>
            <a:gdLst/>
            <a:ahLst/>
            <a:rect l="l" t="t" r="r" b="b"/>
            <a:pathLst>
              <a:path w="1464" h="1191">
                <a:moveTo>
                  <a:pt x="12402" y="10120"/>
                </a:moveTo>
                <a:cubicBezTo>
                  <a:pt x="12325" y="10172"/>
                  <a:pt x="12145" y="10346"/>
                  <a:pt x="12105" y="10443"/>
                </a:cubicBezTo>
                <a:cubicBezTo>
                  <a:pt x="12105" y="10476"/>
                  <a:pt x="12105" y="10509"/>
                  <a:pt x="12105" y="10542"/>
                </a:cubicBezTo>
                <a:cubicBezTo>
                  <a:pt x="12238" y="10628"/>
                  <a:pt x="12394" y="10649"/>
                  <a:pt x="12526" y="10517"/>
                </a:cubicBezTo>
                <a:cubicBezTo>
                  <a:pt x="12576" y="10468"/>
                  <a:pt x="12639" y="10273"/>
                  <a:pt x="12477" y="10344"/>
                </a:cubicBezTo>
                <a:cubicBezTo>
                  <a:pt x="12404" y="10376"/>
                  <a:pt x="12157" y="10624"/>
                  <a:pt x="12452" y="10468"/>
                </a:cubicBezTo>
              </a:path>
              <a:path w="1464" h="1191">
                <a:moveTo>
                  <a:pt x="12849" y="10170"/>
                </a:moveTo>
                <a:cubicBezTo>
                  <a:pt x="12933" y="10146"/>
                  <a:pt x="13006" y="10109"/>
                  <a:pt x="13097" y="10096"/>
                </a:cubicBezTo>
                <a:cubicBezTo>
                  <a:pt x="13074" y="10245"/>
                  <a:pt x="13052" y="10288"/>
                  <a:pt x="12898" y="10319"/>
                </a:cubicBezTo>
                <a:cubicBezTo>
                  <a:pt x="13018" y="10319"/>
                  <a:pt x="13068" y="10328"/>
                  <a:pt x="13146" y="10418"/>
                </a:cubicBezTo>
                <a:cubicBezTo>
                  <a:pt x="13005" y="10489"/>
                  <a:pt x="12899" y="10525"/>
                  <a:pt x="12774" y="10443"/>
                </a:cubicBezTo>
              </a:path>
              <a:path w="1464" h="1191">
                <a:moveTo>
                  <a:pt x="11683" y="10616"/>
                </a:moveTo>
                <a:cubicBezTo>
                  <a:pt x="11990" y="10638"/>
                  <a:pt x="12293" y="10628"/>
                  <a:pt x="12601" y="10641"/>
                </a:cubicBezTo>
                <a:cubicBezTo>
                  <a:pt x="12780" y="10648"/>
                  <a:pt x="12945" y="10666"/>
                  <a:pt x="13122" y="10666"/>
                </a:cubicBezTo>
              </a:path>
              <a:path w="1464" h="1191">
                <a:moveTo>
                  <a:pt x="12452" y="10840"/>
                </a:moveTo>
                <a:cubicBezTo>
                  <a:pt x="12320" y="10915"/>
                  <a:pt x="12261" y="11023"/>
                  <a:pt x="12204" y="11162"/>
                </a:cubicBezTo>
                <a:cubicBezTo>
                  <a:pt x="12300" y="11229"/>
                  <a:pt x="12682" y="11282"/>
                  <a:pt x="12626" y="11013"/>
                </a:cubicBezTo>
                <a:cubicBezTo>
                  <a:pt x="12609" y="10931"/>
                  <a:pt x="12465" y="10882"/>
                  <a:pt x="12402" y="10864"/>
                </a:cubicBezTo>
              </a:path>
              <a:path w="1464" h="1191">
                <a:moveTo>
                  <a:pt x="12849" y="10889"/>
                </a:moveTo>
                <a:cubicBezTo>
                  <a:pt x="12801" y="10905"/>
                  <a:pt x="12664" y="11092"/>
                  <a:pt x="12650" y="11162"/>
                </a:cubicBezTo>
                <a:cubicBezTo>
                  <a:pt x="12658" y="11195"/>
                  <a:pt x="12667" y="11228"/>
                  <a:pt x="12675" y="11261"/>
                </a:cubicBezTo>
                <a:cubicBezTo>
                  <a:pt x="12830" y="11272"/>
                  <a:pt x="13048" y="11219"/>
                  <a:pt x="12998" y="10988"/>
                </a:cubicBezTo>
                <a:cubicBezTo>
                  <a:pt x="12923" y="10889"/>
                  <a:pt x="12898" y="10856"/>
                  <a:pt x="12799" y="108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67120" y="4562640"/>
            <a:ext cx="374760" cy="528480"/>
          </a:xfrm>
          <a:custGeom>
            <a:avLst/>
            <a:gdLst/>
            <a:ahLst/>
            <a:rect l="l" t="t" r="r" b="b"/>
            <a:pathLst>
              <a:path w="1043" h="1465">
                <a:moveTo>
                  <a:pt x="11460" y="12923"/>
                </a:moveTo>
                <a:cubicBezTo>
                  <a:pt x="11418" y="12690"/>
                  <a:pt x="11255" y="12570"/>
                  <a:pt x="11013" y="12750"/>
                </a:cubicBezTo>
                <a:cubicBezTo>
                  <a:pt x="10751" y="12945"/>
                  <a:pt x="11078" y="13075"/>
                  <a:pt x="11237" y="12948"/>
                </a:cubicBezTo>
                <a:cubicBezTo>
                  <a:pt x="11278" y="12898"/>
                  <a:pt x="11320" y="12849"/>
                  <a:pt x="11361" y="12799"/>
                </a:cubicBezTo>
                <a:cubicBezTo>
                  <a:pt x="11377" y="12783"/>
                  <a:pt x="11394" y="12766"/>
                  <a:pt x="11410" y="12750"/>
                </a:cubicBezTo>
                <a:cubicBezTo>
                  <a:pt x="11392" y="12941"/>
                  <a:pt x="11379" y="13130"/>
                  <a:pt x="11361" y="13320"/>
                </a:cubicBezTo>
                <a:cubicBezTo>
                  <a:pt x="11361" y="13328"/>
                  <a:pt x="11361" y="13337"/>
                  <a:pt x="11361" y="13345"/>
                </a:cubicBezTo>
              </a:path>
              <a:path w="1043" h="1465">
                <a:moveTo>
                  <a:pt x="10740" y="13395"/>
                </a:moveTo>
                <a:cubicBezTo>
                  <a:pt x="11064" y="13395"/>
                  <a:pt x="11385" y="13379"/>
                  <a:pt x="11708" y="13370"/>
                </a:cubicBezTo>
                <a:cubicBezTo>
                  <a:pt x="11763" y="13369"/>
                  <a:pt x="11769" y="13356"/>
                  <a:pt x="11782" y="13395"/>
                </a:cubicBezTo>
              </a:path>
              <a:path w="1043" h="1465">
                <a:moveTo>
                  <a:pt x="10840" y="13692"/>
                </a:moveTo>
                <a:cubicBezTo>
                  <a:pt x="10875" y="13656"/>
                  <a:pt x="10844" y="13932"/>
                  <a:pt x="10840" y="13965"/>
                </a:cubicBezTo>
                <a:cubicBezTo>
                  <a:pt x="10823" y="14105"/>
                  <a:pt x="10765" y="14180"/>
                  <a:pt x="10914" y="14089"/>
                </a:cubicBezTo>
              </a:path>
              <a:path w="1043" h="1465">
                <a:moveTo>
                  <a:pt x="11460" y="13767"/>
                </a:moveTo>
                <a:cubicBezTo>
                  <a:pt x="11293" y="13844"/>
                  <a:pt x="11229" y="13934"/>
                  <a:pt x="11187" y="14114"/>
                </a:cubicBezTo>
                <a:cubicBezTo>
                  <a:pt x="11358" y="14139"/>
                  <a:pt x="11514" y="14105"/>
                  <a:pt x="11584" y="13915"/>
                </a:cubicBezTo>
                <a:cubicBezTo>
                  <a:pt x="11638" y="13770"/>
                  <a:pt x="11485" y="13731"/>
                  <a:pt x="11385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26000" y="5268960"/>
            <a:ext cx="1062000" cy="615960"/>
          </a:xfrm>
          <a:custGeom>
            <a:avLst/>
            <a:gdLst/>
            <a:ahLst/>
            <a:rect l="l" t="t" r="r" b="b"/>
            <a:pathLst>
              <a:path w="2953" h="1712">
                <a:moveTo>
                  <a:pt x="12973" y="15453"/>
                </a:moveTo>
                <a:cubicBezTo>
                  <a:pt x="12994" y="15406"/>
                  <a:pt x="13007" y="15320"/>
                  <a:pt x="13047" y="15280"/>
                </a:cubicBezTo>
                <a:cubicBezTo>
                  <a:pt x="13098" y="15230"/>
                  <a:pt x="13270" y="15128"/>
                  <a:pt x="13345" y="15131"/>
                </a:cubicBezTo>
                <a:cubicBezTo>
                  <a:pt x="13400" y="15133"/>
                  <a:pt x="13486" y="15194"/>
                  <a:pt x="13494" y="15255"/>
                </a:cubicBezTo>
                <a:cubicBezTo>
                  <a:pt x="13510" y="15381"/>
                  <a:pt x="13455" y="15412"/>
                  <a:pt x="13370" y="15503"/>
                </a:cubicBezTo>
                <a:cubicBezTo>
                  <a:pt x="13260" y="15620"/>
                  <a:pt x="13145" y="15723"/>
                  <a:pt x="13047" y="15850"/>
                </a:cubicBezTo>
                <a:cubicBezTo>
                  <a:pt x="12975" y="15944"/>
                  <a:pt x="12911" y="16064"/>
                  <a:pt x="12874" y="16173"/>
                </a:cubicBezTo>
                <a:cubicBezTo>
                  <a:pt x="12844" y="16262"/>
                  <a:pt x="12856" y="16269"/>
                  <a:pt x="12849" y="16346"/>
                </a:cubicBezTo>
                <a:cubicBezTo>
                  <a:pt x="12881" y="16220"/>
                  <a:pt x="12882" y="16136"/>
                  <a:pt x="12998" y="16049"/>
                </a:cubicBezTo>
                <a:cubicBezTo>
                  <a:pt x="13092" y="15978"/>
                  <a:pt x="13152" y="16055"/>
                  <a:pt x="13196" y="16123"/>
                </a:cubicBezTo>
                <a:cubicBezTo>
                  <a:pt x="13269" y="16236"/>
                  <a:pt x="13369" y="16246"/>
                  <a:pt x="13494" y="16197"/>
                </a:cubicBezTo>
                <a:cubicBezTo>
                  <a:pt x="13526" y="16185"/>
                  <a:pt x="13531" y="16138"/>
                  <a:pt x="13543" y="16123"/>
                </a:cubicBezTo>
              </a:path>
              <a:path w="2953" h="1712">
                <a:moveTo>
                  <a:pt x="14560" y="14833"/>
                </a:moveTo>
                <a:cubicBezTo>
                  <a:pt x="14609" y="14914"/>
                  <a:pt x="14568" y="14992"/>
                  <a:pt x="14536" y="15081"/>
                </a:cubicBezTo>
                <a:cubicBezTo>
                  <a:pt x="14656" y="15081"/>
                  <a:pt x="14768" y="15091"/>
                  <a:pt x="14883" y="15056"/>
                </a:cubicBezTo>
                <a:cubicBezTo>
                  <a:pt x="14875" y="15056"/>
                  <a:pt x="14866" y="15056"/>
                  <a:pt x="14858" y="15056"/>
                </a:cubicBezTo>
              </a:path>
              <a:path w="2953" h="1712">
                <a:moveTo>
                  <a:pt x="14709" y="14635"/>
                </a:moveTo>
                <a:cubicBezTo>
                  <a:pt x="14759" y="14845"/>
                  <a:pt x="14771" y="15064"/>
                  <a:pt x="14784" y="15280"/>
                </a:cubicBezTo>
                <a:cubicBezTo>
                  <a:pt x="14784" y="15354"/>
                  <a:pt x="14784" y="15363"/>
                  <a:pt x="14784" y="15404"/>
                </a:cubicBezTo>
              </a:path>
              <a:path w="2953" h="1712">
                <a:moveTo>
                  <a:pt x="13990" y="15627"/>
                </a:moveTo>
                <a:cubicBezTo>
                  <a:pt x="14312" y="15577"/>
                  <a:pt x="14635" y="15532"/>
                  <a:pt x="14957" y="15478"/>
                </a:cubicBezTo>
                <a:cubicBezTo>
                  <a:pt x="15055" y="15462"/>
                  <a:pt x="15116" y="15453"/>
                  <a:pt x="15205" y="15453"/>
                </a:cubicBezTo>
              </a:path>
              <a:path w="2953" h="1712">
                <a:moveTo>
                  <a:pt x="14139" y="15875"/>
                </a:moveTo>
                <a:cubicBezTo>
                  <a:pt x="14150" y="15969"/>
                  <a:pt x="14128" y="16163"/>
                  <a:pt x="14163" y="16247"/>
                </a:cubicBezTo>
                <a:cubicBezTo>
                  <a:pt x="14171" y="16239"/>
                  <a:pt x="14180" y="16230"/>
                  <a:pt x="14188" y="16222"/>
                </a:cubicBezTo>
              </a:path>
              <a:path w="2953" h="1712">
                <a:moveTo>
                  <a:pt x="14585" y="15850"/>
                </a:moveTo>
                <a:cubicBezTo>
                  <a:pt x="14500" y="15997"/>
                  <a:pt x="14476" y="16017"/>
                  <a:pt x="14486" y="16173"/>
                </a:cubicBezTo>
                <a:cubicBezTo>
                  <a:pt x="14556" y="16178"/>
                  <a:pt x="14884" y="16138"/>
                  <a:pt x="14784" y="15974"/>
                </a:cubicBezTo>
                <a:cubicBezTo>
                  <a:pt x="14773" y="15956"/>
                  <a:pt x="14562" y="15900"/>
                  <a:pt x="14635" y="15900"/>
                </a:cubicBezTo>
              </a:path>
              <a:path w="2953" h="1712">
                <a:moveTo>
                  <a:pt x="15131" y="15850"/>
                </a:moveTo>
                <a:cubicBezTo>
                  <a:pt x="15046" y="15884"/>
                  <a:pt x="14929" y="16047"/>
                  <a:pt x="14932" y="16148"/>
                </a:cubicBezTo>
                <a:cubicBezTo>
                  <a:pt x="14938" y="16375"/>
                  <a:pt x="15273" y="16244"/>
                  <a:pt x="15329" y="16123"/>
                </a:cubicBezTo>
                <a:cubicBezTo>
                  <a:pt x="15398" y="15973"/>
                  <a:pt x="15270" y="15947"/>
                  <a:pt x="15180" y="15925"/>
                </a:cubicBezTo>
              </a:path>
              <a:path w="2953" h="1712">
                <a:moveTo>
                  <a:pt x="15230" y="14883"/>
                </a:moveTo>
                <a:cubicBezTo>
                  <a:pt x="15222" y="14883"/>
                  <a:pt x="15213" y="14883"/>
                  <a:pt x="15205" y="14883"/>
                </a:cubicBezTo>
                <a:cubicBezTo>
                  <a:pt x="15256" y="14852"/>
                  <a:pt x="15318" y="14838"/>
                  <a:pt x="15379" y="14808"/>
                </a:cubicBezTo>
              </a:path>
              <a:path w="2953" h="1712">
                <a:moveTo>
                  <a:pt x="15602" y="14635"/>
                </a:moveTo>
                <a:cubicBezTo>
                  <a:pt x="15617" y="14679"/>
                  <a:pt x="15667" y="14839"/>
                  <a:pt x="15751" y="14784"/>
                </a:cubicBezTo>
                <a:cubicBezTo>
                  <a:pt x="15768" y="14759"/>
                  <a:pt x="15784" y="14734"/>
                  <a:pt x="15801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91080" y="5214960"/>
            <a:ext cx="669960" cy="303120"/>
          </a:xfrm>
          <a:custGeom>
            <a:avLst/>
            <a:gdLst/>
            <a:ahLst/>
            <a:rect l="l" t="t" r="r" b="b"/>
            <a:pathLst>
              <a:path w="1861" h="844">
                <a:moveTo>
                  <a:pt x="15255" y="14660"/>
                </a:moveTo>
                <a:lnTo>
                  <a:pt x="15255" y="14660"/>
                </a:lnTo>
              </a:path>
              <a:path w="1861" h="844">
                <a:moveTo>
                  <a:pt x="15354" y="14982"/>
                </a:moveTo>
                <a:lnTo>
                  <a:pt x="15354" y="14982"/>
                </a:lnTo>
              </a:path>
              <a:path w="1861" h="844">
                <a:moveTo>
                  <a:pt x="15776" y="14486"/>
                </a:moveTo>
                <a:cubicBezTo>
                  <a:pt x="15814" y="14652"/>
                  <a:pt x="15862" y="14819"/>
                  <a:pt x="15900" y="14982"/>
                </a:cubicBezTo>
                <a:cubicBezTo>
                  <a:pt x="15900" y="14990"/>
                  <a:pt x="15900" y="14999"/>
                  <a:pt x="15900" y="15007"/>
                </a:cubicBezTo>
              </a:path>
              <a:path w="1861" h="844">
                <a:moveTo>
                  <a:pt x="16892" y="15329"/>
                </a:moveTo>
                <a:cubicBezTo>
                  <a:pt x="17008" y="15306"/>
                  <a:pt x="17041" y="15295"/>
                  <a:pt x="17115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3080" y="5688000"/>
            <a:ext cx="204840" cy="108000"/>
          </a:xfrm>
          <a:custGeom>
            <a:avLst/>
            <a:gdLst/>
            <a:ahLst/>
            <a:rect l="l" t="t" r="r" b="b"/>
            <a:pathLst>
              <a:path w="572" h="298">
                <a:moveTo>
                  <a:pt x="15751" y="15801"/>
                </a:moveTo>
                <a:cubicBezTo>
                  <a:pt x="15743" y="15817"/>
                  <a:pt x="15734" y="15834"/>
                  <a:pt x="15726" y="15850"/>
                </a:cubicBezTo>
              </a:path>
              <a:path w="572" h="298">
                <a:moveTo>
                  <a:pt x="15701" y="16049"/>
                </a:moveTo>
                <a:lnTo>
                  <a:pt x="15701" y="16049"/>
                </a:lnTo>
                <a:lnTo>
                  <a:pt x="15701" y="16049"/>
                </a:lnTo>
              </a:path>
              <a:path w="572" h="298">
                <a:moveTo>
                  <a:pt x="15701" y="16049"/>
                </a:moveTo>
                <a:lnTo>
                  <a:pt x="15701" y="16049"/>
                </a:lnTo>
              </a:path>
              <a:path w="572" h="298">
                <a:moveTo>
                  <a:pt x="16272" y="16098"/>
                </a:moveTo>
                <a:lnTo>
                  <a:pt x="16272" y="1609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6720" y="5715000"/>
            <a:ext cx="25848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15602" y="15900"/>
                </a:moveTo>
                <a:cubicBezTo>
                  <a:pt x="15685" y="15900"/>
                  <a:pt x="15748" y="15908"/>
                  <a:pt x="15825" y="15925"/>
                </a:cubicBezTo>
                <a:cubicBezTo>
                  <a:pt x="15833" y="15925"/>
                  <a:pt x="15842" y="15925"/>
                  <a:pt x="15850" y="15925"/>
                </a:cubicBezTo>
              </a:path>
              <a:path w="720" h="323">
                <a:moveTo>
                  <a:pt x="16098" y="15875"/>
                </a:moveTo>
                <a:cubicBezTo>
                  <a:pt x="16107" y="15965"/>
                  <a:pt x="16095" y="16056"/>
                  <a:pt x="16222" y="16024"/>
                </a:cubicBezTo>
                <a:cubicBezTo>
                  <a:pt x="16348" y="15992"/>
                  <a:pt x="16321" y="15970"/>
                  <a:pt x="16321" y="15875"/>
                </a:cubicBezTo>
              </a:path>
              <a:path w="720" h="323">
                <a:moveTo>
                  <a:pt x="16297" y="15949"/>
                </a:moveTo>
                <a:cubicBezTo>
                  <a:pt x="16291" y="15988"/>
                  <a:pt x="16272" y="16357"/>
                  <a:pt x="16272" y="160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07040" y="5295960"/>
            <a:ext cx="554040" cy="490320"/>
          </a:xfrm>
          <a:custGeom>
            <a:avLst/>
            <a:gdLst/>
            <a:ahLst/>
            <a:rect l="l" t="t" r="r" b="b"/>
            <a:pathLst>
              <a:path w="1539" h="1365">
                <a:moveTo>
                  <a:pt x="16966" y="15528"/>
                </a:moveTo>
                <a:cubicBezTo>
                  <a:pt x="17041" y="15528"/>
                  <a:pt x="17115" y="15528"/>
                  <a:pt x="17190" y="15528"/>
                </a:cubicBezTo>
              </a:path>
              <a:path w="1539" h="1365">
                <a:moveTo>
                  <a:pt x="17835" y="14957"/>
                </a:moveTo>
                <a:cubicBezTo>
                  <a:pt x="17802" y="14875"/>
                  <a:pt x="17874" y="14783"/>
                  <a:pt x="17959" y="14734"/>
                </a:cubicBezTo>
                <a:cubicBezTo>
                  <a:pt x="18040" y="14687"/>
                  <a:pt x="18181" y="14706"/>
                  <a:pt x="18256" y="14759"/>
                </a:cubicBezTo>
                <a:cubicBezTo>
                  <a:pt x="18356" y="14829"/>
                  <a:pt x="18376" y="14944"/>
                  <a:pt x="18380" y="15056"/>
                </a:cubicBezTo>
                <a:cubicBezTo>
                  <a:pt x="18385" y="15194"/>
                  <a:pt x="18320" y="15258"/>
                  <a:pt x="18231" y="15354"/>
                </a:cubicBezTo>
                <a:cubicBezTo>
                  <a:pt x="18173" y="15416"/>
                  <a:pt x="18095" y="15497"/>
                  <a:pt x="18033" y="15553"/>
                </a:cubicBezTo>
                <a:cubicBezTo>
                  <a:pt x="17932" y="15645"/>
                  <a:pt x="17872" y="15697"/>
                  <a:pt x="17810" y="15825"/>
                </a:cubicBezTo>
                <a:cubicBezTo>
                  <a:pt x="17770" y="15908"/>
                  <a:pt x="17744" y="15988"/>
                  <a:pt x="17711" y="16073"/>
                </a:cubicBezTo>
                <a:cubicBezTo>
                  <a:pt x="17721" y="15979"/>
                  <a:pt x="17731" y="15945"/>
                  <a:pt x="17810" y="15875"/>
                </a:cubicBezTo>
                <a:cubicBezTo>
                  <a:pt x="17906" y="15790"/>
                  <a:pt x="17947" y="15822"/>
                  <a:pt x="18033" y="15875"/>
                </a:cubicBezTo>
                <a:cubicBezTo>
                  <a:pt x="18101" y="15916"/>
                  <a:pt x="18130" y="16019"/>
                  <a:pt x="18182" y="16049"/>
                </a:cubicBezTo>
                <a:cubicBezTo>
                  <a:pt x="18221" y="16072"/>
                  <a:pt x="18422" y="16057"/>
                  <a:pt x="18455" y="16024"/>
                </a:cubicBezTo>
                <a:cubicBezTo>
                  <a:pt x="18537" y="15941"/>
                  <a:pt x="18457" y="15987"/>
                  <a:pt x="18504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9000" y="5224320"/>
            <a:ext cx="339840" cy="517680"/>
          </a:xfrm>
          <a:custGeom>
            <a:avLst/>
            <a:gdLst/>
            <a:ahLst/>
            <a:rect l="l" t="t" r="r" b="b"/>
            <a:pathLst>
              <a:path w="944" h="1439">
                <a:moveTo>
                  <a:pt x="19521" y="14511"/>
                </a:moveTo>
                <a:cubicBezTo>
                  <a:pt x="19561" y="14630"/>
                  <a:pt x="19530" y="14752"/>
                  <a:pt x="19521" y="14883"/>
                </a:cubicBezTo>
              </a:path>
              <a:path w="944" h="1439">
                <a:moveTo>
                  <a:pt x="19298" y="15156"/>
                </a:moveTo>
                <a:cubicBezTo>
                  <a:pt x="19386" y="15156"/>
                  <a:pt x="19454" y="15144"/>
                  <a:pt x="19546" y="15131"/>
                </a:cubicBezTo>
                <a:cubicBezTo>
                  <a:pt x="19704" y="15108"/>
                  <a:pt x="19857" y="15081"/>
                  <a:pt x="20017" y="15081"/>
                </a:cubicBezTo>
                <a:cubicBezTo>
                  <a:pt x="20025" y="15081"/>
                  <a:pt x="20034" y="15081"/>
                  <a:pt x="20042" y="15081"/>
                </a:cubicBezTo>
              </a:path>
              <a:path w="944" h="1439">
                <a:moveTo>
                  <a:pt x="19422" y="15453"/>
                </a:moveTo>
                <a:cubicBezTo>
                  <a:pt x="19436" y="15414"/>
                  <a:pt x="19458" y="15423"/>
                  <a:pt x="19521" y="15404"/>
                </a:cubicBezTo>
                <a:cubicBezTo>
                  <a:pt x="19632" y="15586"/>
                  <a:pt x="19491" y="15692"/>
                  <a:pt x="19372" y="15850"/>
                </a:cubicBezTo>
                <a:cubicBezTo>
                  <a:pt x="19318" y="15923"/>
                  <a:pt x="19326" y="15956"/>
                  <a:pt x="19273" y="15949"/>
                </a:cubicBezTo>
                <a:cubicBezTo>
                  <a:pt x="19389" y="15911"/>
                  <a:pt x="19413" y="15863"/>
                  <a:pt x="19546" y="15900"/>
                </a:cubicBezTo>
                <a:cubicBezTo>
                  <a:pt x="19671" y="15935"/>
                  <a:pt x="19556" y="16004"/>
                  <a:pt x="19695" y="15850"/>
                </a:cubicBezTo>
              </a:path>
              <a:path w="944" h="1439">
                <a:moveTo>
                  <a:pt x="20092" y="15404"/>
                </a:moveTo>
                <a:cubicBezTo>
                  <a:pt x="20011" y="15411"/>
                  <a:pt x="19894" y="15400"/>
                  <a:pt x="19869" y="15503"/>
                </a:cubicBezTo>
                <a:cubicBezTo>
                  <a:pt x="19861" y="15537"/>
                  <a:pt x="19869" y="15608"/>
                  <a:pt x="19869" y="15652"/>
                </a:cubicBezTo>
                <a:cubicBezTo>
                  <a:pt x="19945" y="15652"/>
                  <a:pt x="20021" y="15599"/>
                  <a:pt x="20092" y="15602"/>
                </a:cubicBezTo>
                <a:cubicBezTo>
                  <a:pt x="20268" y="15608"/>
                  <a:pt x="20227" y="15834"/>
                  <a:pt x="20117" y="15900"/>
                </a:cubicBezTo>
                <a:cubicBezTo>
                  <a:pt x="20018" y="15925"/>
                  <a:pt x="19986" y="15933"/>
                  <a:pt x="19918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s tell how many parts of 1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14400" y="2286000"/>
                <a:ext cx="628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742760" y="2430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42 parts of 100 or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6280" y="3895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05120" y="388620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548800" y="3846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503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33720" y="4952880"/>
                <a:ext cx="40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633040" y="4983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9080" y="2670120"/>
            <a:ext cx="644760" cy="88920"/>
          </a:xfrm>
          <a:custGeom>
            <a:avLst/>
            <a:gdLst/>
            <a:ahLst/>
            <a:rect l="l" t="t" r="r" b="b"/>
            <a:pathLst>
              <a:path w="1787" h="249">
                <a:moveTo>
                  <a:pt x="2580" y="7665"/>
                </a:moveTo>
                <a:cubicBezTo>
                  <a:pt x="2611" y="7633"/>
                  <a:pt x="2607" y="7603"/>
                  <a:pt x="2654" y="7590"/>
                </a:cubicBezTo>
                <a:cubicBezTo>
                  <a:pt x="2687" y="7580"/>
                  <a:pt x="2721" y="7569"/>
                  <a:pt x="2753" y="7565"/>
                </a:cubicBezTo>
                <a:cubicBezTo>
                  <a:pt x="2828" y="7555"/>
                  <a:pt x="2903" y="7551"/>
                  <a:pt x="2977" y="7541"/>
                </a:cubicBezTo>
                <a:cubicBezTo>
                  <a:pt x="3049" y="7531"/>
                  <a:pt x="3140" y="7525"/>
                  <a:pt x="3200" y="7516"/>
                </a:cubicBezTo>
                <a:cubicBezTo>
                  <a:pt x="3276" y="7505"/>
                  <a:pt x="3351" y="7503"/>
                  <a:pt x="3423" y="7491"/>
                </a:cubicBezTo>
                <a:cubicBezTo>
                  <a:pt x="3475" y="7482"/>
                  <a:pt x="3544" y="7481"/>
                  <a:pt x="3597" y="7466"/>
                </a:cubicBezTo>
                <a:cubicBezTo>
                  <a:pt x="3663" y="7447"/>
                  <a:pt x="3697" y="7441"/>
                  <a:pt x="3770" y="7441"/>
                </a:cubicBezTo>
                <a:cubicBezTo>
                  <a:pt x="3830" y="7441"/>
                  <a:pt x="3844" y="7425"/>
                  <a:pt x="3894" y="7417"/>
                </a:cubicBezTo>
                <a:cubicBezTo>
                  <a:pt x="3954" y="7408"/>
                  <a:pt x="4024" y="7441"/>
                  <a:pt x="4093" y="7441"/>
                </a:cubicBezTo>
                <a:cubicBezTo>
                  <a:pt x="4157" y="7441"/>
                  <a:pt x="4216" y="7457"/>
                  <a:pt x="4266" y="7466"/>
                </a:cubicBezTo>
                <a:cubicBezTo>
                  <a:pt x="4290" y="7470"/>
                  <a:pt x="4317" y="7463"/>
                  <a:pt x="4341" y="7466"/>
                </a:cubicBezTo>
                <a:cubicBezTo>
                  <a:pt x="4200" y="7518"/>
                  <a:pt x="4044" y="7530"/>
                  <a:pt x="3894" y="7541"/>
                </a:cubicBezTo>
                <a:cubicBezTo>
                  <a:pt x="3728" y="7553"/>
                  <a:pt x="3563" y="7549"/>
                  <a:pt x="3398" y="7565"/>
                </a:cubicBezTo>
                <a:cubicBezTo>
                  <a:pt x="3168" y="7587"/>
                  <a:pt x="2928" y="7562"/>
                  <a:pt x="2704" y="7590"/>
                </a:cubicBezTo>
                <a:cubicBezTo>
                  <a:pt x="2635" y="7599"/>
                  <a:pt x="2605" y="7595"/>
                  <a:pt x="2555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11760" y="2714760"/>
            <a:ext cx="438120" cy="36360"/>
          </a:xfrm>
          <a:custGeom>
            <a:avLst/>
            <a:gdLst/>
            <a:ahLst/>
            <a:rect l="l" t="t" r="r" b="b"/>
            <a:pathLst>
              <a:path w="1217" h="100">
                <a:moveTo>
                  <a:pt x="10864" y="7640"/>
                </a:moveTo>
                <a:cubicBezTo>
                  <a:pt x="10957" y="7624"/>
                  <a:pt x="11042" y="7626"/>
                  <a:pt x="11137" y="7615"/>
                </a:cubicBezTo>
                <a:cubicBezTo>
                  <a:pt x="11313" y="7595"/>
                  <a:pt x="11480" y="7590"/>
                  <a:pt x="11658" y="7590"/>
                </a:cubicBezTo>
                <a:cubicBezTo>
                  <a:pt x="11795" y="7590"/>
                  <a:pt x="11926" y="7566"/>
                  <a:pt x="12055" y="7541"/>
                </a:cubicBezTo>
                <a:cubicBezTo>
                  <a:pt x="12063" y="7541"/>
                  <a:pt x="12072" y="7541"/>
                  <a:pt x="12080" y="75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87880" y="3929040"/>
            <a:ext cx="928800" cy="401760"/>
          </a:xfrm>
          <a:custGeom>
            <a:avLst/>
            <a:gdLst/>
            <a:ahLst/>
            <a:rect l="l" t="t" r="r" b="b"/>
            <a:pathLst>
              <a:path w="2581" h="1117">
                <a:moveTo>
                  <a:pt x="11981" y="11212"/>
                </a:moveTo>
                <a:cubicBezTo>
                  <a:pt x="11981" y="11238"/>
                  <a:pt x="12079" y="11151"/>
                  <a:pt x="12154" y="11137"/>
                </a:cubicBezTo>
                <a:cubicBezTo>
                  <a:pt x="12244" y="11137"/>
                  <a:pt x="12270" y="11130"/>
                  <a:pt x="12303" y="11187"/>
                </a:cubicBezTo>
                <a:cubicBezTo>
                  <a:pt x="12185" y="11526"/>
                  <a:pt x="11972" y="11694"/>
                  <a:pt x="11708" y="11931"/>
                </a:cubicBezTo>
                <a:cubicBezTo>
                  <a:pt x="11558" y="12066"/>
                  <a:pt x="11861" y="11857"/>
                  <a:pt x="12030" y="11881"/>
                </a:cubicBezTo>
                <a:cubicBezTo>
                  <a:pt x="12159" y="11899"/>
                  <a:pt x="12250" y="11965"/>
                  <a:pt x="12378" y="11981"/>
                </a:cubicBezTo>
              </a:path>
              <a:path w="2581" h="1117">
                <a:moveTo>
                  <a:pt x="12799" y="11137"/>
                </a:moveTo>
                <a:cubicBezTo>
                  <a:pt x="12925" y="11112"/>
                  <a:pt x="13014" y="11100"/>
                  <a:pt x="13146" y="11112"/>
                </a:cubicBezTo>
                <a:cubicBezTo>
                  <a:pt x="13191" y="11321"/>
                  <a:pt x="13039" y="11415"/>
                  <a:pt x="12824" y="11485"/>
                </a:cubicBezTo>
                <a:cubicBezTo>
                  <a:pt x="12807" y="11485"/>
                  <a:pt x="12791" y="11485"/>
                  <a:pt x="12774" y="11485"/>
                </a:cubicBezTo>
                <a:cubicBezTo>
                  <a:pt x="12917" y="11504"/>
                  <a:pt x="13185" y="11558"/>
                  <a:pt x="13122" y="11782"/>
                </a:cubicBezTo>
                <a:cubicBezTo>
                  <a:pt x="13073" y="11958"/>
                  <a:pt x="12678" y="12088"/>
                  <a:pt x="12551" y="11931"/>
                </a:cubicBezTo>
                <a:cubicBezTo>
                  <a:pt x="12559" y="11906"/>
                  <a:pt x="12568" y="11882"/>
                  <a:pt x="12576" y="11857"/>
                </a:cubicBezTo>
              </a:path>
              <a:path w="2581" h="1117">
                <a:moveTo>
                  <a:pt x="13692" y="10964"/>
                </a:moveTo>
                <a:cubicBezTo>
                  <a:pt x="13532" y="11034"/>
                  <a:pt x="13444" y="11090"/>
                  <a:pt x="13444" y="11261"/>
                </a:cubicBezTo>
                <a:cubicBezTo>
                  <a:pt x="13574" y="11192"/>
                  <a:pt x="13680" y="11113"/>
                  <a:pt x="13643" y="10939"/>
                </a:cubicBezTo>
                <a:cubicBezTo>
                  <a:pt x="13615" y="10911"/>
                  <a:pt x="13611" y="10902"/>
                  <a:pt x="13667" y="10914"/>
                </a:cubicBezTo>
                <a:cubicBezTo>
                  <a:pt x="13927" y="11010"/>
                  <a:pt x="14000" y="11145"/>
                  <a:pt x="13866" y="11435"/>
                </a:cubicBezTo>
                <a:cubicBezTo>
                  <a:pt x="13769" y="11646"/>
                  <a:pt x="13596" y="11835"/>
                  <a:pt x="13469" y="12030"/>
                </a:cubicBezTo>
              </a:path>
              <a:path w="2581" h="1117">
                <a:moveTo>
                  <a:pt x="14015" y="11782"/>
                </a:moveTo>
                <a:cubicBezTo>
                  <a:pt x="13967" y="11854"/>
                  <a:pt x="13949" y="11875"/>
                  <a:pt x="13990" y="11931"/>
                </a:cubicBezTo>
                <a:cubicBezTo>
                  <a:pt x="14122" y="11901"/>
                  <a:pt x="14172" y="11875"/>
                  <a:pt x="14213" y="11733"/>
                </a:cubicBezTo>
                <a:cubicBezTo>
                  <a:pt x="14105" y="11733"/>
                  <a:pt x="14063" y="11735"/>
                  <a:pt x="13990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1360" y="5680080"/>
            <a:ext cx="384480" cy="554040"/>
          </a:xfrm>
          <a:custGeom>
            <a:avLst/>
            <a:gdLst/>
            <a:ahLst/>
            <a:rect l="l" t="t" r="r" b="b"/>
            <a:pathLst>
              <a:path w="1068" h="1539">
                <a:moveTo>
                  <a:pt x="10170" y="15825"/>
                </a:moveTo>
                <a:cubicBezTo>
                  <a:pt x="10257" y="15797"/>
                  <a:pt x="10058" y="15773"/>
                  <a:pt x="9971" y="15801"/>
                </a:cubicBezTo>
                <a:cubicBezTo>
                  <a:pt x="9859" y="15837"/>
                  <a:pt x="9670" y="15991"/>
                  <a:pt x="9847" y="16073"/>
                </a:cubicBezTo>
                <a:cubicBezTo>
                  <a:pt x="10015" y="16151"/>
                  <a:pt x="10063" y="16151"/>
                  <a:pt x="10170" y="16297"/>
                </a:cubicBezTo>
                <a:cubicBezTo>
                  <a:pt x="10044" y="16386"/>
                  <a:pt x="10027" y="16389"/>
                  <a:pt x="9872" y="16371"/>
                </a:cubicBezTo>
                <a:cubicBezTo>
                  <a:pt x="9912" y="16121"/>
                  <a:pt x="10023" y="15986"/>
                  <a:pt x="10195" y="15801"/>
                </a:cubicBezTo>
                <a:cubicBezTo>
                  <a:pt x="10203" y="15793"/>
                  <a:pt x="10212" y="15784"/>
                  <a:pt x="10220" y="15776"/>
                </a:cubicBezTo>
              </a:path>
              <a:path w="1068" h="1539">
                <a:moveTo>
                  <a:pt x="9475" y="16570"/>
                </a:moveTo>
                <a:cubicBezTo>
                  <a:pt x="9630" y="16607"/>
                  <a:pt x="9828" y="16594"/>
                  <a:pt x="9996" y="16594"/>
                </a:cubicBezTo>
                <a:cubicBezTo>
                  <a:pt x="10182" y="16594"/>
                  <a:pt x="10362" y="16589"/>
                  <a:pt x="10542" y="16619"/>
                </a:cubicBezTo>
              </a:path>
              <a:path w="1068" h="1539">
                <a:moveTo>
                  <a:pt x="9723" y="16793"/>
                </a:moveTo>
                <a:cubicBezTo>
                  <a:pt x="9717" y="16934"/>
                  <a:pt x="9631" y="17185"/>
                  <a:pt x="9674" y="17314"/>
                </a:cubicBezTo>
                <a:cubicBezTo>
                  <a:pt x="9682" y="17314"/>
                  <a:pt x="9691" y="17314"/>
                  <a:pt x="9699" y="17314"/>
                </a:cubicBezTo>
              </a:path>
              <a:path w="1068" h="1539">
                <a:moveTo>
                  <a:pt x="9996" y="16867"/>
                </a:moveTo>
                <a:cubicBezTo>
                  <a:pt x="10081" y="16853"/>
                  <a:pt x="10155" y="16842"/>
                  <a:pt x="10244" y="16842"/>
                </a:cubicBezTo>
                <a:cubicBezTo>
                  <a:pt x="10281" y="17027"/>
                  <a:pt x="10162" y="17063"/>
                  <a:pt x="10021" y="17165"/>
                </a:cubicBezTo>
                <a:cubicBezTo>
                  <a:pt x="9946" y="17221"/>
                  <a:pt x="9933" y="17225"/>
                  <a:pt x="9897" y="17264"/>
                </a:cubicBezTo>
                <a:cubicBezTo>
                  <a:pt x="10013" y="17264"/>
                  <a:pt x="10188" y="17224"/>
                  <a:pt x="10294" y="17239"/>
                </a:cubicBezTo>
                <a:cubicBezTo>
                  <a:pt x="10294" y="17247"/>
                  <a:pt x="10294" y="17256"/>
                  <a:pt x="10294" y="172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08920" y="4867200"/>
            <a:ext cx="401400" cy="812880"/>
          </a:xfrm>
          <a:custGeom>
            <a:avLst/>
            <a:gdLst/>
            <a:ahLst/>
            <a:rect l="l" t="t" r="r" b="b"/>
            <a:pathLst>
              <a:path w="1117" h="2258">
                <a:moveTo>
                  <a:pt x="19918" y="14015"/>
                </a:moveTo>
                <a:cubicBezTo>
                  <a:pt x="19939" y="13965"/>
                  <a:pt x="19943" y="13963"/>
                  <a:pt x="19943" y="13915"/>
                </a:cubicBezTo>
                <a:cubicBezTo>
                  <a:pt x="19982" y="14071"/>
                  <a:pt x="19885" y="14285"/>
                  <a:pt x="19869" y="14461"/>
                </a:cubicBezTo>
                <a:cubicBezTo>
                  <a:pt x="19848" y="14693"/>
                  <a:pt x="20019" y="14721"/>
                  <a:pt x="20191" y="14585"/>
                </a:cubicBezTo>
                <a:cubicBezTo>
                  <a:pt x="20290" y="14507"/>
                  <a:pt x="20373" y="14390"/>
                  <a:pt x="20290" y="14288"/>
                </a:cubicBezTo>
                <a:cubicBezTo>
                  <a:pt x="20216" y="14325"/>
                  <a:pt x="19990" y="14505"/>
                  <a:pt x="20141" y="14610"/>
                </a:cubicBezTo>
                <a:cubicBezTo>
                  <a:pt x="20166" y="14602"/>
                  <a:pt x="20191" y="14593"/>
                  <a:pt x="20216" y="14585"/>
                </a:cubicBezTo>
              </a:path>
              <a:path w="1117" h="2258">
                <a:moveTo>
                  <a:pt x="20464" y="13841"/>
                </a:moveTo>
                <a:cubicBezTo>
                  <a:pt x="20464" y="14089"/>
                  <a:pt x="20430" y="14360"/>
                  <a:pt x="20513" y="14585"/>
                </a:cubicBezTo>
                <a:cubicBezTo>
                  <a:pt x="20681" y="14600"/>
                  <a:pt x="20810" y="14476"/>
                  <a:pt x="20836" y="14288"/>
                </a:cubicBezTo>
                <a:cubicBezTo>
                  <a:pt x="20828" y="14263"/>
                  <a:pt x="20819" y="14238"/>
                  <a:pt x="20811" y="14213"/>
                </a:cubicBezTo>
                <a:cubicBezTo>
                  <a:pt x="20676" y="14319"/>
                  <a:pt x="20627" y="14443"/>
                  <a:pt x="20588" y="14610"/>
                </a:cubicBezTo>
                <a:cubicBezTo>
                  <a:pt x="20588" y="14618"/>
                  <a:pt x="20588" y="14627"/>
                  <a:pt x="20588" y="14635"/>
                </a:cubicBezTo>
              </a:path>
              <a:path w="1117" h="2258">
                <a:moveTo>
                  <a:pt x="19769" y="14932"/>
                </a:moveTo>
                <a:cubicBezTo>
                  <a:pt x="20110" y="14860"/>
                  <a:pt x="20437" y="14794"/>
                  <a:pt x="20786" y="14784"/>
                </a:cubicBezTo>
                <a:cubicBezTo>
                  <a:pt x="20831" y="14784"/>
                  <a:pt x="20844" y="14780"/>
                  <a:pt x="20861" y="14808"/>
                </a:cubicBezTo>
              </a:path>
              <a:path w="1117" h="2258">
                <a:moveTo>
                  <a:pt x="19844" y="15106"/>
                </a:moveTo>
                <a:cubicBezTo>
                  <a:pt x="19844" y="15308"/>
                  <a:pt x="19812" y="15503"/>
                  <a:pt x="19769" y="15701"/>
                </a:cubicBezTo>
                <a:cubicBezTo>
                  <a:pt x="19743" y="15821"/>
                  <a:pt x="19831" y="15634"/>
                  <a:pt x="19893" y="15528"/>
                </a:cubicBezTo>
              </a:path>
              <a:path w="1117" h="2258">
                <a:moveTo>
                  <a:pt x="20166" y="15205"/>
                </a:moveTo>
                <a:cubicBezTo>
                  <a:pt x="20120" y="15379"/>
                  <a:pt x="20068" y="15526"/>
                  <a:pt x="20092" y="15701"/>
                </a:cubicBezTo>
                <a:cubicBezTo>
                  <a:pt x="20240" y="15672"/>
                  <a:pt x="20382" y="15532"/>
                  <a:pt x="20340" y="15354"/>
                </a:cubicBezTo>
                <a:cubicBezTo>
                  <a:pt x="20312" y="15235"/>
                  <a:pt x="20230" y="15294"/>
                  <a:pt x="20166" y="15304"/>
                </a:cubicBezTo>
              </a:path>
              <a:path w="1117" h="2258">
                <a:moveTo>
                  <a:pt x="20613" y="15156"/>
                </a:moveTo>
                <a:cubicBezTo>
                  <a:pt x="20540" y="15341"/>
                  <a:pt x="20511" y="15466"/>
                  <a:pt x="20563" y="15652"/>
                </a:cubicBezTo>
                <a:cubicBezTo>
                  <a:pt x="20746" y="15639"/>
                  <a:pt x="20842" y="15549"/>
                  <a:pt x="20762" y="15354"/>
                </a:cubicBezTo>
                <a:cubicBezTo>
                  <a:pt x="20735" y="15288"/>
                  <a:pt x="20680" y="15318"/>
                  <a:pt x="20638" y="15329"/>
                </a:cubicBezTo>
              </a:path>
              <a:path w="1117" h="2258">
                <a:moveTo>
                  <a:pt x="20340" y="13568"/>
                </a:moveTo>
                <a:cubicBezTo>
                  <a:pt x="20427" y="13568"/>
                  <a:pt x="20504" y="13536"/>
                  <a:pt x="20588" y="13519"/>
                </a:cubicBezTo>
                <a:cubicBezTo>
                  <a:pt x="20616" y="13519"/>
                  <a:pt x="20627" y="13521"/>
                  <a:pt x="20638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53240" y="5295960"/>
            <a:ext cx="13356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21258" y="14784"/>
                </a:moveTo>
                <a:cubicBezTo>
                  <a:pt x="21320" y="14761"/>
                  <a:pt x="21486" y="14678"/>
                  <a:pt x="21555" y="14709"/>
                </a:cubicBezTo>
                <a:cubicBezTo>
                  <a:pt x="21555" y="14717"/>
                  <a:pt x="21555" y="14726"/>
                  <a:pt x="21555" y="14734"/>
                </a:cubicBezTo>
              </a:path>
              <a:path w="373" h="274">
                <a:moveTo>
                  <a:pt x="21307" y="14982"/>
                </a:moveTo>
                <a:cubicBezTo>
                  <a:pt x="21398" y="14956"/>
                  <a:pt x="21483" y="14921"/>
                  <a:pt x="21580" y="14908"/>
                </a:cubicBezTo>
                <a:cubicBezTo>
                  <a:pt x="21597" y="14908"/>
                  <a:pt x="21613" y="14908"/>
                  <a:pt x="21630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5072040"/>
            <a:ext cx="687240" cy="473040"/>
          </a:xfrm>
          <a:custGeom>
            <a:avLst/>
            <a:gdLst/>
            <a:ahLst/>
            <a:rect l="l" t="t" r="r" b="b"/>
            <a:pathLst>
              <a:path w="1911" h="1316">
                <a:moveTo>
                  <a:pt x="22399" y="14585"/>
                </a:moveTo>
                <a:cubicBezTo>
                  <a:pt x="22399" y="14482"/>
                  <a:pt x="22355" y="14734"/>
                  <a:pt x="22324" y="14833"/>
                </a:cubicBezTo>
                <a:cubicBezTo>
                  <a:pt x="22266" y="15020"/>
                  <a:pt x="22235" y="15161"/>
                  <a:pt x="22225" y="15354"/>
                </a:cubicBezTo>
                <a:cubicBezTo>
                  <a:pt x="22421" y="15400"/>
                  <a:pt x="22547" y="15337"/>
                  <a:pt x="22647" y="15131"/>
                </a:cubicBezTo>
                <a:cubicBezTo>
                  <a:pt x="22647" y="15079"/>
                  <a:pt x="22645" y="15061"/>
                  <a:pt x="22597" y="15056"/>
                </a:cubicBezTo>
                <a:cubicBezTo>
                  <a:pt x="22549" y="15085"/>
                  <a:pt x="22362" y="15250"/>
                  <a:pt x="22473" y="15329"/>
                </a:cubicBezTo>
                <a:cubicBezTo>
                  <a:pt x="22490" y="15321"/>
                  <a:pt x="22506" y="15312"/>
                  <a:pt x="22523" y="15304"/>
                </a:cubicBezTo>
              </a:path>
              <a:path w="1911" h="1316">
                <a:moveTo>
                  <a:pt x="22895" y="14536"/>
                </a:moveTo>
                <a:cubicBezTo>
                  <a:pt x="22875" y="14709"/>
                  <a:pt x="22833" y="14882"/>
                  <a:pt x="22820" y="15056"/>
                </a:cubicBezTo>
                <a:cubicBezTo>
                  <a:pt x="22820" y="15165"/>
                  <a:pt x="22815" y="15192"/>
                  <a:pt x="22845" y="15255"/>
                </a:cubicBezTo>
                <a:cubicBezTo>
                  <a:pt x="23012" y="15231"/>
                  <a:pt x="23165" y="15177"/>
                  <a:pt x="23192" y="14982"/>
                </a:cubicBezTo>
                <a:cubicBezTo>
                  <a:pt x="23163" y="14952"/>
                  <a:pt x="23149" y="14940"/>
                  <a:pt x="23118" y="14932"/>
                </a:cubicBezTo>
                <a:cubicBezTo>
                  <a:pt x="23035" y="15015"/>
                  <a:pt x="22931" y="15142"/>
                  <a:pt x="22994" y="15280"/>
                </a:cubicBezTo>
                <a:cubicBezTo>
                  <a:pt x="23002" y="15280"/>
                  <a:pt x="23011" y="15280"/>
                  <a:pt x="23019" y="15280"/>
                </a:cubicBezTo>
              </a:path>
              <a:path w="1911" h="1316">
                <a:moveTo>
                  <a:pt x="23688" y="14461"/>
                </a:moveTo>
                <a:cubicBezTo>
                  <a:pt x="23504" y="14504"/>
                  <a:pt x="23487" y="14575"/>
                  <a:pt x="23465" y="14759"/>
                </a:cubicBezTo>
                <a:cubicBezTo>
                  <a:pt x="23667" y="14775"/>
                  <a:pt x="23720" y="14664"/>
                  <a:pt x="23688" y="14461"/>
                </a:cubicBezTo>
                <a:cubicBezTo>
                  <a:pt x="23668" y="14421"/>
                  <a:pt x="23660" y="14414"/>
                  <a:pt x="23664" y="14387"/>
                </a:cubicBezTo>
                <a:cubicBezTo>
                  <a:pt x="23910" y="14386"/>
                  <a:pt x="23951" y="14582"/>
                  <a:pt x="23912" y="14833"/>
                </a:cubicBezTo>
                <a:cubicBezTo>
                  <a:pt x="23891" y="14969"/>
                  <a:pt x="23820" y="15099"/>
                  <a:pt x="23788" y="15230"/>
                </a:cubicBezTo>
              </a:path>
              <a:path w="1911" h="1316">
                <a:moveTo>
                  <a:pt x="24036" y="15032"/>
                </a:moveTo>
                <a:cubicBezTo>
                  <a:pt x="24016" y="15109"/>
                  <a:pt x="23992" y="15127"/>
                  <a:pt x="24036" y="15156"/>
                </a:cubicBezTo>
                <a:cubicBezTo>
                  <a:pt x="24105" y="15114"/>
                  <a:pt x="24209" y="14993"/>
                  <a:pt x="24061" y="14932"/>
                </a:cubicBezTo>
                <a:cubicBezTo>
                  <a:pt x="24036" y="14932"/>
                  <a:pt x="24011" y="14932"/>
                  <a:pt x="23986" y="14932"/>
                </a:cubicBezTo>
              </a:path>
              <a:path w="1911" h="1316">
                <a:moveTo>
                  <a:pt x="22647" y="14139"/>
                </a:moveTo>
                <a:cubicBezTo>
                  <a:pt x="22713" y="14182"/>
                  <a:pt x="22913" y="14062"/>
                  <a:pt x="23019" y="14089"/>
                </a:cubicBezTo>
                <a:cubicBezTo>
                  <a:pt x="23019" y="14106"/>
                  <a:pt x="23019" y="14122"/>
                  <a:pt x="23019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5960" y="5786280"/>
            <a:ext cx="19692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15205" y="16123"/>
                </a:moveTo>
                <a:cubicBezTo>
                  <a:pt x="15347" y="16028"/>
                  <a:pt x="15076" y="16066"/>
                  <a:pt x="15032" y="16073"/>
                </a:cubicBezTo>
                <a:cubicBezTo>
                  <a:pt x="14853" y="16118"/>
                  <a:pt x="14804" y="16124"/>
                  <a:pt x="14709" y="16197"/>
                </a:cubicBezTo>
                <a:cubicBezTo>
                  <a:pt x="14770" y="16405"/>
                  <a:pt x="14981" y="16427"/>
                  <a:pt x="15056" y="16619"/>
                </a:cubicBezTo>
                <a:cubicBezTo>
                  <a:pt x="15093" y="16714"/>
                  <a:pt x="14905" y="16715"/>
                  <a:pt x="14883" y="16718"/>
                </a:cubicBezTo>
                <a:cubicBezTo>
                  <a:pt x="14827" y="16570"/>
                  <a:pt x="14971" y="16469"/>
                  <a:pt x="15056" y="16346"/>
                </a:cubicBezTo>
                <a:cubicBezTo>
                  <a:pt x="15153" y="16206"/>
                  <a:pt x="15156" y="16246"/>
                  <a:pt x="15156" y="161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5732640"/>
            <a:ext cx="1017720" cy="358560"/>
          </a:xfrm>
          <a:custGeom>
            <a:avLst/>
            <a:gdLst/>
            <a:ahLst/>
            <a:rect l="l" t="t" r="r" b="b"/>
            <a:pathLst>
              <a:path w="2829" h="993">
                <a:moveTo>
                  <a:pt x="14362" y="16917"/>
                </a:moveTo>
                <a:cubicBezTo>
                  <a:pt x="14362" y="16724"/>
                  <a:pt x="14364" y="16538"/>
                  <a:pt x="14337" y="16346"/>
                </a:cubicBezTo>
                <a:cubicBezTo>
                  <a:pt x="14320" y="16226"/>
                  <a:pt x="14316" y="16120"/>
                  <a:pt x="14312" y="15999"/>
                </a:cubicBezTo>
                <a:cubicBezTo>
                  <a:pt x="14951" y="15999"/>
                  <a:pt x="15584" y="15966"/>
                  <a:pt x="16222" y="15949"/>
                </a:cubicBezTo>
                <a:cubicBezTo>
                  <a:pt x="16246" y="15948"/>
                  <a:pt x="17119" y="15881"/>
                  <a:pt x="17140" y="15925"/>
                </a:cubicBezTo>
                <a:cubicBezTo>
                  <a:pt x="17140" y="15997"/>
                  <a:pt x="17097" y="16026"/>
                  <a:pt x="16991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32200" y="5830920"/>
            <a:ext cx="46080" cy="250920"/>
          </a:xfrm>
          <a:custGeom>
            <a:avLst/>
            <a:gdLst/>
            <a:ahLst/>
            <a:rect l="l" t="t" r="r" b="b"/>
            <a:pathLst>
              <a:path w="126" h="696">
                <a:moveTo>
                  <a:pt x="13146" y="16197"/>
                </a:moveTo>
                <a:cubicBezTo>
                  <a:pt x="13247" y="16322"/>
                  <a:pt x="13217" y="16572"/>
                  <a:pt x="13196" y="16743"/>
                </a:cubicBezTo>
                <a:cubicBezTo>
                  <a:pt x="13172" y="16944"/>
                  <a:pt x="13167" y="16914"/>
                  <a:pt x="13271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6200" y="5875200"/>
            <a:ext cx="152640" cy="196920"/>
          </a:xfrm>
          <a:custGeom>
            <a:avLst/>
            <a:gdLst/>
            <a:ahLst/>
            <a:rect l="l" t="t" r="r" b="b"/>
            <a:pathLst>
              <a:path w="423" h="547">
                <a:moveTo>
                  <a:pt x="13494" y="16321"/>
                </a:moveTo>
                <a:cubicBezTo>
                  <a:pt x="13596" y="16321"/>
                  <a:pt x="13625" y="16313"/>
                  <a:pt x="13692" y="16371"/>
                </a:cubicBezTo>
                <a:cubicBezTo>
                  <a:pt x="13650" y="16553"/>
                  <a:pt x="13506" y="16658"/>
                  <a:pt x="13370" y="16793"/>
                </a:cubicBezTo>
                <a:cubicBezTo>
                  <a:pt x="13345" y="16818"/>
                  <a:pt x="13320" y="16842"/>
                  <a:pt x="13295" y="16867"/>
                </a:cubicBezTo>
                <a:cubicBezTo>
                  <a:pt x="13441" y="16853"/>
                  <a:pt x="13571" y="16811"/>
                  <a:pt x="13717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49880" y="5438880"/>
            <a:ext cx="162000" cy="204840"/>
          </a:xfrm>
          <a:custGeom>
            <a:avLst/>
            <a:gdLst/>
            <a:ahLst/>
            <a:rect l="l" t="t" r="r" b="b"/>
            <a:pathLst>
              <a:path w="448" h="572">
                <a:moveTo>
                  <a:pt x="14932" y="15106"/>
                </a:moveTo>
                <a:cubicBezTo>
                  <a:pt x="14769" y="15106"/>
                  <a:pt x="14736" y="15204"/>
                  <a:pt x="14660" y="15354"/>
                </a:cubicBezTo>
                <a:cubicBezTo>
                  <a:pt x="14592" y="15511"/>
                  <a:pt x="14560" y="15552"/>
                  <a:pt x="14635" y="15652"/>
                </a:cubicBezTo>
                <a:cubicBezTo>
                  <a:pt x="14890" y="15652"/>
                  <a:pt x="15098" y="15579"/>
                  <a:pt x="15007" y="15255"/>
                </a:cubicBezTo>
                <a:cubicBezTo>
                  <a:pt x="14963" y="15099"/>
                  <a:pt x="14794" y="15075"/>
                  <a:pt x="14734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37160" y="5983200"/>
            <a:ext cx="1764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5429" y="16669"/>
                </a:moveTo>
                <a:cubicBezTo>
                  <a:pt x="15404" y="16669"/>
                  <a:pt x="15396" y="16669"/>
                  <a:pt x="15404" y="16694"/>
                </a:cubicBezTo>
                <a:cubicBezTo>
                  <a:pt x="15426" y="16520"/>
                  <a:pt x="15366" y="16694"/>
                  <a:pt x="15404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10160" y="5670720"/>
            <a:ext cx="34920" cy="36360"/>
          </a:xfrm>
          <a:custGeom>
            <a:avLst/>
            <a:gdLst/>
            <a:ahLst/>
            <a:rect l="l" t="t" r="r" b="b"/>
            <a:pathLst>
              <a:path w="101" h="100">
                <a:moveTo>
                  <a:pt x="15404" y="15801"/>
                </a:moveTo>
                <a:cubicBezTo>
                  <a:pt x="15370" y="15790"/>
                  <a:pt x="15370" y="15753"/>
                  <a:pt x="15354" y="15801"/>
                </a:cubicBezTo>
                <a:cubicBezTo>
                  <a:pt x="15381" y="15904"/>
                  <a:pt x="15425" y="15792"/>
                  <a:pt x="15404" y="15776"/>
                </a:cubicBezTo>
                <a:cubicBezTo>
                  <a:pt x="15352" y="15736"/>
                  <a:pt x="15321" y="15801"/>
                  <a:pt x="15304" y="15825"/>
                </a:cubicBezTo>
                <a:cubicBezTo>
                  <a:pt x="15357" y="15852"/>
                  <a:pt x="15379" y="15813"/>
                  <a:pt x="15404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0" y="5813280"/>
            <a:ext cx="1350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5925" y="16173"/>
                </a:moveTo>
                <a:cubicBezTo>
                  <a:pt x="15801" y="16157"/>
                  <a:pt x="15757" y="16152"/>
                  <a:pt x="15701" y="16297"/>
                </a:cubicBezTo>
                <a:cubicBezTo>
                  <a:pt x="15668" y="16382"/>
                  <a:pt x="15568" y="16788"/>
                  <a:pt x="15776" y="16793"/>
                </a:cubicBezTo>
                <a:cubicBezTo>
                  <a:pt x="15969" y="16798"/>
                  <a:pt x="15993" y="16653"/>
                  <a:pt x="16024" y="16520"/>
                </a:cubicBezTo>
                <a:cubicBezTo>
                  <a:pt x="15931" y="16466"/>
                  <a:pt x="15858" y="16433"/>
                  <a:pt x="15751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26080" y="583092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5801" y="16197"/>
                </a:moveTo>
                <a:cubicBezTo>
                  <a:pt x="15739" y="16290"/>
                  <a:pt x="15685" y="16386"/>
                  <a:pt x="15652" y="16495"/>
                </a:cubicBezTo>
                <a:cubicBezTo>
                  <a:pt x="15641" y="16530"/>
                  <a:pt x="15599" y="16685"/>
                  <a:pt x="15652" y="16718"/>
                </a:cubicBezTo>
                <a:cubicBezTo>
                  <a:pt x="15719" y="16760"/>
                  <a:pt x="15806" y="16784"/>
                  <a:pt x="15875" y="16743"/>
                </a:cubicBezTo>
                <a:cubicBezTo>
                  <a:pt x="15992" y="16674"/>
                  <a:pt x="15974" y="16593"/>
                  <a:pt x="15974" y="16470"/>
                </a:cubicBezTo>
                <a:cubicBezTo>
                  <a:pt x="15974" y="16368"/>
                  <a:pt x="15934" y="16348"/>
                  <a:pt x="15900" y="16272"/>
                </a:cubicBezTo>
                <a:cubicBezTo>
                  <a:pt x="15874" y="16214"/>
                  <a:pt x="15814" y="16222"/>
                  <a:pt x="15751" y="16222"/>
                </a:cubicBezTo>
                <a:cubicBezTo>
                  <a:pt x="15726" y="16222"/>
                  <a:pt x="15718" y="16222"/>
                  <a:pt x="15701" y="16222"/>
                </a:cubicBezTo>
                <a:cubicBezTo>
                  <a:pt x="15644" y="16368"/>
                  <a:pt x="15634" y="16542"/>
                  <a:pt x="15677" y="16694"/>
                </a:cubicBezTo>
                <a:cubicBezTo>
                  <a:pt x="15712" y="16729"/>
                  <a:pt x="15734" y="16741"/>
                  <a:pt x="15776" y="16743"/>
                </a:cubicBezTo>
                <a:cubicBezTo>
                  <a:pt x="15885" y="16733"/>
                  <a:pt x="15945" y="16715"/>
                  <a:pt x="15974" y="16594"/>
                </a:cubicBezTo>
                <a:cubicBezTo>
                  <a:pt x="15974" y="16553"/>
                  <a:pt x="15974" y="16545"/>
                  <a:pt x="15974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80080" y="543888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5850" y="15106"/>
                </a:moveTo>
                <a:cubicBezTo>
                  <a:pt x="15909" y="15126"/>
                  <a:pt x="15842" y="15227"/>
                  <a:pt x="15825" y="15280"/>
                </a:cubicBezTo>
                <a:cubicBezTo>
                  <a:pt x="15796" y="15367"/>
                  <a:pt x="15793" y="15463"/>
                  <a:pt x="15776" y="15553"/>
                </a:cubicBezTo>
                <a:cubicBezTo>
                  <a:pt x="15766" y="15603"/>
                  <a:pt x="15773" y="15659"/>
                  <a:pt x="15801" y="15701"/>
                </a:cubicBezTo>
                <a:cubicBezTo>
                  <a:pt x="15839" y="15759"/>
                  <a:pt x="15962" y="15767"/>
                  <a:pt x="16024" y="15751"/>
                </a:cubicBezTo>
                <a:cubicBezTo>
                  <a:pt x="16084" y="15735"/>
                  <a:pt x="16180" y="15698"/>
                  <a:pt x="16222" y="15652"/>
                </a:cubicBezTo>
                <a:cubicBezTo>
                  <a:pt x="16259" y="15612"/>
                  <a:pt x="16235" y="15590"/>
                  <a:pt x="16222" y="15553"/>
                </a:cubicBezTo>
                <a:cubicBezTo>
                  <a:pt x="16209" y="15516"/>
                  <a:pt x="16193" y="15528"/>
                  <a:pt x="16148" y="15528"/>
                </a:cubicBezTo>
                <a:cubicBezTo>
                  <a:pt x="16075" y="15528"/>
                  <a:pt x="16068" y="15524"/>
                  <a:pt x="16049" y="15602"/>
                </a:cubicBezTo>
                <a:cubicBezTo>
                  <a:pt x="16039" y="15643"/>
                  <a:pt x="16044" y="15667"/>
                  <a:pt x="16073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40240" y="6081840"/>
            <a:ext cx="115920" cy="16956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4833" y="16892"/>
                </a:moveTo>
                <a:cubicBezTo>
                  <a:pt x="14864" y="16938"/>
                  <a:pt x="15029" y="16956"/>
                  <a:pt x="15106" y="16942"/>
                </a:cubicBezTo>
                <a:cubicBezTo>
                  <a:pt x="15114" y="16934"/>
                  <a:pt x="15123" y="16925"/>
                  <a:pt x="15131" y="16917"/>
                </a:cubicBezTo>
                <a:cubicBezTo>
                  <a:pt x="15179" y="17059"/>
                  <a:pt x="15132" y="17188"/>
                  <a:pt x="15106" y="17338"/>
                </a:cubicBezTo>
                <a:cubicBezTo>
                  <a:pt x="15106" y="17363"/>
                  <a:pt x="15106" y="17371"/>
                  <a:pt x="1513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9720" y="6081840"/>
            <a:ext cx="16164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15528" y="16991"/>
                </a:moveTo>
                <a:cubicBezTo>
                  <a:pt x="15608" y="16991"/>
                  <a:pt x="15661" y="16936"/>
                  <a:pt x="15726" y="16892"/>
                </a:cubicBezTo>
                <a:cubicBezTo>
                  <a:pt x="15752" y="17073"/>
                  <a:pt x="15709" y="17086"/>
                  <a:pt x="15602" y="17239"/>
                </a:cubicBezTo>
                <a:cubicBezTo>
                  <a:pt x="15565" y="17296"/>
                  <a:pt x="15549" y="17299"/>
                  <a:pt x="15553" y="17338"/>
                </a:cubicBezTo>
                <a:cubicBezTo>
                  <a:pt x="15689" y="17323"/>
                  <a:pt x="15810" y="17289"/>
                  <a:pt x="15949" y="17289"/>
                </a:cubicBezTo>
                <a:cubicBezTo>
                  <a:pt x="15957" y="17289"/>
                  <a:pt x="15966" y="17289"/>
                  <a:pt x="15974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41960" y="6313320"/>
            <a:ext cx="608040" cy="71640"/>
          </a:xfrm>
          <a:custGeom>
            <a:avLst/>
            <a:gdLst/>
            <a:ahLst/>
            <a:rect l="l" t="t" r="r" b="b"/>
            <a:pathLst>
              <a:path w="1688" h="199">
                <a:moveTo>
                  <a:pt x="14560" y="17735"/>
                </a:moveTo>
                <a:cubicBezTo>
                  <a:pt x="14984" y="17651"/>
                  <a:pt x="15395" y="17621"/>
                  <a:pt x="15825" y="17587"/>
                </a:cubicBezTo>
                <a:cubicBezTo>
                  <a:pt x="15977" y="17575"/>
                  <a:pt x="16102" y="17557"/>
                  <a:pt x="16247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6960" y="6242040"/>
            <a:ext cx="1000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4188" y="17363"/>
                </a:moveTo>
                <a:cubicBezTo>
                  <a:pt x="14250" y="17357"/>
                  <a:pt x="14407" y="17299"/>
                  <a:pt x="14461" y="17338"/>
                </a:cubicBezTo>
                <a:cubicBezTo>
                  <a:pt x="14461" y="17346"/>
                  <a:pt x="14461" y="17355"/>
                  <a:pt x="1446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3080" y="6402240"/>
            <a:ext cx="16020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6148" y="17785"/>
                </a:moveTo>
                <a:cubicBezTo>
                  <a:pt x="16006" y="17809"/>
                  <a:pt x="15806" y="17847"/>
                  <a:pt x="15701" y="17959"/>
                </a:cubicBezTo>
                <a:cubicBezTo>
                  <a:pt x="15701" y="17967"/>
                  <a:pt x="15701" y="17975"/>
                  <a:pt x="15701" y="17983"/>
                </a:cubicBezTo>
                <a:cubicBezTo>
                  <a:pt x="15808" y="18078"/>
                  <a:pt x="15955" y="18102"/>
                  <a:pt x="16098" y="18157"/>
                </a:cubicBezTo>
                <a:cubicBezTo>
                  <a:pt x="16064" y="18226"/>
                  <a:pt x="15983" y="18339"/>
                  <a:pt x="15900" y="18231"/>
                </a:cubicBezTo>
                <a:cubicBezTo>
                  <a:pt x="15857" y="18175"/>
                  <a:pt x="15999" y="17948"/>
                  <a:pt x="16024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0280" y="5813280"/>
            <a:ext cx="125640" cy="204840"/>
          </a:xfrm>
          <a:custGeom>
            <a:avLst/>
            <a:gdLst/>
            <a:ahLst/>
            <a:rect l="l" t="t" r="r" b="b"/>
            <a:pathLst>
              <a:path w="349" h="571">
                <a:moveTo>
                  <a:pt x="16520" y="16247"/>
                </a:moveTo>
                <a:cubicBezTo>
                  <a:pt x="16510" y="16207"/>
                  <a:pt x="16497" y="16158"/>
                  <a:pt x="16446" y="16148"/>
                </a:cubicBezTo>
                <a:cubicBezTo>
                  <a:pt x="16251" y="16111"/>
                  <a:pt x="16222" y="16387"/>
                  <a:pt x="16222" y="16520"/>
                </a:cubicBezTo>
                <a:cubicBezTo>
                  <a:pt x="16222" y="16754"/>
                  <a:pt x="16493" y="16791"/>
                  <a:pt x="16570" y="16570"/>
                </a:cubicBezTo>
                <a:cubicBezTo>
                  <a:pt x="16579" y="16544"/>
                  <a:pt x="16545" y="16223"/>
                  <a:pt x="16421" y="16297"/>
                </a:cubicBezTo>
                <a:cubicBezTo>
                  <a:pt x="16421" y="16313"/>
                  <a:pt x="16421" y="16330"/>
                  <a:pt x="16421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29200" y="6081840"/>
            <a:ext cx="17640" cy="169560"/>
          </a:xfrm>
          <a:custGeom>
            <a:avLst/>
            <a:gdLst/>
            <a:ahLst/>
            <a:rect l="l" t="t" r="r" b="b"/>
            <a:pathLst>
              <a:path w="51" h="472">
                <a:moveTo>
                  <a:pt x="16495" y="16892"/>
                </a:moveTo>
                <a:cubicBezTo>
                  <a:pt x="16440" y="17002"/>
                  <a:pt x="16508" y="17117"/>
                  <a:pt x="16520" y="17239"/>
                </a:cubicBezTo>
                <a:cubicBezTo>
                  <a:pt x="16520" y="17313"/>
                  <a:pt x="16520" y="17322"/>
                  <a:pt x="16520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30920" y="6392880"/>
            <a:ext cx="135000" cy="171360"/>
          </a:xfrm>
          <a:custGeom>
            <a:avLst/>
            <a:gdLst/>
            <a:ahLst/>
            <a:rect l="l" t="t" r="r" b="b"/>
            <a:pathLst>
              <a:path w="374" h="472">
                <a:moveTo>
                  <a:pt x="16495" y="17785"/>
                </a:moveTo>
                <a:cubicBezTo>
                  <a:pt x="16449" y="17754"/>
                  <a:pt x="16357" y="17804"/>
                  <a:pt x="16297" y="17859"/>
                </a:cubicBezTo>
                <a:cubicBezTo>
                  <a:pt x="16218" y="17932"/>
                  <a:pt x="16129" y="18100"/>
                  <a:pt x="16222" y="18207"/>
                </a:cubicBezTo>
                <a:cubicBezTo>
                  <a:pt x="16316" y="18315"/>
                  <a:pt x="16541" y="18149"/>
                  <a:pt x="16570" y="18058"/>
                </a:cubicBezTo>
                <a:cubicBezTo>
                  <a:pt x="16585" y="18013"/>
                  <a:pt x="16563" y="17828"/>
                  <a:pt x="16495" y="17810"/>
                </a:cubicBezTo>
                <a:cubicBezTo>
                  <a:pt x="16435" y="17794"/>
                  <a:pt x="16377" y="17826"/>
                  <a:pt x="16321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38920" y="5411880"/>
            <a:ext cx="169920" cy="241200"/>
          </a:xfrm>
          <a:custGeom>
            <a:avLst/>
            <a:gdLst/>
            <a:ahLst/>
            <a:rect l="l" t="t" r="r" b="b"/>
            <a:pathLst>
              <a:path w="472" h="670">
                <a:moveTo>
                  <a:pt x="16520" y="15032"/>
                </a:moveTo>
                <a:cubicBezTo>
                  <a:pt x="16499" y="15132"/>
                  <a:pt x="16495" y="15221"/>
                  <a:pt x="16495" y="15329"/>
                </a:cubicBezTo>
                <a:cubicBezTo>
                  <a:pt x="16495" y="15401"/>
                  <a:pt x="16450" y="15612"/>
                  <a:pt x="16545" y="15652"/>
                </a:cubicBezTo>
                <a:cubicBezTo>
                  <a:pt x="16659" y="15700"/>
                  <a:pt x="16797" y="15647"/>
                  <a:pt x="16892" y="15577"/>
                </a:cubicBezTo>
                <a:cubicBezTo>
                  <a:pt x="16939" y="15531"/>
                  <a:pt x="16953" y="15519"/>
                  <a:pt x="16966" y="15478"/>
                </a:cubicBezTo>
                <a:cubicBezTo>
                  <a:pt x="16899" y="15433"/>
                  <a:pt x="16816" y="15403"/>
                  <a:pt x="16768" y="15503"/>
                </a:cubicBezTo>
                <a:cubicBezTo>
                  <a:pt x="16744" y="15553"/>
                  <a:pt x="16727" y="15645"/>
                  <a:pt x="16718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9200" y="5313240"/>
            <a:ext cx="125640" cy="36720"/>
          </a:xfrm>
          <a:custGeom>
            <a:avLst/>
            <a:gdLst/>
            <a:ahLst/>
            <a:rect l="l" t="t" r="r" b="b"/>
            <a:pathLst>
              <a:path w="349" h="100">
                <a:moveTo>
                  <a:pt x="16470" y="14784"/>
                </a:moveTo>
                <a:cubicBezTo>
                  <a:pt x="16575" y="14784"/>
                  <a:pt x="16731" y="14741"/>
                  <a:pt x="16818" y="14759"/>
                </a:cubicBezTo>
                <a:cubicBezTo>
                  <a:pt x="16938" y="14783"/>
                  <a:pt x="16589" y="14831"/>
                  <a:pt x="16470" y="14858"/>
                </a:cubicBezTo>
                <a:cubicBezTo>
                  <a:pt x="16576" y="14858"/>
                  <a:pt x="16693" y="14817"/>
                  <a:pt x="16793" y="14784"/>
                </a:cubicBezTo>
                <a:cubicBezTo>
                  <a:pt x="16859" y="14762"/>
                  <a:pt x="16544" y="14785"/>
                  <a:pt x="16594" y="14833"/>
                </a:cubicBezTo>
                <a:cubicBezTo>
                  <a:pt x="16669" y="14833"/>
                  <a:pt x="16711" y="14828"/>
                  <a:pt x="16768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05640" y="657216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15850" y="18306"/>
                </a:moveTo>
                <a:cubicBezTo>
                  <a:pt x="15950" y="18286"/>
                  <a:pt x="16042" y="18261"/>
                  <a:pt x="16148" y="18256"/>
                </a:cubicBezTo>
                <a:cubicBezTo>
                  <a:pt x="16156" y="18256"/>
                  <a:pt x="16165" y="18256"/>
                  <a:pt x="16173" y="18256"/>
                </a:cubicBezTo>
                <a:cubicBezTo>
                  <a:pt x="16188" y="18367"/>
                  <a:pt x="16140" y="18456"/>
                  <a:pt x="16148" y="18554"/>
                </a:cubicBezTo>
                <a:cubicBezTo>
                  <a:pt x="16156" y="18554"/>
                  <a:pt x="16165" y="18554"/>
                  <a:pt x="16173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5200" y="6562800"/>
            <a:ext cx="81000" cy="108000"/>
          </a:xfrm>
          <a:custGeom>
            <a:avLst/>
            <a:gdLst/>
            <a:ahLst/>
            <a:rect l="l" t="t" r="r" b="b"/>
            <a:pathLst>
              <a:path w="225" h="299">
                <a:moveTo>
                  <a:pt x="16371" y="18256"/>
                </a:moveTo>
                <a:cubicBezTo>
                  <a:pt x="16421" y="18219"/>
                  <a:pt x="16568" y="18178"/>
                  <a:pt x="16520" y="18306"/>
                </a:cubicBezTo>
                <a:cubicBezTo>
                  <a:pt x="16443" y="18410"/>
                  <a:pt x="16414" y="18447"/>
                  <a:pt x="16346" y="18504"/>
                </a:cubicBezTo>
                <a:cubicBezTo>
                  <a:pt x="16267" y="18583"/>
                  <a:pt x="16514" y="18492"/>
                  <a:pt x="16545" y="184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80080" y="6715080"/>
            <a:ext cx="26676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15776" y="18703"/>
                </a:moveTo>
                <a:cubicBezTo>
                  <a:pt x="15969" y="18703"/>
                  <a:pt x="16155" y="18689"/>
                  <a:pt x="16346" y="18678"/>
                </a:cubicBezTo>
                <a:cubicBezTo>
                  <a:pt x="16447" y="18678"/>
                  <a:pt x="16468" y="18688"/>
                  <a:pt x="16520" y="18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11920" y="671508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6495" y="18678"/>
                </a:moveTo>
                <a:cubicBezTo>
                  <a:pt x="16475" y="18726"/>
                  <a:pt x="16441" y="18779"/>
                  <a:pt x="16421" y="18827"/>
                </a:cubicBezTo>
                <a:cubicBezTo>
                  <a:pt x="16509" y="18885"/>
                  <a:pt x="16582" y="18879"/>
                  <a:pt x="16644" y="18777"/>
                </a:cubicBezTo>
                <a:cubicBezTo>
                  <a:pt x="16652" y="18752"/>
                  <a:pt x="16661" y="18728"/>
                  <a:pt x="16669" y="18703"/>
                </a:cubicBezTo>
                <a:cubicBezTo>
                  <a:pt x="16655" y="18695"/>
                  <a:pt x="16557" y="18641"/>
                  <a:pt x="16545" y="18653"/>
                </a:cubicBezTo>
                <a:cubicBezTo>
                  <a:pt x="16545" y="18661"/>
                  <a:pt x="16545" y="18670"/>
                  <a:pt x="16545" y="18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6080" y="4510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128" y="12526"/>
                </a:moveTo>
                <a:lnTo>
                  <a:pt x="9128" y="125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4160" y="4268880"/>
            <a:ext cx="490680" cy="473040"/>
          </a:xfrm>
          <a:custGeom>
            <a:avLst/>
            <a:gdLst/>
            <a:ahLst/>
            <a:rect l="l" t="t" r="r" b="b"/>
            <a:pathLst>
              <a:path w="1365" h="1315">
                <a:moveTo>
                  <a:pt x="3150" y="11956"/>
                </a:moveTo>
                <a:cubicBezTo>
                  <a:pt x="3175" y="11931"/>
                  <a:pt x="3200" y="11906"/>
                  <a:pt x="3225" y="11881"/>
                </a:cubicBezTo>
                <a:cubicBezTo>
                  <a:pt x="3203" y="11818"/>
                  <a:pt x="2965" y="11867"/>
                  <a:pt x="2927" y="11881"/>
                </a:cubicBezTo>
                <a:cubicBezTo>
                  <a:pt x="2610" y="11995"/>
                  <a:pt x="2970" y="12123"/>
                  <a:pt x="3076" y="12229"/>
                </a:cubicBezTo>
                <a:cubicBezTo>
                  <a:pt x="3216" y="12370"/>
                  <a:pt x="2936" y="12348"/>
                  <a:pt x="2853" y="12353"/>
                </a:cubicBezTo>
                <a:cubicBezTo>
                  <a:pt x="2937" y="12235"/>
                  <a:pt x="3089" y="12141"/>
                  <a:pt x="3175" y="12005"/>
                </a:cubicBezTo>
                <a:cubicBezTo>
                  <a:pt x="3175" y="11997"/>
                  <a:pt x="3175" y="11989"/>
                  <a:pt x="3175" y="11981"/>
                </a:cubicBezTo>
              </a:path>
              <a:path w="1365" h="1315">
                <a:moveTo>
                  <a:pt x="3497" y="11931"/>
                </a:moveTo>
                <a:cubicBezTo>
                  <a:pt x="3541" y="11916"/>
                  <a:pt x="3653" y="11854"/>
                  <a:pt x="3696" y="11956"/>
                </a:cubicBezTo>
                <a:cubicBezTo>
                  <a:pt x="3759" y="12105"/>
                  <a:pt x="3487" y="12247"/>
                  <a:pt x="3398" y="12328"/>
                </a:cubicBezTo>
                <a:cubicBezTo>
                  <a:pt x="3540" y="12315"/>
                  <a:pt x="3676" y="12303"/>
                  <a:pt x="3820" y="12303"/>
                </a:cubicBezTo>
              </a:path>
              <a:path w="1365" h="1315">
                <a:moveTo>
                  <a:pt x="2456" y="12576"/>
                </a:moveTo>
                <a:cubicBezTo>
                  <a:pt x="2801" y="12546"/>
                  <a:pt x="3151" y="12513"/>
                  <a:pt x="3497" y="12477"/>
                </a:cubicBezTo>
                <a:cubicBezTo>
                  <a:pt x="3618" y="12464"/>
                  <a:pt x="3676" y="12411"/>
                  <a:pt x="3721" y="12502"/>
                </a:cubicBezTo>
              </a:path>
              <a:path w="1365" h="1315">
                <a:moveTo>
                  <a:pt x="2580" y="12725"/>
                </a:moveTo>
                <a:cubicBezTo>
                  <a:pt x="2554" y="12742"/>
                  <a:pt x="2525" y="13031"/>
                  <a:pt x="2480" y="13146"/>
                </a:cubicBezTo>
                <a:cubicBezTo>
                  <a:pt x="2444" y="13184"/>
                  <a:pt x="2445" y="13177"/>
                  <a:pt x="2505" y="13097"/>
                </a:cubicBezTo>
              </a:path>
              <a:path w="1365" h="1315">
                <a:moveTo>
                  <a:pt x="2877" y="12774"/>
                </a:moveTo>
                <a:cubicBezTo>
                  <a:pt x="2859" y="12920"/>
                  <a:pt x="2820" y="13028"/>
                  <a:pt x="2828" y="13171"/>
                </a:cubicBezTo>
                <a:cubicBezTo>
                  <a:pt x="3028" y="13131"/>
                  <a:pt x="3103" y="13087"/>
                  <a:pt x="3150" y="12898"/>
                </a:cubicBezTo>
                <a:cubicBezTo>
                  <a:pt x="3090" y="12870"/>
                  <a:pt x="3007" y="12840"/>
                  <a:pt x="2977" y="12799"/>
                </a:cubicBezTo>
              </a:path>
              <a:path w="1365" h="1315">
                <a:moveTo>
                  <a:pt x="3547" y="12750"/>
                </a:moveTo>
                <a:cubicBezTo>
                  <a:pt x="3392" y="12885"/>
                  <a:pt x="3399" y="12985"/>
                  <a:pt x="3448" y="13171"/>
                </a:cubicBezTo>
                <a:cubicBezTo>
                  <a:pt x="3527" y="13151"/>
                  <a:pt x="3931" y="12962"/>
                  <a:pt x="3696" y="12824"/>
                </a:cubicBezTo>
                <a:cubicBezTo>
                  <a:pt x="3646" y="12816"/>
                  <a:pt x="3597" y="12807"/>
                  <a:pt x="3547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2160" y="4581360"/>
            <a:ext cx="474840" cy="115920"/>
          </a:xfrm>
          <a:custGeom>
            <a:avLst/>
            <a:gdLst/>
            <a:ahLst/>
            <a:rect l="l" t="t" r="r" b="b"/>
            <a:pathLst>
              <a:path w="1316" h="323">
                <a:moveTo>
                  <a:pt x="8607" y="12849"/>
                </a:moveTo>
                <a:cubicBezTo>
                  <a:pt x="8607" y="12806"/>
                  <a:pt x="8617" y="12811"/>
                  <a:pt x="8582" y="12799"/>
                </a:cubicBezTo>
                <a:cubicBezTo>
                  <a:pt x="8606" y="12870"/>
                  <a:pt x="8607" y="12781"/>
                  <a:pt x="8607" y="12750"/>
                </a:cubicBezTo>
                <a:cubicBezTo>
                  <a:pt x="8607" y="12682"/>
                  <a:pt x="8527" y="12780"/>
                  <a:pt x="8508" y="12799"/>
                </a:cubicBezTo>
                <a:cubicBezTo>
                  <a:pt x="8528" y="12839"/>
                  <a:pt x="8524" y="12808"/>
                  <a:pt x="8533" y="12774"/>
                </a:cubicBezTo>
              </a:path>
              <a:path w="1316" h="323">
                <a:moveTo>
                  <a:pt x="8607" y="12774"/>
                </a:moveTo>
                <a:cubicBezTo>
                  <a:pt x="8552" y="12792"/>
                  <a:pt x="8602" y="12839"/>
                  <a:pt x="8607" y="12898"/>
                </a:cubicBezTo>
                <a:cubicBezTo>
                  <a:pt x="8611" y="12941"/>
                  <a:pt x="8660" y="12990"/>
                  <a:pt x="8706" y="12998"/>
                </a:cubicBezTo>
                <a:cubicBezTo>
                  <a:pt x="8765" y="13009"/>
                  <a:pt x="8878" y="12997"/>
                  <a:pt x="8930" y="12973"/>
                </a:cubicBezTo>
                <a:cubicBezTo>
                  <a:pt x="8949" y="12964"/>
                  <a:pt x="9047" y="12931"/>
                  <a:pt x="9054" y="12923"/>
                </a:cubicBezTo>
                <a:cubicBezTo>
                  <a:pt x="9076" y="12897"/>
                  <a:pt x="9066" y="12886"/>
                  <a:pt x="9103" y="12874"/>
                </a:cubicBezTo>
                <a:cubicBezTo>
                  <a:pt x="9103" y="12927"/>
                  <a:pt x="9100" y="12925"/>
                  <a:pt x="9128" y="12948"/>
                </a:cubicBezTo>
                <a:cubicBezTo>
                  <a:pt x="9223" y="13028"/>
                  <a:pt x="9279" y="13047"/>
                  <a:pt x="9401" y="13047"/>
                </a:cubicBezTo>
                <a:cubicBezTo>
                  <a:pt x="9485" y="13047"/>
                  <a:pt x="9547" y="13040"/>
                  <a:pt x="9624" y="13022"/>
                </a:cubicBezTo>
                <a:cubicBezTo>
                  <a:pt x="9669" y="13011"/>
                  <a:pt x="9732" y="12980"/>
                  <a:pt x="9748" y="12973"/>
                </a:cubicBezTo>
                <a:cubicBezTo>
                  <a:pt x="9775" y="12962"/>
                  <a:pt x="9794" y="12956"/>
                  <a:pt x="9798" y="12923"/>
                </a:cubicBezTo>
                <a:cubicBezTo>
                  <a:pt x="9798" y="12898"/>
                  <a:pt x="9798" y="12890"/>
                  <a:pt x="982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36960" y="5143680"/>
            <a:ext cx="758880" cy="438120"/>
          </a:xfrm>
          <a:custGeom>
            <a:avLst/>
            <a:gdLst/>
            <a:ahLst/>
            <a:rect l="l" t="t" r="r" b="b"/>
            <a:pathLst>
              <a:path w="2109" h="1216">
                <a:moveTo>
                  <a:pt x="8905" y="14511"/>
                </a:moveTo>
                <a:cubicBezTo>
                  <a:pt x="8905" y="14461"/>
                  <a:pt x="8905" y="14412"/>
                  <a:pt x="8905" y="14362"/>
                </a:cubicBezTo>
                <a:cubicBezTo>
                  <a:pt x="8964" y="14538"/>
                  <a:pt x="8921" y="14840"/>
                  <a:pt x="8880" y="15056"/>
                </a:cubicBezTo>
                <a:cubicBezTo>
                  <a:pt x="8846" y="15237"/>
                  <a:pt x="8909" y="15031"/>
                  <a:pt x="8930" y="14982"/>
                </a:cubicBezTo>
              </a:path>
              <a:path w="2109" h="1216">
                <a:moveTo>
                  <a:pt x="9302" y="14362"/>
                </a:moveTo>
                <a:cubicBezTo>
                  <a:pt x="9231" y="14362"/>
                  <a:pt x="9382" y="14325"/>
                  <a:pt x="9451" y="14312"/>
                </a:cubicBezTo>
                <a:cubicBezTo>
                  <a:pt x="9552" y="14292"/>
                  <a:pt x="9624" y="14288"/>
                  <a:pt x="9723" y="14288"/>
                </a:cubicBezTo>
                <a:cubicBezTo>
                  <a:pt x="9708" y="14517"/>
                  <a:pt x="9613" y="14712"/>
                  <a:pt x="9550" y="14932"/>
                </a:cubicBezTo>
                <a:cubicBezTo>
                  <a:pt x="9511" y="15069"/>
                  <a:pt x="9500" y="15103"/>
                  <a:pt x="9500" y="15230"/>
                </a:cubicBezTo>
              </a:path>
              <a:path w="2109" h="1216">
                <a:moveTo>
                  <a:pt x="10195" y="14709"/>
                </a:moveTo>
                <a:cubicBezTo>
                  <a:pt x="10280" y="14644"/>
                  <a:pt x="10393" y="14684"/>
                  <a:pt x="10492" y="14660"/>
                </a:cubicBezTo>
                <a:cubicBezTo>
                  <a:pt x="10534" y="14650"/>
                  <a:pt x="10527" y="14625"/>
                  <a:pt x="10542" y="14684"/>
                </a:cubicBezTo>
              </a:path>
              <a:path w="2109" h="1216">
                <a:moveTo>
                  <a:pt x="10170" y="14908"/>
                </a:moveTo>
                <a:cubicBezTo>
                  <a:pt x="10286" y="14908"/>
                  <a:pt x="10401" y="14908"/>
                  <a:pt x="10517" y="14908"/>
                </a:cubicBezTo>
              </a:path>
              <a:path w="2109" h="1216">
                <a:moveTo>
                  <a:pt x="8607" y="14982"/>
                </a:moveTo>
                <a:cubicBezTo>
                  <a:pt x="8570" y="15039"/>
                  <a:pt x="8572" y="15140"/>
                  <a:pt x="8533" y="15106"/>
                </a:cubicBezTo>
                <a:cubicBezTo>
                  <a:pt x="8461" y="15043"/>
                  <a:pt x="8469" y="15092"/>
                  <a:pt x="8434" y="15156"/>
                </a:cubicBezTo>
                <a:cubicBezTo>
                  <a:pt x="8474" y="15217"/>
                  <a:pt x="8555" y="15233"/>
                  <a:pt x="8582" y="15131"/>
                </a:cubicBezTo>
                <a:cubicBezTo>
                  <a:pt x="8582" y="15106"/>
                  <a:pt x="8582" y="15081"/>
                  <a:pt x="8582" y="15056"/>
                </a:cubicBezTo>
                <a:cubicBezTo>
                  <a:pt x="8580" y="15057"/>
                  <a:pt x="8374" y="15224"/>
                  <a:pt x="8483" y="15230"/>
                </a:cubicBezTo>
                <a:cubicBezTo>
                  <a:pt x="8588" y="15236"/>
                  <a:pt x="8575" y="15150"/>
                  <a:pt x="8582" y="15081"/>
                </a:cubicBezTo>
                <a:cubicBezTo>
                  <a:pt x="8504" y="15101"/>
                  <a:pt x="8429" y="15146"/>
                  <a:pt x="8533" y="15180"/>
                </a:cubicBezTo>
              </a:path>
              <a:path w="2109" h="1216">
                <a:moveTo>
                  <a:pt x="8533" y="15304"/>
                </a:moveTo>
                <a:cubicBezTo>
                  <a:pt x="8557" y="15250"/>
                  <a:pt x="8554" y="15203"/>
                  <a:pt x="8582" y="15156"/>
                </a:cubicBezTo>
                <a:cubicBezTo>
                  <a:pt x="8582" y="15095"/>
                  <a:pt x="8601" y="15291"/>
                  <a:pt x="8607" y="15304"/>
                </a:cubicBezTo>
                <a:cubicBezTo>
                  <a:pt x="8644" y="15385"/>
                  <a:pt x="8768" y="15456"/>
                  <a:pt x="8855" y="15453"/>
                </a:cubicBezTo>
                <a:cubicBezTo>
                  <a:pt x="8961" y="15449"/>
                  <a:pt x="9046" y="15352"/>
                  <a:pt x="9103" y="15280"/>
                </a:cubicBezTo>
                <a:cubicBezTo>
                  <a:pt x="9103" y="15225"/>
                  <a:pt x="9113" y="15358"/>
                  <a:pt x="9128" y="15379"/>
                </a:cubicBezTo>
                <a:cubicBezTo>
                  <a:pt x="9239" y="15531"/>
                  <a:pt x="9311" y="15512"/>
                  <a:pt x="9475" y="15453"/>
                </a:cubicBezTo>
                <a:cubicBezTo>
                  <a:pt x="9554" y="15424"/>
                  <a:pt x="9684" y="15369"/>
                  <a:pt x="9723" y="15280"/>
                </a:cubicBezTo>
                <a:cubicBezTo>
                  <a:pt x="9723" y="15272"/>
                  <a:pt x="9723" y="15263"/>
                  <a:pt x="9723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6240" y="5045040"/>
            <a:ext cx="750960" cy="32220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11435" y="14337"/>
                </a:moveTo>
                <a:cubicBezTo>
                  <a:pt x="11446" y="14528"/>
                  <a:pt x="11460" y="14716"/>
                  <a:pt x="11460" y="14908"/>
                </a:cubicBezTo>
                <a:cubicBezTo>
                  <a:pt x="11460" y="14883"/>
                  <a:pt x="11460" y="14858"/>
                  <a:pt x="11460" y="14833"/>
                </a:cubicBezTo>
              </a:path>
              <a:path w="2085" h="894">
                <a:moveTo>
                  <a:pt x="11733" y="14312"/>
                </a:moveTo>
                <a:cubicBezTo>
                  <a:pt x="11794" y="14253"/>
                  <a:pt x="12021" y="14288"/>
                  <a:pt x="12129" y="14288"/>
                </a:cubicBezTo>
                <a:cubicBezTo>
                  <a:pt x="12154" y="14288"/>
                  <a:pt x="12179" y="14288"/>
                  <a:pt x="12204" y="14288"/>
                </a:cubicBezTo>
                <a:cubicBezTo>
                  <a:pt x="12231" y="14474"/>
                  <a:pt x="12183" y="14602"/>
                  <a:pt x="12154" y="14784"/>
                </a:cubicBezTo>
                <a:cubicBezTo>
                  <a:pt x="12134" y="14905"/>
                  <a:pt x="12146" y="14885"/>
                  <a:pt x="12204" y="14808"/>
                </a:cubicBezTo>
              </a:path>
              <a:path w="2085" h="894">
                <a:moveTo>
                  <a:pt x="12874" y="14039"/>
                </a:moveTo>
                <a:cubicBezTo>
                  <a:pt x="12738" y="14114"/>
                  <a:pt x="12715" y="14231"/>
                  <a:pt x="12725" y="14387"/>
                </a:cubicBezTo>
                <a:cubicBezTo>
                  <a:pt x="12889" y="14291"/>
                  <a:pt x="12868" y="14265"/>
                  <a:pt x="12824" y="14089"/>
                </a:cubicBezTo>
                <a:cubicBezTo>
                  <a:pt x="12824" y="14081"/>
                  <a:pt x="12824" y="14072"/>
                  <a:pt x="12824" y="14064"/>
                </a:cubicBezTo>
                <a:cubicBezTo>
                  <a:pt x="12994" y="13996"/>
                  <a:pt x="13105" y="14008"/>
                  <a:pt x="13122" y="14238"/>
                </a:cubicBezTo>
                <a:cubicBezTo>
                  <a:pt x="13136" y="14435"/>
                  <a:pt x="13041" y="14608"/>
                  <a:pt x="12973" y="14784"/>
                </a:cubicBezTo>
              </a:path>
              <a:path w="2085" h="894">
                <a:moveTo>
                  <a:pt x="13395" y="14610"/>
                </a:moveTo>
                <a:cubicBezTo>
                  <a:pt x="13350" y="14698"/>
                  <a:pt x="13334" y="14719"/>
                  <a:pt x="13345" y="14784"/>
                </a:cubicBezTo>
                <a:cubicBezTo>
                  <a:pt x="13374" y="14781"/>
                  <a:pt x="13618" y="14684"/>
                  <a:pt x="13519" y="14635"/>
                </a:cubicBezTo>
                <a:cubicBezTo>
                  <a:pt x="13486" y="14635"/>
                  <a:pt x="13452" y="14635"/>
                  <a:pt x="13419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0640" y="5902200"/>
            <a:ext cx="607680" cy="563760"/>
          </a:xfrm>
          <a:custGeom>
            <a:avLst/>
            <a:gdLst/>
            <a:ahLst/>
            <a:rect l="l" t="t" r="r" b="b"/>
            <a:pathLst>
              <a:path w="1687" h="1564">
                <a:moveTo>
                  <a:pt x="3894" y="16520"/>
                </a:moveTo>
                <a:cubicBezTo>
                  <a:pt x="3782" y="16543"/>
                  <a:pt x="3697" y="16714"/>
                  <a:pt x="3671" y="16818"/>
                </a:cubicBezTo>
                <a:cubicBezTo>
                  <a:pt x="3671" y="16859"/>
                  <a:pt x="3671" y="16901"/>
                  <a:pt x="3671" y="16942"/>
                </a:cubicBezTo>
                <a:cubicBezTo>
                  <a:pt x="3900" y="17022"/>
                  <a:pt x="4000" y="16900"/>
                  <a:pt x="4068" y="16669"/>
                </a:cubicBezTo>
                <a:cubicBezTo>
                  <a:pt x="4107" y="16535"/>
                  <a:pt x="3985" y="16583"/>
                  <a:pt x="3919" y="16594"/>
                </a:cubicBezTo>
              </a:path>
              <a:path w="1687" h="1564">
                <a:moveTo>
                  <a:pt x="4415" y="16396"/>
                </a:moveTo>
                <a:cubicBezTo>
                  <a:pt x="4382" y="16406"/>
                  <a:pt x="4243" y="16441"/>
                  <a:pt x="4217" y="16470"/>
                </a:cubicBezTo>
                <a:cubicBezTo>
                  <a:pt x="4175" y="16517"/>
                  <a:pt x="4173" y="16587"/>
                  <a:pt x="4167" y="16644"/>
                </a:cubicBezTo>
                <a:cubicBezTo>
                  <a:pt x="4289" y="16632"/>
                  <a:pt x="4466" y="16571"/>
                  <a:pt x="4539" y="16718"/>
                </a:cubicBezTo>
                <a:cubicBezTo>
                  <a:pt x="4644" y="16930"/>
                  <a:pt x="4254" y="16956"/>
                  <a:pt x="4167" y="16966"/>
                </a:cubicBezTo>
              </a:path>
              <a:path w="1687" h="1564">
                <a:moveTo>
                  <a:pt x="3225" y="17239"/>
                </a:moveTo>
                <a:cubicBezTo>
                  <a:pt x="3654" y="17185"/>
                  <a:pt x="4081" y="17130"/>
                  <a:pt x="4514" y="17115"/>
                </a:cubicBezTo>
                <a:cubicBezTo>
                  <a:pt x="4556" y="17114"/>
                  <a:pt x="4867" y="17135"/>
                  <a:pt x="4911" y="17140"/>
                </a:cubicBezTo>
              </a:path>
              <a:path w="1687" h="1564">
                <a:moveTo>
                  <a:pt x="3547" y="17438"/>
                </a:moveTo>
                <a:cubicBezTo>
                  <a:pt x="3584" y="17622"/>
                  <a:pt x="3499" y="17798"/>
                  <a:pt x="3522" y="17959"/>
                </a:cubicBezTo>
                <a:cubicBezTo>
                  <a:pt x="3586" y="17895"/>
                  <a:pt x="3621" y="17839"/>
                  <a:pt x="3646" y="17760"/>
                </a:cubicBezTo>
              </a:path>
              <a:path w="1687" h="1564">
                <a:moveTo>
                  <a:pt x="3894" y="17487"/>
                </a:moveTo>
                <a:cubicBezTo>
                  <a:pt x="3801" y="17638"/>
                  <a:pt x="3795" y="17688"/>
                  <a:pt x="3894" y="17810"/>
                </a:cubicBezTo>
                <a:cubicBezTo>
                  <a:pt x="3988" y="17757"/>
                  <a:pt x="4234" y="17654"/>
                  <a:pt x="4043" y="17512"/>
                </a:cubicBezTo>
                <a:cubicBezTo>
                  <a:pt x="3965" y="17486"/>
                  <a:pt x="3938" y="17481"/>
                  <a:pt x="3919" y="17562"/>
                </a:cubicBezTo>
              </a:path>
              <a:path w="1687" h="1564">
                <a:moveTo>
                  <a:pt x="4266" y="17363"/>
                </a:moveTo>
                <a:cubicBezTo>
                  <a:pt x="4234" y="17444"/>
                  <a:pt x="4041" y="17776"/>
                  <a:pt x="4242" y="17810"/>
                </a:cubicBezTo>
                <a:cubicBezTo>
                  <a:pt x="4348" y="17828"/>
                  <a:pt x="4607" y="17583"/>
                  <a:pt x="4465" y="17487"/>
                </a:cubicBezTo>
                <a:cubicBezTo>
                  <a:pt x="4388" y="17468"/>
                  <a:pt x="4371" y="17475"/>
                  <a:pt x="4341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38320" y="5840280"/>
            <a:ext cx="963720" cy="366840"/>
          </a:xfrm>
          <a:custGeom>
            <a:avLst/>
            <a:gdLst/>
            <a:ahLst/>
            <a:rect l="l" t="t" r="r" b="b"/>
            <a:pathLst>
              <a:path w="2680" h="1018">
                <a:moveTo>
                  <a:pt x="9699" y="16222"/>
                </a:moveTo>
                <a:cubicBezTo>
                  <a:pt x="9774" y="16222"/>
                  <a:pt x="9476" y="16222"/>
                  <a:pt x="9475" y="16222"/>
                </a:cubicBezTo>
                <a:cubicBezTo>
                  <a:pt x="9345" y="16222"/>
                  <a:pt x="9382" y="16380"/>
                  <a:pt x="9376" y="16495"/>
                </a:cubicBezTo>
                <a:cubicBezTo>
                  <a:pt x="9376" y="16520"/>
                  <a:pt x="9376" y="16545"/>
                  <a:pt x="9376" y="16570"/>
                </a:cubicBezTo>
                <a:cubicBezTo>
                  <a:pt x="9467" y="16531"/>
                  <a:pt x="9582" y="16412"/>
                  <a:pt x="9699" y="16495"/>
                </a:cubicBezTo>
                <a:cubicBezTo>
                  <a:pt x="9818" y="16579"/>
                  <a:pt x="9847" y="16803"/>
                  <a:pt x="9699" y="16867"/>
                </a:cubicBezTo>
                <a:cubicBezTo>
                  <a:pt x="9626" y="16898"/>
                  <a:pt x="9394" y="16926"/>
                  <a:pt x="9327" y="16867"/>
                </a:cubicBezTo>
                <a:cubicBezTo>
                  <a:pt x="9327" y="16859"/>
                  <a:pt x="9327" y="16850"/>
                  <a:pt x="9327" y="16842"/>
                </a:cubicBezTo>
              </a:path>
              <a:path w="2680" h="1018">
                <a:moveTo>
                  <a:pt x="8334" y="16867"/>
                </a:moveTo>
                <a:cubicBezTo>
                  <a:pt x="8311" y="16818"/>
                  <a:pt x="8293" y="16903"/>
                  <a:pt x="8285" y="16942"/>
                </a:cubicBezTo>
                <a:cubicBezTo>
                  <a:pt x="8352" y="16933"/>
                  <a:pt x="8384" y="16941"/>
                  <a:pt x="8384" y="16867"/>
                </a:cubicBezTo>
              </a:path>
              <a:path w="2680" h="1018">
                <a:moveTo>
                  <a:pt x="8905" y="16371"/>
                </a:moveTo>
                <a:cubicBezTo>
                  <a:pt x="8867" y="16343"/>
                  <a:pt x="8847" y="16328"/>
                  <a:pt x="8830" y="16371"/>
                </a:cubicBezTo>
                <a:cubicBezTo>
                  <a:pt x="8770" y="16525"/>
                  <a:pt x="8721" y="16678"/>
                  <a:pt x="8781" y="16842"/>
                </a:cubicBezTo>
                <a:cubicBezTo>
                  <a:pt x="8836" y="16992"/>
                  <a:pt x="9023" y="16801"/>
                  <a:pt x="9054" y="16743"/>
                </a:cubicBezTo>
                <a:cubicBezTo>
                  <a:pt x="9111" y="16636"/>
                  <a:pt x="9122" y="16505"/>
                  <a:pt x="9029" y="16421"/>
                </a:cubicBezTo>
                <a:cubicBezTo>
                  <a:pt x="8965" y="16363"/>
                  <a:pt x="8920" y="16349"/>
                  <a:pt x="8855" y="16371"/>
                </a:cubicBezTo>
              </a:path>
              <a:path w="2680" h="1018">
                <a:moveTo>
                  <a:pt x="8334" y="17016"/>
                </a:moveTo>
                <a:cubicBezTo>
                  <a:pt x="8254" y="16975"/>
                  <a:pt x="8474" y="17176"/>
                  <a:pt x="8508" y="17190"/>
                </a:cubicBezTo>
                <a:cubicBezTo>
                  <a:pt x="8679" y="17262"/>
                  <a:pt x="8778" y="17220"/>
                  <a:pt x="8930" y="17165"/>
                </a:cubicBezTo>
                <a:cubicBezTo>
                  <a:pt x="9047" y="17123"/>
                  <a:pt x="9090" y="17064"/>
                  <a:pt x="9178" y="16991"/>
                </a:cubicBezTo>
                <a:cubicBezTo>
                  <a:pt x="9206" y="16968"/>
                  <a:pt x="9186" y="16974"/>
                  <a:pt x="9203" y="16942"/>
                </a:cubicBezTo>
                <a:cubicBezTo>
                  <a:pt x="9252" y="17020"/>
                  <a:pt x="9303" y="17135"/>
                  <a:pt x="9401" y="17165"/>
                </a:cubicBezTo>
                <a:cubicBezTo>
                  <a:pt x="9526" y="17204"/>
                  <a:pt x="9695" y="17100"/>
                  <a:pt x="9773" y="17016"/>
                </a:cubicBezTo>
                <a:cubicBezTo>
                  <a:pt x="9816" y="16970"/>
                  <a:pt x="9875" y="16853"/>
                  <a:pt x="9897" y="16818"/>
                </a:cubicBezTo>
                <a:cubicBezTo>
                  <a:pt x="9897" y="16793"/>
                  <a:pt x="9897" y="16785"/>
                  <a:pt x="9897" y="16818"/>
                </a:cubicBezTo>
              </a:path>
              <a:path w="2680" h="1018">
                <a:moveTo>
                  <a:pt x="10443" y="16321"/>
                </a:moveTo>
                <a:cubicBezTo>
                  <a:pt x="10522" y="16335"/>
                  <a:pt x="10731" y="16320"/>
                  <a:pt x="10790" y="16371"/>
                </a:cubicBezTo>
                <a:cubicBezTo>
                  <a:pt x="10790" y="16379"/>
                  <a:pt x="10790" y="16388"/>
                  <a:pt x="10790" y="16396"/>
                </a:cubicBezTo>
              </a:path>
              <a:path w="2680" h="1018">
                <a:moveTo>
                  <a:pt x="10468" y="16669"/>
                </a:moveTo>
                <a:cubicBezTo>
                  <a:pt x="10586" y="16645"/>
                  <a:pt x="10739" y="16637"/>
                  <a:pt x="10840" y="16594"/>
                </a:cubicBezTo>
              </a:path>
              <a:path w="2680" h="1018">
                <a:moveTo>
                  <a:pt x="8285" y="17041"/>
                </a:moveTo>
                <a:cubicBezTo>
                  <a:pt x="8280" y="17031"/>
                  <a:pt x="8263" y="16959"/>
                  <a:pt x="8285" y="16942"/>
                </a:cubicBezTo>
                <a:cubicBezTo>
                  <a:pt x="8318" y="16916"/>
                  <a:pt x="8315" y="16917"/>
                  <a:pt x="8260" y="16917"/>
                </a:cubicBezTo>
                <a:cubicBezTo>
                  <a:pt x="8204" y="16917"/>
                  <a:pt x="8182" y="16922"/>
                  <a:pt x="8161" y="16966"/>
                </a:cubicBezTo>
                <a:cubicBezTo>
                  <a:pt x="8161" y="17007"/>
                  <a:pt x="8165" y="17093"/>
                  <a:pt x="8235" y="17041"/>
                </a:cubicBezTo>
                <a:cubicBezTo>
                  <a:pt x="8309" y="16986"/>
                  <a:pt x="8343" y="16828"/>
                  <a:pt x="8210" y="16867"/>
                </a:cubicBezTo>
                <a:cubicBezTo>
                  <a:pt x="8156" y="16883"/>
                  <a:pt x="8166" y="16975"/>
                  <a:pt x="8161" y="17016"/>
                </a:cubicBezTo>
                <a:cubicBezTo>
                  <a:pt x="8248" y="17016"/>
                  <a:pt x="8360" y="17022"/>
                  <a:pt x="8334" y="16892"/>
                </a:cubicBezTo>
                <a:cubicBezTo>
                  <a:pt x="8313" y="16789"/>
                  <a:pt x="8220" y="16924"/>
                  <a:pt x="8210" y="16942"/>
                </a:cubicBezTo>
                <a:cubicBezTo>
                  <a:pt x="8214" y="16944"/>
                  <a:pt x="8379" y="16947"/>
                  <a:pt x="8334" y="16867"/>
                </a:cubicBezTo>
                <a:cubicBezTo>
                  <a:pt x="8298" y="16803"/>
                  <a:pt x="8283" y="16931"/>
                  <a:pt x="8285" y="169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5160" y="5732640"/>
            <a:ext cx="6350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12080" y="15925"/>
                </a:moveTo>
                <a:cubicBezTo>
                  <a:pt x="11903" y="16006"/>
                  <a:pt x="11749" y="16006"/>
                  <a:pt x="11708" y="16173"/>
                </a:cubicBezTo>
                <a:cubicBezTo>
                  <a:pt x="11688" y="16256"/>
                  <a:pt x="11683" y="16311"/>
                  <a:pt x="11683" y="16396"/>
                </a:cubicBezTo>
                <a:cubicBezTo>
                  <a:pt x="11830" y="16371"/>
                  <a:pt x="11912" y="16241"/>
                  <a:pt x="12080" y="16297"/>
                </a:cubicBezTo>
                <a:cubicBezTo>
                  <a:pt x="12328" y="16379"/>
                  <a:pt x="12283" y="16698"/>
                  <a:pt x="12080" y="16793"/>
                </a:cubicBezTo>
                <a:cubicBezTo>
                  <a:pt x="11980" y="16840"/>
                  <a:pt x="11841" y="16818"/>
                  <a:pt x="11733" y="16818"/>
                </a:cubicBezTo>
              </a:path>
              <a:path w="1762" h="894">
                <a:moveTo>
                  <a:pt x="12675" y="15974"/>
                </a:moveTo>
                <a:cubicBezTo>
                  <a:pt x="12629" y="16101"/>
                  <a:pt x="12614" y="16175"/>
                  <a:pt x="12675" y="16297"/>
                </a:cubicBezTo>
                <a:cubicBezTo>
                  <a:pt x="12782" y="16190"/>
                  <a:pt x="12846" y="16115"/>
                  <a:pt x="12725" y="16024"/>
                </a:cubicBezTo>
                <a:cubicBezTo>
                  <a:pt x="12717" y="16016"/>
                  <a:pt x="12708" y="16007"/>
                  <a:pt x="12700" y="15999"/>
                </a:cubicBezTo>
                <a:cubicBezTo>
                  <a:pt x="12923" y="15969"/>
                  <a:pt x="13093" y="16052"/>
                  <a:pt x="13097" y="16321"/>
                </a:cubicBezTo>
                <a:cubicBezTo>
                  <a:pt x="13099" y="16448"/>
                  <a:pt x="12916" y="16719"/>
                  <a:pt x="13022" y="16718"/>
                </a:cubicBezTo>
              </a:path>
              <a:path w="1762" h="894">
                <a:moveTo>
                  <a:pt x="13246" y="16520"/>
                </a:moveTo>
                <a:cubicBezTo>
                  <a:pt x="13238" y="16664"/>
                  <a:pt x="13263" y="16819"/>
                  <a:pt x="13419" y="16644"/>
                </a:cubicBezTo>
                <a:cubicBezTo>
                  <a:pt x="13492" y="16562"/>
                  <a:pt x="13390" y="16565"/>
                  <a:pt x="13345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39040" y="4483080"/>
            <a:ext cx="177840" cy="4464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20662" y="12551"/>
                </a:moveTo>
                <a:cubicBezTo>
                  <a:pt x="20869" y="12559"/>
                  <a:pt x="20960" y="12530"/>
                  <a:pt x="21158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59680" y="4286160"/>
            <a:ext cx="2268360" cy="465120"/>
          </a:xfrm>
          <a:custGeom>
            <a:avLst/>
            <a:gdLst/>
            <a:ahLst/>
            <a:rect l="l" t="t" r="r" b="b"/>
            <a:pathLst>
              <a:path w="6301" h="1291">
                <a:moveTo>
                  <a:pt x="17413" y="12427"/>
                </a:moveTo>
                <a:cubicBezTo>
                  <a:pt x="17439" y="12506"/>
                  <a:pt x="17494" y="12395"/>
                  <a:pt x="17537" y="12378"/>
                </a:cubicBezTo>
                <a:cubicBezTo>
                  <a:pt x="17653" y="12355"/>
                  <a:pt x="17686" y="12344"/>
                  <a:pt x="17760" y="12378"/>
                </a:cubicBezTo>
                <a:cubicBezTo>
                  <a:pt x="17773" y="12558"/>
                  <a:pt x="17725" y="12597"/>
                  <a:pt x="17562" y="12675"/>
                </a:cubicBezTo>
                <a:cubicBezTo>
                  <a:pt x="17545" y="12683"/>
                  <a:pt x="17529" y="12692"/>
                  <a:pt x="17512" y="12700"/>
                </a:cubicBezTo>
                <a:cubicBezTo>
                  <a:pt x="17602" y="12610"/>
                  <a:pt x="17745" y="12596"/>
                  <a:pt x="17859" y="12675"/>
                </a:cubicBezTo>
                <a:cubicBezTo>
                  <a:pt x="17876" y="12708"/>
                  <a:pt x="17892" y="12741"/>
                  <a:pt x="17909" y="12774"/>
                </a:cubicBezTo>
                <a:cubicBezTo>
                  <a:pt x="17749" y="12967"/>
                  <a:pt x="17649" y="13008"/>
                  <a:pt x="17388" y="12973"/>
                </a:cubicBezTo>
                <a:cubicBezTo>
                  <a:pt x="17396" y="12973"/>
                  <a:pt x="17405" y="12973"/>
                  <a:pt x="17413" y="12973"/>
                </a:cubicBezTo>
              </a:path>
              <a:path w="6301" h="1291">
                <a:moveTo>
                  <a:pt x="18331" y="12750"/>
                </a:moveTo>
                <a:cubicBezTo>
                  <a:pt x="18213" y="12773"/>
                  <a:pt x="18280" y="12825"/>
                  <a:pt x="18306" y="12774"/>
                </a:cubicBezTo>
                <a:cubicBezTo>
                  <a:pt x="18317" y="12752"/>
                  <a:pt x="18264" y="12775"/>
                  <a:pt x="18256" y="12799"/>
                </a:cubicBezTo>
              </a:path>
              <a:path w="6301" h="1291">
                <a:moveTo>
                  <a:pt x="18901" y="12229"/>
                </a:moveTo>
                <a:cubicBezTo>
                  <a:pt x="18901" y="12204"/>
                  <a:pt x="18901" y="12196"/>
                  <a:pt x="18926" y="12204"/>
                </a:cubicBezTo>
                <a:cubicBezTo>
                  <a:pt x="18947" y="12268"/>
                  <a:pt x="18865" y="12279"/>
                  <a:pt x="18777" y="12303"/>
                </a:cubicBezTo>
                <a:cubicBezTo>
                  <a:pt x="18697" y="12325"/>
                  <a:pt x="18737" y="12303"/>
                  <a:pt x="18678" y="12427"/>
                </a:cubicBezTo>
                <a:cubicBezTo>
                  <a:pt x="18655" y="12475"/>
                  <a:pt x="18653" y="12479"/>
                  <a:pt x="18653" y="12526"/>
                </a:cubicBezTo>
                <a:cubicBezTo>
                  <a:pt x="18714" y="12511"/>
                  <a:pt x="18783" y="12483"/>
                  <a:pt x="18852" y="12477"/>
                </a:cubicBezTo>
                <a:cubicBezTo>
                  <a:pt x="19007" y="12462"/>
                  <a:pt x="19057" y="12595"/>
                  <a:pt x="19025" y="12725"/>
                </a:cubicBezTo>
                <a:cubicBezTo>
                  <a:pt x="19000" y="12827"/>
                  <a:pt x="18783" y="12820"/>
                  <a:pt x="18703" y="12799"/>
                </a:cubicBezTo>
                <a:cubicBezTo>
                  <a:pt x="18623" y="12778"/>
                  <a:pt x="18801" y="12819"/>
                  <a:pt x="18827" y="12824"/>
                </a:cubicBezTo>
              </a:path>
              <a:path w="6301" h="1291">
                <a:moveTo>
                  <a:pt x="18306" y="12849"/>
                </a:moveTo>
                <a:cubicBezTo>
                  <a:pt x="18344" y="12836"/>
                  <a:pt x="18306" y="12809"/>
                  <a:pt x="18331" y="12874"/>
                </a:cubicBezTo>
                <a:cubicBezTo>
                  <a:pt x="18362" y="12953"/>
                  <a:pt x="18410" y="12981"/>
                  <a:pt x="18455" y="13047"/>
                </a:cubicBezTo>
                <a:cubicBezTo>
                  <a:pt x="18492" y="13102"/>
                  <a:pt x="18552" y="13168"/>
                  <a:pt x="18628" y="13196"/>
                </a:cubicBezTo>
                <a:cubicBezTo>
                  <a:pt x="18720" y="13230"/>
                  <a:pt x="18936" y="13204"/>
                  <a:pt x="19025" y="13171"/>
                </a:cubicBezTo>
                <a:cubicBezTo>
                  <a:pt x="19099" y="13144"/>
                  <a:pt x="19172" y="13130"/>
                  <a:pt x="19224" y="13072"/>
                </a:cubicBezTo>
                <a:cubicBezTo>
                  <a:pt x="19263" y="13029"/>
                  <a:pt x="19287" y="12979"/>
                  <a:pt x="19298" y="12923"/>
                </a:cubicBezTo>
                <a:cubicBezTo>
                  <a:pt x="19316" y="12830"/>
                  <a:pt x="19298" y="12929"/>
                  <a:pt x="19298" y="12973"/>
                </a:cubicBezTo>
                <a:cubicBezTo>
                  <a:pt x="19298" y="13033"/>
                  <a:pt x="19327" y="13058"/>
                  <a:pt x="19372" y="13097"/>
                </a:cubicBezTo>
                <a:cubicBezTo>
                  <a:pt x="19468" y="13179"/>
                  <a:pt x="19624" y="13191"/>
                  <a:pt x="19745" y="13171"/>
                </a:cubicBezTo>
                <a:cubicBezTo>
                  <a:pt x="19824" y="13158"/>
                  <a:pt x="20007" y="13119"/>
                  <a:pt x="20067" y="13072"/>
                </a:cubicBezTo>
                <a:cubicBezTo>
                  <a:pt x="20143" y="13013"/>
                  <a:pt x="20178" y="12964"/>
                  <a:pt x="20191" y="12874"/>
                </a:cubicBezTo>
                <a:cubicBezTo>
                  <a:pt x="20201" y="12805"/>
                  <a:pt x="20193" y="12768"/>
                  <a:pt x="20191" y="12750"/>
                </a:cubicBezTo>
                <a:cubicBezTo>
                  <a:pt x="20186" y="12705"/>
                  <a:pt x="20193" y="12723"/>
                  <a:pt x="20166" y="12650"/>
                </a:cubicBezTo>
                <a:cubicBezTo>
                  <a:pt x="20141" y="12696"/>
                  <a:pt x="20057" y="12810"/>
                  <a:pt x="20166" y="12799"/>
                </a:cubicBezTo>
                <a:cubicBezTo>
                  <a:pt x="20282" y="12788"/>
                  <a:pt x="20235" y="12732"/>
                  <a:pt x="20265" y="12650"/>
                </a:cubicBezTo>
                <a:cubicBezTo>
                  <a:pt x="20193" y="12650"/>
                  <a:pt x="20127" y="12642"/>
                  <a:pt x="20092" y="12675"/>
                </a:cubicBezTo>
                <a:cubicBezTo>
                  <a:pt x="20070" y="12719"/>
                  <a:pt x="20057" y="12731"/>
                  <a:pt x="20092" y="12750"/>
                </a:cubicBezTo>
                <a:cubicBezTo>
                  <a:pt x="20136" y="12715"/>
                  <a:pt x="20216" y="12695"/>
                  <a:pt x="20166" y="12626"/>
                </a:cubicBezTo>
                <a:cubicBezTo>
                  <a:pt x="20136" y="12585"/>
                  <a:pt x="20115" y="12680"/>
                  <a:pt x="20092" y="12725"/>
                </a:cubicBezTo>
                <a:cubicBezTo>
                  <a:pt x="20143" y="12725"/>
                  <a:pt x="20162" y="12724"/>
                  <a:pt x="20191" y="12700"/>
                </a:cubicBezTo>
              </a:path>
              <a:path w="6301" h="1291">
                <a:moveTo>
                  <a:pt x="19596" y="12229"/>
                </a:moveTo>
                <a:cubicBezTo>
                  <a:pt x="19473" y="12411"/>
                  <a:pt x="19473" y="12477"/>
                  <a:pt x="19571" y="12650"/>
                </a:cubicBezTo>
                <a:cubicBezTo>
                  <a:pt x="19657" y="12616"/>
                  <a:pt x="20054" y="12399"/>
                  <a:pt x="19819" y="12254"/>
                </a:cubicBezTo>
                <a:cubicBezTo>
                  <a:pt x="19728" y="12254"/>
                  <a:pt x="19720" y="12254"/>
                  <a:pt x="19670" y="12254"/>
                </a:cubicBezTo>
              </a:path>
              <a:path w="6301" h="1291">
                <a:moveTo>
                  <a:pt x="20712" y="12353"/>
                </a:moveTo>
                <a:cubicBezTo>
                  <a:pt x="20812" y="12353"/>
                  <a:pt x="20917" y="12297"/>
                  <a:pt x="21010" y="12303"/>
                </a:cubicBezTo>
                <a:cubicBezTo>
                  <a:pt x="21010" y="12311"/>
                  <a:pt x="21010" y="12320"/>
                  <a:pt x="21010" y="12328"/>
                </a:cubicBezTo>
              </a:path>
              <a:path w="6301" h="1291">
                <a:moveTo>
                  <a:pt x="21382" y="12129"/>
                </a:moveTo>
                <a:cubicBezTo>
                  <a:pt x="21480" y="12103"/>
                  <a:pt x="21694" y="12051"/>
                  <a:pt x="21679" y="12229"/>
                </a:cubicBezTo>
                <a:cubicBezTo>
                  <a:pt x="21636" y="12316"/>
                  <a:pt x="21629" y="12340"/>
                  <a:pt x="21580" y="12378"/>
                </a:cubicBezTo>
                <a:cubicBezTo>
                  <a:pt x="21708" y="12378"/>
                  <a:pt x="21941" y="12406"/>
                  <a:pt x="21779" y="12601"/>
                </a:cubicBezTo>
                <a:cubicBezTo>
                  <a:pt x="21611" y="12804"/>
                  <a:pt x="21387" y="12713"/>
                  <a:pt x="21357" y="12551"/>
                </a:cubicBezTo>
              </a:path>
              <a:path w="6301" h="1291">
                <a:moveTo>
                  <a:pt x="22151" y="12055"/>
                </a:moveTo>
                <a:cubicBezTo>
                  <a:pt x="22060" y="12070"/>
                  <a:pt x="21997" y="12079"/>
                  <a:pt x="21977" y="12179"/>
                </a:cubicBezTo>
                <a:cubicBezTo>
                  <a:pt x="21977" y="12204"/>
                  <a:pt x="21977" y="12229"/>
                  <a:pt x="21977" y="12254"/>
                </a:cubicBezTo>
                <a:cubicBezTo>
                  <a:pt x="22128" y="12239"/>
                  <a:pt x="22223" y="12212"/>
                  <a:pt x="22349" y="12328"/>
                </a:cubicBezTo>
                <a:cubicBezTo>
                  <a:pt x="22515" y="12481"/>
                  <a:pt x="22245" y="12603"/>
                  <a:pt x="22126" y="12626"/>
                </a:cubicBezTo>
                <a:cubicBezTo>
                  <a:pt x="22002" y="12626"/>
                  <a:pt x="21960" y="12626"/>
                  <a:pt x="21927" y="12526"/>
                </a:cubicBezTo>
              </a:path>
              <a:path w="6301" h="1291">
                <a:moveTo>
                  <a:pt x="22547" y="12080"/>
                </a:moveTo>
                <a:cubicBezTo>
                  <a:pt x="22491" y="12238"/>
                  <a:pt x="22482" y="12362"/>
                  <a:pt x="22498" y="12526"/>
                </a:cubicBezTo>
                <a:cubicBezTo>
                  <a:pt x="22673" y="12527"/>
                  <a:pt x="22813" y="12419"/>
                  <a:pt x="22771" y="12204"/>
                </a:cubicBezTo>
                <a:cubicBezTo>
                  <a:pt x="22749" y="12090"/>
                  <a:pt x="22608" y="12123"/>
                  <a:pt x="22523" y="12105"/>
                </a:cubicBezTo>
              </a:path>
              <a:path w="6301" h="1291">
                <a:moveTo>
                  <a:pt x="23068" y="11906"/>
                </a:moveTo>
                <a:cubicBezTo>
                  <a:pt x="23005" y="12014"/>
                  <a:pt x="22964" y="12035"/>
                  <a:pt x="22994" y="12154"/>
                </a:cubicBezTo>
                <a:cubicBezTo>
                  <a:pt x="23002" y="12140"/>
                  <a:pt x="23088" y="11957"/>
                  <a:pt x="23093" y="11956"/>
                </a:cubicBezTo>
                <a:cubicBezTo>
                  <a:pt x="23396" y="11909"/>
                  <a:pt x="23321" y="12139"/>
                  <a:pt x="23242" y="12328"/>
                </a:cubicBezTo>
                <a:cubicBezTo>
                  <a:pt x="23179" y="12454"/>
                  <a:pt x="23169" y="12482"/>
                  <a:pt x="23118" y="12551"/>
                </a:cubicBezTo>
              </a:path>
              <a:path w="6301" h="1291">
                <a:moveTo>
                  <a:pt x="23515" y="12378"/>
                </a:moveTo>
                <a:cubicBezTo>
                  <a:pt x="23493" y="12443"/>
                  <a:pt x="23485" y="12458"/>
                  <a:pt x="23490" y="12502"/>
                </a:cubicBezTo>
                <a:cubicBezTo>
                  <a:pt x="23512" y="12504"/>
                  <a:pt x="23775" y="12452"/>
                  <a:pt x="23688" y="12378"/>
                </a:cubicBezTo>
                <a:cubicBezTo>
                  <a:pt x="23599" y="12348"/>
                  <a:pt x="23558" y="12343"/>
                  <a:pt x="23490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87760" y="3670200"/>
            <a:ext cx="563400" cy="179640"/>
          </a:xfrm>
          <a:custGeom>
            <a:avLst/>
            <a:gdLst/>
            <a:ahLst/>
            <a:rect l="l" t="t" r="r" b="b"/>
            <a:pathLst>
              <a:path w="1564" h="497">
                <a:moveTo>
                  <a:pt x="9004" y="10244"/>
                </a:moveTo>
                <a:cubicBezTo>
                  <a:pt x="8997" y="10223"/>
                  <a:pt x="8941" y="10195"/>
                  <a:pt x="8905" y="10220"/>
                </a:cubicBezTo>
                <a:cubicBezTo>
                  <a:pt x="8862" y="10250"/>
                  <a:pt x="8870" y="10371"/>
                  <a:pt x="8979" y="10294"/>
                </a:cubicBezTo>
                <a:cubicBezTo>
                  <a:pt x="8990" y="10286"/>
                  <a:pt x="9000" y="10215"/>
                  <a:pt x="9004" y="10195"/>
                </a:cubicBezTo>
                <a:cubicBezTo>
                  <a:pt x="8959" y="10204"/>
                  <a:pt x="8948" y="10208"/>
                  <a:pt x="8930" y="10244"/>
                </a:cubicBezTo>
                <a:cubicBezTo>
                  <a:pt x="8947" y="10298"/>
                  <a:pt x="9023" y="10244"/>
                  <a:pt x="9004" y="10220"/>
                </a:cubicBezTo>
                <a:cubicBezTo>
                  <a:pt x="8966" y="10171"/>
                  <a:pt x="8946" y="10313"/>
                  <a:pt x="9004" y="10294"/>
                </a:cubicBezTo>
                <a:cubicBezTo>
                  <a:pt x="9008" y="10275"/>
                  <a:pt x="9031" y="10163"/>
                  <a:pt x="8979" y="10220"/>
                </a:cubicBezTo>
                <a:cubicBezTo>
                  <a:pt x="8932" y="10271"/>
                  <a:pt x="8961" y="10387"/>
                  <a:pt x="9004" y="10269"/>
                </a:cubicBezTo>
                <a:cubicBezTo>
                  <a:pt x="9004" y="10261"/>
                  <a:pt x="9004" y="10252"/>
                  <a:pt x="9004" y="10244"/>
                </a:cubicBezTo>
              </a:path>
              <a:path w="1564" h="497">
                <a:moveTo>
                  <a:pt x="9004" y="10294"/>
                </a:moveTo>
                <a:cubicBezTo>
                  <a:pt x="9004" y="10327"/>
                  <a:pt x="9004" y="10311"/>
                  <a:pt x="9004" y="10344"/>
                </a:cubicBezTo>
                <a:cubicBezTo>
                  <a:pt x="9004" y="10352"/>
                  <a:pt x="9004" y="10360"/>
                  <a:pt x="9004" y="10368"/>
                </a:cubicBezTo>
                <a:cubicBezTo>
                  <a:pt x="8940" y="10387"/>
                  <a:pt x="8985" y="10383"/>
                  <a:pt x="8930" y="10418"/>
                </a:cubicBezTo>
                <a:cubicBezTo>
                  <a:pt x="8894" y="10441"/>
                  <a:pt x="8844" y="10458"/>
                  <a:pt x="8806" y="10492"/>
                </a:cubicBezTo>
                <a:cubicBezTo>
                  <a:pt x="8794" y="10503"/>
                  <a:pt x="8763" y="10535"/>
                  <a:pt x="8731" y="10542"/>
                </a:cubicBezTo>
                <a:cubicBezTo>
                  <a:pt x="8682" y="10552"/>
                  <a:pt x="8668" y="10524"/>
                  <a:pt x="8632" y="10517"/>
                </a:cubicBezTo>
                <a:cubicBezTo>
                  <a:pt x="8585" y="10508"/>
                  <a:pt x="8550" y="10534"/>
                  <a:pt x="8508" y="10492"/>
                </a:cubicBezTo>
                <a:cubicBezTo>
                  <a:pt x="8489" y="10473"/>
                  <a:pt x="8461" y="10420"/>
                  <a:pt x="8434" y="10393"/>
                </a:cubicBezTo>
                <a:cubicBezTo>
                  <a:pt x="8417" y="10375"/>
                  <a:pt x="8402" y="10361"/>
                  <a:pt x="8384" y="10344"/>
                </a:cubicBezTo>
                <a:cubicBezTo>
                  <a:pt x="8379" y="10339"/>
                  <a:pt x="8358" y="10359"/>
                  <a:pt x="8359" y="10368"/>
                </a:cubicBezTo>
                <a:cubicBezTo>
                  <a:pt x="8371" y="10442"/>
                  <a:pt x="8383" y="10449"/>
                  <a:pt x="8359" y="10517"/>
                </a:cubicBezTo>
                <a:cubicBezTo>
                  <a:pt x="8349" y="10547"/>
                  <a:pt x="8319" y="10649"/>
                  <a:pt x="8285" y="10666"/>
                </a:cubicBezTo>
                <a:cubicBezTo>
                  <a:pt x="8233" y="10692"/>
                  <a:pt x="8146" y="10691"/>
                  <a:pt x="8086" y="10691"/>
                </a:cubicBezTo>
                <a:cubicBezTo>
                  <a:pt x="7998" y="10691"/>
                  <a:pt x="7919" y="10701"/>
                  <a:pt x="7838" y="10666"/>
                </a:cubicBezTo>
                <a:cubicBezTo>
                  <a:pt x="7797" y="10648"/>
                  <a:pt x="7785" y="10637"/>
                  <a:pt x="7764" y="10616"/>
                </a:cubicBezTo>
                <a:cubicBezTo>
                  <a:pt x="7747" y="10599"/>
                  <a:pt x="7696" y="10554"/>
                  <a:pt x="7689" y="10517"/>
                </a:cubicBezTo>
                <a:cubicBezTo>
                  <a:pt x="7680" y="10472"/>
                  <a:pt x="7672" y="10434"/>
                  <a:pt x="7665" y="10393"/>
                </a:cubicBezTo>
                <a:cubicBezTo>
                  <a:pt x="7658" y="10352"/>
                  <a:pt x="7646" y="10331"/>
                  <a:pt x="7640" y="10294"/>
                </a:cubicBezTo>
                <a:cubicBezTo>
                  <a:pt x="7632" y="10247"/>
                  <a:pt x="7629" y="10267"/>
                  <a:pt x="7615" y="10244"/>
                </a:cubicBezTo>
              </a:path>
              <a:path w="1564" h="497">
                <a:moveTo>
                  <a:pt x="7541" y="10319"/>
                </a:moveTo>
                <a:cubicBezTo>
                  <a:pt x="7505" y="10246"/>
                  <a:pt x="7473" y="10266"/>
                  <a:pt x="7466" y="10344"/>
                </a:cubicBezTo>
                <a:cubicBezTo>
                  <a:pt x="7466" y="10352"/>
                  <a:pt x="7466" y="10360"/>
                  <a:pt x="7466" y="10368"/>
                </a:cubicBezTo>
                <a:cubicBezTo>
                  <a:pt x="7514" y="10328"/>
                  <a:pt x="7587" y="10148"/>
                  <a:pt x="7491" y="10269"/>
                </a:cubicBezTo>
                <a:cubicBezTo>
                  <a:pt x="7421" y="10358"/>
                  <a:pt x="7493" y="10311"/>
                  <a:pt x="7516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03640" y="4626000"/>
            <a:ext cx="866520" cy="384120"/>
          </a:xfrm>
          <a:custGeom>
            <a:avLst/>
            <a:gdLst/>
            <a:ahLst/>
            <a:rect l="l" t="t" r="r" b="b"/>
            <a:pathLst>
              <a:path w="2407" h="1067">
                <a:moveTo>
                  <a:pt x="8682" y="13494"/>
                </a:moveTo>
                <a:cubicBezTo>
                  <a:pt x="8682" y="13469"/>
                  <a:pt x="8682" y="13461"/>
                  <a:pt x="8657" y="13469"/>
                </a:cubicBezTo>
                <a:cubicBezTo>
                  <a:pt x="8657" y="13491"/>
                  <a:pt x="8650" y="13659"/>
                  <a:pt x="8731" y="13593"/>
                </a:cubicBezTo>
                <a:cubicBezTo>
                  <a:pt x="8761" y="13569"/>
                  <a:pt x="8854" y="13405"/>
                  <a:pt x="8756" y="13419"/>
                </a:cubicBezTo>
                <a:cubicBezTo>
                  <a:pt x="8701" y="13427"/>
                  <a:pt x="8674" y="13544"/>
                  <a:pt x="8682" y="13543"/>
                </a:cubicBezTo>
                <a:cubicBezTo>
                  <a:pt x="8776" y="13537"/>
                  <a:pt x="8778" y="13499"/>
                  <a:pt x="8756" y="13444"/>
                </a:cubicBezTo>
                <a:cubicBezTo>
                  <a:pt x="8731" y="13444"/>
                  <a:pt x="8723" y="13444"/>
                  <a:pt x="8706" y="13444"/>
                </a:cubicBezTo>
                <a:cubicBezTo>
                  <a:pt x="8639" y="13607"/>
                  <a:pt x="8744" y="13453"/>
                  <a:pt x="8731" y="13444"/>
                </a:cubicBezTo>
                <a:cubicBezTo>
                  <a:pt x="8657" y="13393"/>
                  <a:pt x="8675" y="13608"/>
                  <a:pt x="8731" y="13494"/>
                </a:cubicBezTo>
                <a:cubicBezTo>
                  <a:pt x="8731" y="13469"/>
                  <a:pt x="8731" y="13461"/>
                  <a:pt x="8731" y="13444"/>
                </a:cubicBezTo>
              </a:path>
              <a:path w="2407" h="1067">
                <a:moveTo>
                  <a:pt x="8731" y="13593"/>
                </a:moveTo>
                <a:cubicBezTo>
                  <a:pt x="8726" y="13657"/>
                  <a:pt x="8731" y="13682"/>
                  <a:pt x="8706" y="13742"/>
                </a:cubicBezTo>
                <a:cubicBezTo>
                  <a:pt x="8669" y="13830"/>
                  <a:pt x="8601" y="13850"/>
                  <a:pt x="8508" y="13866"/>
                </a:cubicBezTo>
                <a:cubicBezTo>
                  <a:pt x="8413" y="13882"/>
                  <a:pt x="8313" y="13852"/>
                  <a:pt x="8235" y="13841"/>
                </a:cubicBezTo>
                <a:cubicBezTo>
                  <a:pt x="8188" y="13835"/>
                  <a:pt x="8131" y="13831"/>
                  <a:pt x="8086" y="13816"/>
                </a:cubicBezTo>
                <a:cubicBezTo>
                  <a:pt x="8030" y="13797"/>
                  <a:pt x="7987" y="13746"/>
                  <a:pt x="7938" y="13717"/>
                </a:cubicBezTo>
                <a:cubicBezTo>
                  <a:pt x="7868" y="13676"/>
                  <a:pt x="7864" y="13640"/>
                  <a:pt x="7838" y="13568"/>
                </a:cubicBezTo>
                <a:cubicBezTo>
                  <a:pt x="7804" y="13602"/>
                  <a:pt x="7734" y="13692"/>
                  <a:pt x="7689" y="13742"/>
                </a:cubicBezTo>
                <a:cubicBezTo>
                  <a:pt x="7586" y="13857"/>
                  <a:pt x="7501" y="13902"/>
                  <a:pt x="7342" y="13915"/>
                </a:cubicBezTo>
                <a:cubicBezTo>
                  <a:pt x="7190" y="13927"/>
                  <a:pt x="6962" y="13940"/>
                  <a:pt x="6821" y="13866"/>
                </a:cubicBezTo>
                <a:cubicBezTo>
                  <a:pt x="6751" y="13830"/>
                  <a:pt x="6732" y="13739"/>
                  <a:pt x="6672" y="13692"/>
                </a:cubicBezTo>
                <a:cubicBezTo>
                  <a:pt x="6610" y="13645"/>
                  <a:pt x="6581" y="13596"/>
                  <a:pt x="6573" y="13519"/>
                </a:cubicBezTo>
                <a:cubicBezTo>
                  <a:pt x="6565" y="13435"/>
                  <a:pt x="6595" y="13445"/>
                  <a:pt x="6499" y="13370"/>
                </a:cubicBezTo>
                <a:cubicBezTo>
                  <a:pt x="6491" y="13370"/>
                  <a:pt x="6482" y="13370"/>
                  <a:pt x="6474" y="13370"/>
                </a:cubicBezTo>
                <a:cubicBezTo>
                  <a:pt x="6462" y="13421"/>
                  <a:pt x="6398" y="13642"/>
                  <a:pt x="6548" y="13568"/>
                </a:cubicBezTo>
                <a:cubicBezTo>
                  <a:pt x="6633" y="13526"/>
                  <a:pt x="6594" y="13409"/>
                  <a:pt x="6598" y="13370"/>
                </a:cubicBezTo>
                <a:cubicBezTo>
                  <a:pt x="6434" y="13403"/>
                  <a:pt x="6393" y="13438"/>
                  <a:pt x="6424" y="13618"/>
                </a:cubicBezTo>
                <a:cubicBezTo>
                  <a:pt x="6570" y="13545"/>
                  <a:pt x="6598" y="13506"/>
                  <a:pt x="6573" y="13345"/>
                </a:cubicBezTo>
                <a:cubicBezTo>
                  <a:pt x="6545" y="13367"/>
                  <a:pt x="6332" y="13617"/>
                  <a:pt x="6499" y="13593"/>
                </a:cubicBezTo>
                <a:cubicBezTo>
                  <a:pt x="6643" y="13572"/>
                  <a:pt x="6597" y="13466"/>
                  <a:pt x="6573" y="13395"/>
                </a:cubicBezTo>
                <a:cubicBezTo>
                  <a:pt x="6483" y="13492"/>
                  <a:pt x="6491" y="13496"/>
                  <a:pt x="6474" y="13618"/>
                </a:cubicBezTo>
                <a:cubicBezTo>
                  <a:pt x="6579" y="13543"/>
                  <a:pt x="6610" y="13360"/>
                  <a:pt x="6548" y="13444"/>
                </a:cubicBezTo>
                <a:cubicBezTo>
                  <a:pt x="6517" y="13487"/>
                  <a:pt x="6530" y="13515"/>
                  <a:pt x="6524" y="13568"/>
                </a:cubicBezTo>
              </a:path>
              <a:path w="2407" h="1067">
                <a:moveTo>
                  <a:pt x="7193" y="12898"/>
                </a:moveTo>
                <a:cubicBezTo>
                  <a:pt x="7179" y="12856"/>
                  <a:pt x="7122" y="12852"/>
                  <a:pt x="7069" y="12849"/>
                </a:cubicBezTo>
                <a:cubicBezTo>
                  <a:pt x="6954" y="12843"/>
                  <a:pt x="6930" y="12933"/>
                  <a:pt x="6896" y="13022"/>
                </a:cubicBezTo>
                <a:cubicBezTo>
                  <a:pt x="6855" y="13132"/>
                  <a:pt x="6861" y="13236"/>
                  <a:pt x="6871" y="13345"/>
                </a:cubicBezTo>
                <a:cubicBezTo>
                  <a:pt x="6874" y="13374"/>
                  <a:pt x="6865" y="13483"/>
                  <a:pt x="6896" y="13494"/>
                </a:cubicBezTo>
                <a:cubicBezTo>
                  <a:pt x="6957" y="13516"/>
                  <a:pt x="7078" y="13537"/>
                  <a:pt x="7144" y="13519"/>
                </a:cubicBezTo>
                <a:cubicBezTo>
                  <a:pt x="7206" y="13502"/>
                  <a:pt x="7326" y="13438"/>
                  <a:pt x="7367" y="13395"/>
                </a:cubicBezTo>
                <a:cubicBezTo>
                  <a:pt x="7412" y="13348"/>
                  <a:pt x="7481" y="13215"/>
                  <a:pt x="7466" y="13146"/>
                </a:cubicBezTo>
                <a:cubicBezTo>
                  <a:pt x="7448" y="13064"/>
                  <a:pt x="7425" y="13011"/>
                  <a:pt x="7367" y="12948"/>
                </a:cubicBezTo>
                <a:cubicBezTo>
                  <a:pt x="7340" y="12919"/>
                  <a:pt x="7303" y="12885"/>
                  <a:pt x="7268" y="12874"/>
                </a:cubicBezTo>
                <a:cubicBezTo>
                  <a:pt x="7223" y="12860"/>
                  <a:pt x="7166" y="12853"/>
                  <a:pt x="7119" y="12849"/>
                </a:cubicBezTo>
                <a:cubicBezTo>
                  <a:pt x="7094" y="12849"/>
                  <a:pt x="7086" y="12849"/>
                  <a:pt x="7094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3160" y="485784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8731" y="13494"/>
                </a:moveTo>
                <a:lnTo>
                  <a:pt x="8731" y="13494"/>
                </a:lnTo>
                <a:lnTo>
                  <a:pt x="8731" y="13494"/>
                </a:lnTo>
              </a:path>
              <a:path w="26" h="75">
                <a:moveTo>
                  <a:pt x="8756" y="13519"/>
                </a:moveTo>
                <a:cubicBezTo>
                  <a:pt x="8756" y="13558"/>
                  <a:pt x="8743" y="13531"/>
                  <a:pt x="8731" y="13568"/>
                </a:cubicBezTo>
              </a:path>
              <a:path w="26" h="75">
                <a:moveTo>
                  <a:pt x="8731" y="13568"/>
                </a:moveTo>
                <a:lnTo>
                  <a:pt x="8731" y="13568"/>
                </a:lnTo>
              </a:path>
              <a:path w="26" h="75">
                <a:moveTo>
                  <a:pt x="8731" y="13568"/>
                </a:moveTo>
                <a:lnTo>
                  <a:pt x="8731" y="13568"/>
                </a:lnTo>
              </a:path>
              <a:path w="26" h="75">
                <a:moveTo>
                  <a:pt x="8731" y="13568"/>
                </a:moveTo>
                <a:lnTo>
                  <a:pt x="8731" y="1356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749840"/>
            <a:ext cx="4428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12824" y="13221"/>
                </a:moveTo>
                <a:cubicBezTo>
                  <a:pt x="12816" y="13213"/>
                  <a:pt x="12807" y="13204"/>
                  <a:pt x="12799" y="13196"/>
                </a:cubicBezTo>
                <a:cubicBezTo>
                  <a:pt x="12787" y="13205"/>
                  <a:pt x="12645" y="13377"/>
                  <a:pt x="12700" y="13419"/>
                </a:cubicBezTo>
                <a:cubicBezTo>
                  <a:pt x="12776" y="13477"/>
                  <a:pt x="12771" y="13325"/>
                  <a:pt x="12774" y="13295"/>
                </a:cubicBezTo>
                <a:cubicBezTo>
                  <a:pt x="12752" y="13318"/>
                  <a:pt x="12744" y="13323"/>
                  <a:pt x="12750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76840" y="4537080"/>
            <a:ext cx="376200" cy="258840"/>
          </a:xfrm>
          <a:custGeom>
            <a:avLst/>
            <a:gdLst/>
            <a:ahLst/>
            <a:rect l="l" t="t" r="r" b="b"/>
            <a:pathLst>
              <a:path w="1042" h="720">
                <a:moveTo>
                  <a:pt x="13568" y="12774"/>
                </a:moveTo>
                <a:cubicBezTo>
                  <a:pt x="13468" y="12643"/>
                  <a:pt x="13394" y="12799"/>
                  <a:pt x="13345" y="12898"/>
                </a:cubicBezTo>
                <a:cubicBezTo>
                  <a:pt x="13238" y="13113"/>
                  <a:pt x="13248" y="13157"/>
                  <a:pt x="13370" y="13320"/>
                </a:cubicBezTo>
                <a:cubicBezTo>
                  <a:pt x="13559" y="13226"/>
                  <a:pt x="13850" y="13061"/>
                  <a:pt x="13568" y="12849"/>
                </a:cubicBezTo>
                <a:cubicBezTo>
                  <a:pt x="13469" y="12824"/>
                  <a:pt x="13436" y="12816"/>
                  <a:pt x="13370" y="12849"/>
                </a:cubicBezTo>
              </a:path>
              <a:path w="1042" h="720">
                <a:moveTo>
                  <a:pt x="14288" y="12601"/>
                </a:moveTo>
                <a:cubicBezTo>
                  <a:pt x="14155" y="12616"/>
                  <a:pt x="13950" y="12648"/>
                  <a:pt x="13866" y="12774"/>
                </a:cubicBezTo>
                <a:cubicBezTo>
                  <a:pt x="13866" y="12799"/>
                  <a:pt x="13866" y="12824"/>
                  <a:pt x="13866" y="12849"/>
                </a:cubicBezTo>
                <a:cubicBezTo>
                  <a:pt x="14060" y="12966"/>
                  <a:pt x="14222" y="12987"/>
                  <a:pt x="14288" y="13196"/>
                </a:cubicBezTo>
                <a:cubicBezTo>
                  <a:pt x="14122" y="13208"/>
                  <a:pt x="14000" y="13169"/>
                  <a:pt x="14114" y="12973"/>
                </a:cubicBezTo>
                <a:cubicBezTo>
                  <a:pt x="14143" y="12924"/>
                  <a:pt x="14371" y="12688"/>
                  <a:pt x="14288" y="12650"/>
                </a:cubicBezTo>
                <a:cubicBezTo>
                  <a:pt x="14263" y="12642"/>
                  <a:pt x="14238" y="12634"/>
                  <a:pt x="1421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75080" y="5680080"/>
            <a:ext cx="955800" cy="285840"/>
          </a:xfrm>
          <a:custGeom>
            <a:avLst/>
            <a:gdLst/>
            <a:ahLst/>
            <a:rect l="l" t="t" r="r" b="b"/>
            <a:pathLst>
              <a:path w="2655" h="795">
                <a:moveTo>
                  <a:pt x="12626" y="15825"/>
                </a:moveTo>
                <a:cubicBezTo>
                  <a:pt x="12626" y="15836"/>
                  <a:pt x="12664" y="15802"/>
                  <a:pt x="12750" y="15776"/>
                </a:cubicBezTo>
                <a:cubicBezTo>
                  <a:pt x="12919" y="16075"/>
                  <a:pt x="12882" y="16338"/>
                  <a:pt x="12502" y="16495"/>
                </a:cubicBezTo>
                <a:cubicBezTo>
                  <a:pt x="12348" y="16558"/>
                  <a:pt x="12213" y="16547"/>
                  <a:pt x="12154" y="16446"/>
                </a:cubicBezTo>
                <a:cubicBezTo>
                  <a:pt x="12380" y="16314"/>
                  <a:pt x="12633" y="16182"/>
                  <a:pt x="12824" y="16446"/>
                </a:cubicBezTo>
                <a:cubicBezTo>
                  <a:pt x="12844" y="16523"/>
                  <a:pt x="12868" y="16541"/>
                  <a:pt x="12824" y="16570"/>
                </a:cubicBezTo>
              </a:path>
              <a:path w="2655" h="795">
                <a:moveTo>
                  <a:pt x="13246" y="16321"/>
                </a:moveTo>
                <a:cubicBezTo>
                  <a:pt x="13222" y="16369"/>
                  <a:pt x="13214" y="16384"/>
                  <a:pt x="13221" y="16421"/>
                </a:cubicBezTo>
                <a:cubicBezTo>
                  <a:pt x="13286" y="16374"/>
                  <a:pt x="13322" y="16377"/>
                  <a:pt x="13246" y="16346"/>
                </a:cubicBezTo>
              </a:path>
              <a:path w="2655" h="795">
                <a:moveTo>
                  <a:pt x="13543" y="15949"/>
                </a:moveTo>
                <a:cubicBezTo>
                  <a:pt x="13610" y="15926"/>
                  <a:pt x="13963" y="15836"/>
                  <a:pt x="13816" y="16049"/>
                </a:cubicBezTo>
                <a:cubicBezTo>
                  <a:pt x="13730" y="16113"/>
                  <a:pt x="13714" y="16138"/>
                  <a:pt x="13643" y="16123"/>
                </a:cubicBezTo>
                <a:cubicBezTo>
                  <a:pt x="13698" y="15983"/>
                  <a:pt x="13879" y="16013"/>
                  <a:pt x="13915" y="16173"/>
                </a:cubicBezTo>
                <a:cubicBezTo>
                  <a:pt x="13971" y="16419"/>
                  <a:pt x="13729" y="16512"/>
                  <a:pt x="13543" y="16470"/>
                </a:cubicBezTo>
                <a:cubicBezTo>
                  <a:pt x="13515" y="16442"/>
                  <a:pt x="13507" y="16429"/>
                  <a:pt x="13519" y="16396"/>
                </a:cubicBezTo>
              </a:path>
              <a:path w="2655" h="795">
                <a:moveTo>
                  <a:pt x="14660" y="15850"/>
                </a:moveTo>
                <a:cubicBezTo>
                  <a:pt x="14566" y="15859"/>
                  <a:pt x="14476" y="15881"/>
                  <a:pt x="14387" y="15900"/>
                </a:cubicBezTo>
                <a:cubicBezTo>
                  <a:pt x="14346" y="15909"/>
                  <a:pt x="14350" y="16022"/>
                  <a:pt x="14337" y="16073"/>
                </a:cubicBezTo>
                <a:cubicBezTo>
                  <a:pt x="14438" y="16073"/>
                  <a:pt x="14533" y="16029"/>
                  <a:pt x="14635" y="16049"/>
                </a:cubicBezTo>
                <a:cubicBezTo>
                  <a:pt x="14824" y="16087"/>
                  <a:pt x="14873" y="16304"/>
                  <a:pt x="14709" y="16421"/>
                </a:cubicBezTo>
                <a:cubicBezTo>
                  <a:pt x="14571" y="16519"/>
                  <a:pt x="14480" y="16501"/>
                  <a:pt x="14337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4240" y="6018120"/>
            <a:ext cx="44640" cy="7308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8607" y="16743"/>
                </a:moveTo>
                <a:cubicBezTo>
                  <a:pt x="8587" y="16683"/>
                  <a:pt x="8534" y="16777"/>
                  <a:pt x="8533" y="16818"/>
                </a:cubicBezTo>
                <a:cubicBezTo>
                  <a:pt x="8528" y="16971"/>
                  <a:pt x="8596" y="16858"/>
                  <a:pt x="8607" y="16818"/>
                </a:cubicBezTo>
                <a:cubicBezTo>
                  <a:pt x="8583" y="16769"/>
                  <a:pt x="8505" y="16726"/>
                  <a:pt x="8483" y="16818"/>
                </a:cubicBezTo>
                <a:cubicBezTo>
                  <a:pt x="8446" y="16970"/>
                  <a:pt x="8569" y="16894"/>
                  <a:pt x="8607" y="16818"/>
                </a:cubicBezTo>
                <a:cubicBezTo>
                  <a:pt x="8607" y="16776"/>
                  <a:pt x="8607" y="16768"/>
                  <a:pt x="8607" y="16743"/>
                </a:cubicBezTo>
                <a:cubicBezTo>
                  <a:pt x="8577" y="16761"/>
                  <a:pt x="8455" y="16915"/>
                  <a:pt x="8508" y="16892"/>
                </a:cubicBezTo>
                <a:cubicBezTo>
                  <a:pt x="8566" y="16867"/>
                  <a:pt x="8553" y="16741"/>
                  <a:pt x="8533" y="16768"/>
                </a:cubicBezTo>
                <a:cubicBezTo>
                  <a:pt x="8533" y="16793"/>
                  <a:pt x="8533" y="16801"/>
                  <a:pt x="8533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8840" y="6027840"/>
            <a:ext cx="473040" cy="152280"/>
          </a:xfrm>
          <a:custGeom>
            <a:avLst/>
            <a:gdLst/>
            <a:ahLst/>
            <a:rect l="l" t="t" r="r" b="b"/>
            <a:pathLst>
              <a:path w="1316" h="423">
                <a:moveTo>
                  <a:pt x="8533" y="16892"/>
                </a:moveTo>
                <a:cubicBezTo>
                  <a:pt x="8533" y="16944"/>
                  <a:pt x="8538" y="16949"/>
                  <a:pt x="8508" y="16991"/>
                </a:cubicBezTo>
                <a:cubicBezTo>
                  <a:pt x="8477" y="17034"/>
                  <a:pt x="8402" y="17097"/>
                  <a:pt x="8334" y="17115"/>
                </a:cubicBezTo>
                <a:cubicBezTo>
                  <a:pt x="8250" y="17137"/>
                  <a:pt x="8148" y="17153"/>
                  <a:pt x="8062" y="17165"/>
                </a:cubicBezTo>
                <a:cubicBezTo>
                  <a:pt x="8012" y="17172"/>
                  <a:pt x="7983" y="17160"/>
                  <a:pt x="7938" y="17140"/>
                </a:cubicBezTo>
                <a:cubicBezTo>
                  <a:pt x="7895" y="17121"/>
                  <a:pt x="7852" y="17100"/>
                  <a:pt x="7838" y="17041"/>
                </a:cubicBezTo>
                <a:cubicBezTo>
                  <a:pt x="7820" y="16965"/>
                  <a:pt x="7880" y="16787"/>
                  <a:pt x="7863" y="16743"/>
                </a:cubicBezTo>
                <a:cubicBezTo>
                  <a:pt x="7855" y="16743"/>
                  <a:pt x="7846" y="16743"/>
                  <a:pt x="7838" y="16743"/>
                </a:cubicBezTo>
                <a:cubicBezTo>
                  <a:pt x="7781" y="16801"/>
                  <a:pt x="7792" y="16851"/>
                  <a:pt x="7764" y="16917"/>
                </a:cubicBezTo>
                <a:cubicBezTo>
                  <a:pt x="7741" y="16969"/>
                  <a:pt x="7726" y="17036"/>
                  <a:pt x="7689" y="17090"/>
                </a:cubicBezTo>
                <a:cubicBezTo>
                  <a:pt x="7653" y="17143"/>
                  <a:pt x="7574" y="17162"/>
                  <a:pt x="7516" y="17165"/>
                </a:cubicBezTo>
                <a:cubicBezTo>
                  <a:pt x="7466" y="17168"/>
                  <a:pt x="7432" y="17146"/>
                  <a:pt x="7392" y="17115"/>
                </a:cubicBezTo>
                <a:cubicBezTo>
                  <a:pt x="7306" y="17050"/>
                  <a:pt x="7350" y="17053"/>
                  <a:pt x="7317" y="16966"/>
                </a:cubicBezTo>
                <a:cubicBezTo>
                  <a:pt x="7302" y="16927"/>
                  <a:pt x="7314" y="16902"/>
                  <a:pt x="7317" y="16842"/>
                </a:cubicBezTo>
                <a:cubicBezTo>
                  <a:pt x="7317" y="16818"/>
                  <a:pt x="7317" y="16809"/>
                  <a:pt x="7317" y="16793"/>
                </a:cubicBezTo>
                <a:cubicBezTo>
                  <a:pt x="7283" y="16822"/>
                  <a:pt x="7249" y="16821"/>
                  <a:pt x="7268" y="16892"/>
                </a:cubicBezTo>
                <a:cubicBezTo>
                  <a:pt x="7276" y="16900"/>
                  <a:pt x="7285" y="16909"/>
                  <a:pt x="7293" y="16917"/>
                </a:cubicBezTo>
                <a:cubicBezTo>
                  <a:pt x="7332" y="16877"/>
                  <a:pt x="7373" y="16830"/>
                  <a:pt x="7342" y="16768"/>
                </a:cubicBezTo>
                <a:cubicBezTo>
                  <a:pt x="7294" y="16744"/>
                  <a:pt x="7280" y="16735"/>
                  <a:pt x="7243" y="16743"/>
                </a:cubicBezTo>
                <a:cubicBezTo>
                  <a:pt x="7225" y="16778"/>
                  <a:pt x="7196" y="16885"/>
                  <a:pt x="7243" y="16917"/>
                </a:cubicBezTo>
                <a:cubicBezTo>
                  <a:pt x="7332" y="16977"/>
                  <a:pt x="7388" y="16823"/>
                  <a:pt x="7367" y="16768"/>
                </a:cubicBezTo>
                <a:cubicBezTo>
                  <a:pt x="7350" y="16768"/>
                  <a:pt x="7334" y="16768"/>
                  <a:pt x="7317" y="16768"/>
                </a:cubicBezTo>
                <a:cubicBezTo>
                  <a:pt x="7252" y="16801"/>
                  <a:pt x="7167" y="16880"/>
                  <a:pt x="7243" y="16942"/>
                </a:cubicBezTo>
                <a:cubicBezTo>
                  <a:pt x="7333" y="17016"/>
                  <a:pt x="7354" y="16831"/>
                  <a:pt x="7367" y="16793"/>
                </a:cubicBezTo>
                <a:cubicBezTo>
                  <a:pt x="7367" y="16785"/>
                  <a:pt x="7367" y="16776"/>
                  <a:pt x="7367" y="16768"/>
                </a:cubicBezTo>
                <a:cubicBezTo>
                  <a:pt x="7352" y="16773"/>
                  <a:pt x="7210" y="16903"/>
                  <a:pt x="7293" y="16917"/>
                </a:cubicBezTo>
                <a:cubicBezTo>
                  <a:pt x="7301" y="16909"/>
                  <a:pt x="7309" y="16900"/>
                  <a:pt x="7317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ercent and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A.  0.3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6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8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0040" y="1990800"/>
            <a:ext cx="108000" cy="9036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4663" y="5581"/>
                </a:moveTo>
                <a:cubicBezTo>
                  <a:pt x="4655" y="5573"/>
                  <a:pt x="4646" y="5564"/>
                  <a:pt x="4638" y="5556"/>
                </a:cubicBezTo>
                <a:cubicBezTo>
                  <a:pt x="4722" y="5556"/>
                  <a:pt x="4801" y="5534"/>
                  <a:pt x="4887" y="5531"/>
                </a:cubicBezTo>
                <a:cubicBezTo>
                  <a:pt x="4903" y="5531"/>
                  <a:pt x="4920" y="5531"/>
                  <a:pt x="4936" y="5531"/>
                </a:cubicBezTo>
              </a:path>
              <a:path w="299" h="249">
                <a:moveTo>
                  <a:pt x="4638" y="5779"/>
                </a:moveTo>
                <a:cubicBezTo>
                  <a:pt x="4709" y="5733"/>
                  <a:pt x="4804" y="5703"/>
                  <a:pt x="4887" y="5680"/>
                </a:cubicBezTo>
                <a:cubicBezTo>
                  <a:pt x="4911" y="5680"/>
                  <a:pt x="4920" y="5680"/>
                  <a:pt x="4936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28880" y="1928880"/>
            <a:ext cx="142920" cy="250920"/>
          </a:xfrm>
          <a:custGeom>
            <a:avLst/>
            <a:gdLst/>
            <a:ahLst/>
            <a:rect l="l" t="t" r="r" b="b"/>
            <a:pathLst>
              <a:path w="398" h="695">
                <a:moveTo>
                  <a:pt x="5581" y="5358"/>
                </a:moveTo>
                <a:cubicBezTo>
                  <a:pt x="5373" y="5566"/>
                  <a:pt x="5374" y="5742"/>
                  <a:pt x="5383" y="6028"/>
                </a:cubicBezTo>
                <a:cubicBezTo>
                  <a:pt x="5647" y="6014"/>
                  <a:pt x="5882" y="5791"/>
                  <a:pt x="5705" y="5482"/>
                </a:cubicBezTo>
                <a:cubicBezTo>
                  <a:pt x="5613" y="5322"/>
                  <a:pt x="5474" y="5498"/>
                  <a:pt x="5432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13000" y="184788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6623" y="5234"/>
                </a:moveTo>
                <a:cubicBezTo>
                  <a:pt x="6424" y="5448"/>
                  <a:pt x="6438" y="5609"/>
                  <a:pt x="6499" y="5879"/>
                </a:cubicBezTo>
                <a:cubicBezTo>
                  <a:pt x="6669" y="5836"/>
                  <a:pt x="7056" y="5586"/>
                  <a:pt x="6821" y="5333"/>
                </a:cubicBezTo>
                <a:cubicBezTo>
                  <a:pt x="6714" y="5333"/>
                  <a:pt x="6689" y="5333"/>
                  <a:pt x="6623" y="5333"/>
                </a:cubicBezTo>
              </a:path>
              <a:path w="1018" h="745">
                <a:moveTo>
                  <a:pt x="7020" y="5159"/>
                </a:moveTo>
                <a:cubicBezTo>
                  <a:pt x="7121" y="5179"/>
                  <a:pt x="7188" y="5157"/>
                  <a:pt x="7293" y="5135"/>
                </a:cubicBezTo>
                <a:cubicBezTo>
                  <a:pt x="7301" y="5135"/>
                  <a:pt x="7309" y="5135"/>
                  <a:pt x="7317" y="5135"/>
                </a:cubicBezTo>
                <a:cubicBezTo>
                  <a:pt x="7348" y="5317"/>
                  <a:pt x="7419" y="5493"/>
                  <a:pt x="7441" y="5680"/>
                </a:cubicBezTo>
                <a:cubicBezTo>
                  <a:pt x="7441" y="5705"/>
                  <a:pt x="7441" y="5730"/>
                  <a:pt x="7441" y="57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7080" y="2089080"/>
            <a:ext cx="44640" cy="27000"/>
          </a:xfrm>
          <a:custGeom>
            <a:avLst/>
            <a:gdLst/>
            <a:ahLst/>
            <a:rect l="l" t="t" r="r" b="b"/>
            <a:pathLst>
              <a:path w="125" h="76">
                <a:moveTo>
                  <a:pt x="6102" y="5854"/>
                </a:moveTo>
                <a:cubicBezTo>
                  <a:pt x="6148" y="5900"/>
                  <a:pt x="6180" y="5890"/>
                  <a:pt x="6226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240" y="1973160"/>
            <a:ext cx="401760" cy="339840"/>
          </a:xfrm>
          <a:custGeom>
            <a:avLst/>
            <a:gdLst/>
            <a:ahLst/>
            <a:rect l="l" t="t" r="r" b="b"/>
            <a:pathLst>
              <a:path w="1118" h="943">
                <a:moveTo>
                  <a:pt x="3101" y="5978"/>
                </a:moveTo>
                <a:cubicBezTo>
                  <a:pt x="3045" y="5997"/>
                  <a:pt x="3110" y="6172"/>
                  <a:pt x="3076" y="6251"/>
                </a:cubicBezTo>
                <a:cubicBezTo>
                  <a:pt x="2989" y="6453"/>
                  <a:pt x="2736" y="6412"/>
                  <a:pt x="2580" y="6325"/>
                </a:cubicBezTo>
                <a:cubicBezTo>
                  <a:pt x="2485" y="6272"/>
                  <a:pt x="2484" y="6169"/>
                  <a:pt x="2456" y="6077"/>
                </a:cubicBezTo>
                <a:cubicBezTo>
                  <a:pt x="2544" y="6113"/>
                  <a:pt x="2569" y="6202"/>
                  <a:pt x="2555" y="6300"/>
                </a:cubicBezTo>
                <a:cubicBezTo>
                  <a:pt x="2536" y="6435"/>
                  <a:pt x="2363" y="6421"/>
                  <a:pt x="2257" y="6424"/>
                </a:cubicBezTo>
                <a:cubicBezTo>
                  <a:pt x="2176" y="6427"/>
                  <a:pt x="2108" y="6352"/>
                  <a:pt x="2108" y="6251"/>
                </a:cubicBezTo>
                <a:cubicBezTo>
                  <a:pt x="2108" y="6195"/>
                  <a:pt x="2135" y="6177"/>
                  <a:pt x="2084" y="6102"/>
                </a:cubicBezTo>
                <a:cubicBezTo>
                  <a:pt x="2026" y="6017"/>
                  <a:pt x="2076" y="6264"/>
                  <a:pt x="2084" y="6300"/>
                </a:cubicBezTo>
                <a:cubicBezTo>
                  <a:pt x="2208" y="6225"/>
                  <a:pt x="2161" y="6092"/>
                  <a:pt x="2034" y="6028"/>
                </a:cubicBezTo>
                <a:cubicBezTo>
                  <a:pt x="1981" y="6001"/>
                  <a:pt x="1996" y="6198"/>
                  <a:pt x="2034" y="6226"/>
                </a:cubicBezTo>
                <a:cubicBezTo>
                  <a:pt x="2034" y="6165"/>
                  <a:pt x="2030" y="6125"/>
                  <a:pt x="2009" y="6077"/>
                </a:cubicBezTo>
              </a:path>
              <a:path w="1118" h="943">
                <a:moveTo>
                  <a:pt x="2183" y="5556"/>
                </a:moveTo>
                <a:cubicBezTo>
                  <a:pt x="2166" y="5760"/>
                  <a:pt x="2131" y="5774"/>
                  <a:pt x="2282" y="5879"/>
                </a:cubicBezTo>
                <a:cubicBezTo>
                  <a:pt x="2391" y="5658"/>
                  <a:pt x="2382" y="5582"/>
                  <a:pt x="2158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2880" y="4081320"/>
            <a:ext cx="446040" cy="106560"/>
          </a:xfrm>
          <a:custGeom>
            <a:avLst/>
            <a:gdLst/>
            <a:ahLst/>
            <a:rect l="l" t="t" r="r" b="b"/>
            <a:pathLst>
              <a:path w="1241" h="298">
                <a:moveTo>
                  <a:pt x="3497" y="11609"/>
                </a:moveTo>
                <a:cubicBezTo>
                  <a:pt x="3442" y="11620"/>
                  <a:pt x="3360" y="11649"/>
                  <a:pt x="3299" y="11633"/>
                </a:cubicBezTo>
                <a:cubicBezTo>
                  <a:pt x="3179" y="11602"/>
                  <a:pt x="3065" y="11557"/>
                  <a:pt x="2977" y="11509"/>
                </a:cubicBezTo>
                <a:cubicBezTo>
                  <a:pt x="2969" y="11509"/>
                  <a:pt x="2960" y="11509"/>
                  <a:pt x="2952" y="11509"/>
                </a:cubicBezTo>
                <a:cubicBezTo>
                  <a:pt x="2992" y="11509"/>
                  <a:pt x="3073" y="11550"/>
                  <a:pt x="3001" y="11584"/>
                </a:cubicBezTo>
                <a:cubicBezTo>
                  <a:pt x="2820" y="11669"/>
                  <a:pt x="2610" y="11638"/>
                  <a:pt x="2431" y="11559"/>
                </a:cubicBezTo>
                <a:cubicBezTo>
                  <a:pt x="2335" y="11517"/>
                  <a:pt x="2265" y="11464"/>
                  <a:pt x="2257" y="11361"/>
                </a:cubicBezTo>
                <a:cubicBezTo>
                  <a:pt x="2257" y="11336"/>
                  <a:pt x="2257" y="11328"/>
                  <a:pt x="2282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2880" y="3768840"/>
            <a:ext cx="812880" cy="357120"/>
          </a:xfrm>
          <a:custGeom>
            <a:avLst/>
            <a:gdLst/>
            <a:ahLst/>
            <a:rect l="l" t="t" r="r" b="b"/>
            <a:pathLst>
              <a:path w="2258" h="993">
                <a:moveTo>
                  <a:pt x="6375" y="11013"/>
                </a:moveTo>
                <a:cubicBezTo>
                  <a:pt x="6218" y="11058"/>
                  <a:pt x="6215" y="11112"/>
                  <a:pt x="6201" y="11286"/>
                </a:cubicBezTo>
                <a:cubicBezTo>
                  <a:pt x="6233" y="11266"/>
                  <a:pt x="6366" y="11087"/>
                  <a:pt x="6251" y="11112"/>
                </a:cubicBezTo>
                <a:cubicBezTo>
                  <a:pt x="6201" y="11137"/>
                  <a:pt x="6184" y="11145"/>
                  <a:pt x="6176" y="11187"/>
                </a:cubicBezTo>
              </a:path>
              <a:path w="2258" h="993">
                <a:moveTo>
                  <a:pt x="6573" y="10740"/>
                </a:moveTo>
                <a:cubicBezTo>
                  <a:pt x="6513" y="10711"/>
                  <a:pt x="6739" y="10620"/>
                  <a:pt x="6747" y="10616"/>
                </a:cubicBezTo>
                <a:cubicBezTo>
                  <a:pt x="6892" y="10549"/>
                  <a:pt x="6972" y="10517"/>
                  <a:pt x="7119" y="10542"/>
                </a:cubicBezTo>
                <a:cubicBezTo>
                  <a:pt x="7106" y="10713"/>
                  <a:pt x="7021" y="10952"/>
                  <a:pt x="7045" y="11112"/>
                </a:cubicBezTo>
                <a:cubicBezTo>
                  <a:pt x="7053" y="11112"/>
                  <a:pt x="7061" y="11112"/>
                  <a:pt x="7069" y="11112"/>
                </a:cubicBezTo>
              </a:path>
              <a:path w="2258" h="993">
                <a:moveTo>
                  <a:pt x="5755" y="10765"/>
                </a:moveTo>
                <a:cubicBezTo>
                  <a:pt x="5495" y="10713"/>
                  <a:pt x="5485" y="10833"/>
                  <a:pt x="5507" y="11112"/>
                </a:cubicBezTo>
                <a:cubicBezTo>
                  <a:pt x="5549" y="11324"/>
                  <a:pt x="5538" y="11380"/>
                  <a:pt x="5655" y="11460"/>
                </a:cubicBezTo>
                <a:cubicBezTo>
                  <a:pt x="5765" y="11325"/>
                  <a:pt x="6066" y="10825"/>
                  <a:pt x="5655" y="10815"/>
                </a:cubicBezTo>
                <a:cubicBezTo>
                  <a:pt x="5622" y="10840"/>
                  <a:pt x="5589" y="10864"/>
                  <a:pt x="5556" y="10889"/>
                </a:cubicBezTo>
              </a:path>
              <a:path w="2258" h="993">
                <a:moveTo>
                  <a:pt x="7689" y="10468"/>
                </a:moveTo>
                <a:cubicBezTo>
                  <a:pt x="7511" y="10527"/>
                  <a:pt x="7479" y="10796"/>
                  <a:pt x="7516" y="10964"/>
                </a:cubicBezTo>
                <a:cubicBezTo>
                  <a:pt x="7541" y="10997"/>
                  <a:pt x="7565" y="11030"/>
                  <a:pt x="7590" y="11063"/>
                </a:cubicBezTo>
                <a:cubicBezTo>
                  <a:pt x="7754" y="10921"/>
                  <a:pt x="7912" y="10632"/>
                  <a:pt x="7640" y="10468"/>
                </a:cubicBezTo>
                <a:cubicBezTo>
                  <a:pt x="7623" y="10484"/>
                  <a:pt x="7607" y="10501"/>
                  <a:pt x="7590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35040" y="2517840"/>
            <a:ext cx="3386160" cy="2438280"/>
          </a:xfrm>
          <a:custGeom>
            <a:avLst/>
            <a:gdLst/>
            <a:ahLst/>
            <a:rect l="l" t="t" r="r" b="b"/>
            <a:pathLst>
              <a:path w="9402" h="6773">
                <a:moveTo>
                  <a:pt x="7888" y="10964"/>
                </a:moveTo>
                <a:cubicBezTo>
                  <a:pt x="8001" y="10940"/>
                  <a:pt x="8119" y="10912"/>
                  <a:pt x="8235" y="10889"/>
                </a:cubicBezTo>
                <a:cubicBezTo>
                  <a:pt x="8431" y="10851"/>
                  <a:pt x="8596" y="10818"/>
                  <a:pt x="8781" y="10740"/>
                </a:cubicBezTo>
                <a:cubicBezTo>
                  <a:pt x="8912" y="10685"/>
                  <a:pt x="9040" y="10605"/>
                  <a:pt x="9153" y="10517"/>
                </a:cubicBezTo>
                <a:cubicBezTo>
                  <a:pt x="9225" y="10461"/>
                  <a:pt x="9286" y="10369"/>
                  <a:pt x="9351" y="10319"/>
                </a:cubicBezTo>
                <a:cubicBezTo>
                  <a:pt x="9438" y="10252"/>
                  <a:pt x="9536" y="10205"/>
                  <a:pt x="9624" y="10145"/>
                </a:cubicBezTo>
                <a:cubicBezTo>
                  <a:pt x="9713" y="10083"/>
                  <a:pt x="9789" y="10017"/>
                  <a:pt x="9872" y="9947"/>
                </a:cubicBezTo>
                <a:cubicBezTo>
                  <a:pt x="9985" y="9852"/>
                  <a:pt x="10102" y="9772"/>
                  <a:pt x="10220" y="9674"/>
                </a:cubicBezTo>
                <a:cubicBezTo>
                  <a:pt x="10359" y="9559"/>
                  <a:pt x="10467" y="9431"/>
                  <a:pt x="10592" y="9302"/>
                </a:cubicBezTo>
                <a:cubicBezTo>
                  <a:pt x="10716" y="9175"/>
                  <a:pt x="10845" y="9058"/>
                  <a:pt x="10964" y="8930"/>
                </a:cubicBezTo>
                <a:cubicBezTo>
                  <a:pt x="11100" y="8784"/>
                  <a:pt x="11225" y="8628"/>
                  <a:pt x="11361" y="8483"/>
                </a:cubicBezTo>
                <a:cubicBezTo>
                  <a:pt x="11692" y="8130"/>
                  <a:pt x="12043" y="7750"/>
                  <a:pt x="12452" y="7491"/>
                </a:cubicBezTo>
                <a:cubicBezTo>
                  <a:pt x="12591" y="7402"/>
                  <a:pt x="12721" y="7351"/>
                  <a:pt x="12874" y="7293"/>
                </a:cubicBezTo>
                <a:cubicBezTo>
                  <a:pt x="12972" y="7256"/>
                  <a:pt x="13070" y="7237"/>
                  <a:pt x="13171" y="7218"/>
                </a:cubicBezTo>
                <a:cubicBezTo>
                  <a:pt x="13294" y="7195"/>
                  <a:pt x="13418" y="7184"/>
                  <a:pt x="13543" y="7169"/>
                </a:cubicBezTo>
                <a:cubicBezTo>
                  <a:pt x="13466" y="7127"/>
                  <a:pt x="13351" y="7092"/>
                  <a:pt x="13271" y="7045"/>
                </a:cubicBezTo>
                <a:cubicBezTo>
                  <a:pt x="13251" y="7004"/>
                  <a:pt x="13253" y="6988"/>
                  <a:pt x="13221" y="6995"/>
                </a:cubicBezTo>
                <a:cubicBezTo>
                  <a:pt x="13273" y="7014"/>
                  <a:pt x="13397" y="7032"/>
                  <a:pt x="13469" y="7069"/>
                </a:cubicBezTo>
                <a:cubicBezTo>
                  <a:pt x="13519" y="7094"/>
                  <a:pt x="13545" y="7141"/>
                  <a:pt x="13593" y="7169"/>
                </a:cubicBezTo>
                <a:cubicBezTo>
                  <a:pt x="13514" y="7283"/>
                  <a:pt x="13421" y="7412"/>
                  <a:pt x="13345" y="7516"/>
                </a:cubicBezTo>
              </a:path>
              <a:path w="9402" h="6773">
                <a:moveTo>
                  <a:pt x="4341" y="7293"/>
                </a:moveTo>
                <a:cubicBezTo>
                  <a:pt x="4390" y="7279"/>
                  <a:pt x="4398" y="7270"/>
                  <a:pt x="4490" y="7243"/>
                </a:cubicBezTo>
                <a:cubicBezTo>
                  <a:pt x="4675" y="7190"/>
                  <a:pt x="4843" y="7162"/>
                  <a:pt x="5035" y="7144"/>
                </a:cubicBezTo>
                <a:cubicBezTo>
                  <a:pt x="5302" y="7119"/>
                  <a:pt x="5561" y="7140"/>
                  <a:pt x="5829" y="7144"/>
                </a:cubicBezTo>
                <a:cubicBezTo>
                  <a:pt x="6406" y="7154"/>
                  <a:pt x="6997" y="7188"/>
                  <a:pt x="7565" y="7293"/>
                </a:cubicBezTo>
                <a:cubicBezTo>
                  <a:pt x="8111" y="7394"/>
                  <a:pt x="8580" y="7576"/>
                  <a:pt x="9079" y="7813"/>
                </a:cubicBezTo>
                <a:cubicBezTo>
                  <a:pt x="9458" y="7994"/>
                  <a:pt x="9770" y="8189"/>
                  <a:pt x="10071" y="8483"/>
                </a:cubicBezTo>
                <a:cubicBezTo>
                  <a:pt x="10229" y="8638"/>
                  <a:pt x="10351" y="8817"/>
                  <a:pt x="10468" y="9004"/>
                </a:cubicBezTo>
                <a:cubicBezTo>
                  <a:pt x="10623" y="9252"/>
                  <a:pt x="10669" y="9534"/>
                  <a:pt x="10790" y="9798"/>
                </a:cubicBezTo>
                <a:cubicBezTo>
                  <a:pt x="10912" y="10062"/>
                  <a:pt x="11049" y="10336"/>
                  <a:pt x="11187" y="10592"/>
                </a:cubicBezTo>
                <a:cubicBezTo>
                  <a:pt x="11275" y="10756"/>
                  <a:pt x="11388" y="10904"/>
                  <a:pt x="11485" y="11063"/>
                </a:cubicBezTo>
                <a:cubicBezTo>
                  <a:pt x="11598" y="11248"/>
                  <a:pt x="11714" y="11427"/>
                  <a:pt x="11832" y="11609"/>
                </a:cubicBezTo>
                <a:cubicBezTo>
                  <a:pt x="11920" y="11744"/>
                  <a:pt x="12009" y="11875"/>
                  <a:pt x="12105" y="12005"/>
                </a:cubicBezTo>
                <a:cubicBezTo>
                  <a:pt x="12214" y="12153"/>
                  <a:pt x="12298" y="12223"/>
                  <a:pt x="12452" y="12328"/>
                </a:cubicBezTo>
                <a:cubicBezTo>
                  <a:pt x="12569" y="12408"/>
                  <a:pt x="12665" y="12469"/>
                  <a:pt x="12799" y="12526"/>
                </a:cubicBezTo>
                <a:cubicBezTo>
                  <a:pt x="12914" y="12575"/>
                  <a:pt x="12992" y="12589"/>
                  <a:pt x="13122" y="12601"/>
                </a:cubicBezTo>
                <a:cubicBezTo>
                  <a:pt x="13238" y="12611"/>
                  <a:pt x="13369" y="12605"/>
                  <a:pt x="13469" y="12576"/>
                </a:cubicBezTo>
                <a:cubicBezTo>
                  <a:pt x="13539" y="12556"/>
                  <a:pt x="13620" y="12593"/>
                  <a:pt x="13618" y="12576"/>
                </a:cubicBezTo>
                <a:cubicBezTo>
                  <a:pt x="13605" y="12489"/>
                  <a:pt x="13493" y="12507"/>
                  <a:pt x="13444" y="12452"/>
                </a:cubicBezTo>
                <a:cubicBezTo>
                  <a:pt x="13515" y="12477"/>
                  <a:pt x="13616" y="12508"/>
                  <a:pt x="13667" y="12526"/>
                </a:cubicBezTo>
                <a:cubicBezTo>
                  <a:pt x="13612" y="12594"/>
                  <a:pt x="13540" y="12705"/>
                  <a:pt x="13469" y="12774"/>
                </a:cubicBezTo>
                <a:cubicBezTo>
                  <a:pt x="13469" y="12766"/>
                  <a:pt x="13469" y="12758"/>
                  <a:pt x="13469" y="12750"/>
                </a:cubicBezTo>
              </a:path>
              <a:path w="9402" h="6773">
                <a:moveTo>
                  <a:pt x="4291" y="12402"/>
                </a:moveTo>
                <a:cubicBezTo>
                  <a:pt x="4331" y="12419"/>
                  <a:pt x="4299" y="12439"/>
                  <a:pt x="4341" y="12452"/>
                </a:cubicBezTo>
                <a:cubicBezTo>
                  <a:pt x="4457" y="12489"/>
                  <a:pt x="4565" y="12515"/>
                  <a:pt x="4688" y="12526"/>
                </a:cubicBezTo>
                <a:cubicBezTo>
                  <a:pt x="4931" y="12547"/>
                  <a:pt x="5189" y="12566"/>
                  <a:pt x="5432" y="12576"/>
                </a:cubicBezTo>
                <a:cubicBezTo>
                  <a:pt x="5932" y="12596"/>
                  <a:pt x="6452" y="12530"/>
                  <a:pt x="6945" y="12452"/>
                </a:cubicBezTo>
                <a:cubicBezTo>
                  <a:pt x="7316" y="12393"/>
                  <a:pt x="7701" y="12309"/>
                  <a:pt x="8062" y="12204"/>
                </a:cubicBezTo>
                <a:cubicBezTo>
                  <a:pt x="8536" y="12066"/>
                  <a:pt x="9002" y="11913"/>
                  <a:pt x="9451" y="11708"/>
                </a:cubicBezTo>
                <a:cubicBezTo>
                  <a:pt x="9776" y="11560"/>
                  <a:pt x="10005" y="11334"/>
                  <a:pt x="10269" y="11112"/>
                </a:cubicBezTo>
                <a:cubicBezTo>
                  <a:pt x="10592" y="10841"/>
                  <a:pt x="10771" y="10556"/>
                  <a:pt x="11038" y="10244"/>
                </a:cubicBezTo>
                <a:cubicBezTo>
                  <a:pt x="11124" y="10143"/>
                  <a:pt x="11219" y="10046"/>
                  <a:pt x="11311" y="9947"/>
                </a:cubicBezTo>
                <a:cubicBezTo>
                  <a:pt x="11453" y="9795"/>
                  <a:pt x="11569" y="9628"/>
                  <a:pt x="11708" y="9475"/>
                </a:cubicBezTo>
                <a:cubicBezTo>
                  <a:pt x="11826" y="9345"/>
                  <a:pt x="11948" y="9216"/>
                  <a:pt x="12080" y="9103"/>
                </a:cubicBezTo>
                <a:cubicBezTo>
                  <a:pt x="12200" y="9000"/>
                  <a:pt x="12328" y="8903"/>
                  <a:pt x="12452" y="8806"/>
                </a:cubicBezTo>
                <a:cubicBezTo>
                  <a:pt x="12613" y="8680"/>
                  <a:pt x="12809" y="8504"/>
                  <a:pt x="12998" y="8434"/>
                </a:cubicBezTo>
                <a:cubicBezTo>
                  <a:pt x="13104" y="8395"/>
                  <a:pt x="13213" y="8385"/>
                  <a:pt x="13320" y="8359"/>
                </a:cubicBezTo>
                <a:cubicBezTo>
                  <a:pt x="13388" y="8342"/>
                  <a:pt x="13474" y="8323"/>
                  <a:pt x="13543" y="8310"/>
                </a:cubicBezTo>
                <a:cubicBezTo>
                  <a:pt x="13551" y="8310"/>
                  <a:pt x="13560" y="8310"/>
                  <a:pt x="13568" y="8310"/>
                </a:cubicBezTo>
                <a:cubicBezTo>
                  <a:pt x="13491" y="8255"/>
                  <a:pt x="13367" y="8173"/>
                  <a:pt x="13271" y="8111"/>
                </a:cubicBezTo>
                <a:cubicBezTo>
                  <a:pt x="13301" y="8135"/>
                  <a:pt x="13542" y="8229"/>
                  <a:pt x="13543" y="8235"/>
                </a:cubicBezTo>
                <a:cubicBezTo>
                  <a:pt x="13571" y="8370"/>
                  <a:pt x="13468" y="8497"/>
                  <a:pt x="13419" y="8607"/>
                </a:cubicBezTo>
                <a:cubicBezTo>
                  <a:pt x="13419" y="8632"/>
                  <a:pt x="13419" y="8640"/>
                  <a:pt x="13395" y="8632"/>
                </a:cubicBezTo>
              </a:path>
              <a:path w="9402" h="6773">
                <a:moveTo>
                  <a:pt x="4961" y="13767"/>
                </a:moveTo>
                <a:cubicBezTo>
                  <a:pt x="5035" y="13754"/>
                  <a:pt x="5061" y="13756"/>
                  <a:pt x="5135" y="13742"/>
                </a:cubicBezTo>
                <a:cubicBezTo>
                  <a:pt x="5410" y="13688"/>
                  <a:pt x="5681" y="13614"/>
                  <a:pt x="5953" y="13543"/>
                </a:cubicBezTo>
                <a:cubicBezTo>
                  <a:pt x="6339" y="13442"/>
                  <a:pt x="6707" y="13316"/>
                  <a:pt x="7069" y="13146"/>
                </a:cubicBezTo>
                <a:cubicBezTo>
                  <a:pt x="7429" y="12976"/>
                  <a:pt x="7794" y="12829"/>
                  <a:pt x="8161" y="12675"/>
                </a:cubicBezTo>
                <a:cubicBezTo>
                  <a:pt x="8461" y="12549"/>
                  <a:pt x="8748" y="12390"/>
                  <a:pt x="9029" y="12229"/>
                </a:cubicBezTo>
                <a:cubicBezTo>
                  <a:pt x="9436" y="11995"/>
                  <a:pt x="9841" y="11749"/>
                  <a:pt x="10244" y="11509"/>
                </a:cubicBezTo>
                <a:cubicBezTo>
                  <a:pt x="10522" y="11343"/>
                  <a:pt x="10790" y="11156"/>
                  <a:pt x="11063" y="10988"/>
                </a:cubicBezTo>
                <a:cubicBezTo>
                  <a:pt x="11366" y="10802"/>
                  <a:pt x="11622" y="10599"/>
                  <a:pt x="11906" y="10393"/>
                </a:cubicBezTo>
                <a:cubicBezTo>
                  <a:pt x="12044" y="10293"/>
                  <a:pt x="12179" y="10233"/>
                  <a:pt x="12328" y="10145"/>
                </a:cubicBezTo>
                <a:cubicBezTo>
                  <a:pt x="12420" y="10091"/>
                  <a:pt x="12502" y="10036"/>
                  <a:pt x="12601" y="9996"/>
                </a:cubicBezTo>
                <a:cubicBezTo>
                  <a:pt x="12702" y="9955"/>
                  <a:pt x="12817" y="9927"/>
                  <a:pt x="12923" y="9897"/>
                </a:cubicBezTo>
                <a:cubicBezTo>
                  <a:pt x="13069" y="9856"/>
                  <a:pt x="13220" y="9844"/>
                  <a:pt x="13370" y="9823"/>
                </a:cubicBezTo>
                <a:cubicBezTo>
                  <a:pt x="13431" y="9814"/>
                  <a:pt x="13490" y="9805"/>
                  <a:pt x="13543" y="9798"/>
                </a:cubicBezTo>
                <a:cubicBezTo>
                  <a:pt x="13448" y="9732"/>
                  <a:pt x="13361" y="9670"/>
                  <a:pt x="13271" y="9599"/>
                </a:cubicBezTo>
                <a:cubicBezTo>
                  <a:pt x="13353" y="9655"/>
                  <a:pt x="13437" y="9717"/>
                  <a:pt x="13519" y="9773"/>
                </a:cubicBezTo>
                <a:cubicBezTo>
                  <a:pt x="13473" y="9836"/>
                  <a:pt x="13388" y="9926"/>
                  <a:pt x="13345" y="9996"/>
                </a:cubicBezTo>
                <a:cubicBezTo>
                  <a:pt x="13321" y="10034"/>
                  <a:pt x="13369" y="10008"/>
                  <a:pt x="13345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65200" y="2081160"/>
            <a:ext cx="3365640" cy="2071800"/>
          </a:xfrm>
          <a:custGeom>
            <a:avLst/>
            <a:gdLst/>
            <a:ahLst/>
            <a:rect l="l" t="t" r="r" b="b"/>
            <a:pathLst>
              <a:path w="9352" h="5756">
                <a:moveTo>
                  <a:pt x="4068" y="5829"/>
                </a:moveTo>
                <a:cubicBezTo>
                  <a:pt x="4143" y="5820"/>
                  <a:pt x="4094" y="5788"/>
                  <a:pt x="4192" y="5779"/>
                </a:cubicBezTo>
                <a:cubicBezTo>
                  <a:pt x="4661" y="5735"/>
                  <a:pt x="5097" y="5927"/>
                  <a:pt x="5482" y="6176"/>
                </a:cubicBezTo>
                <a:cubicBezTo>
                  <a:pt x="5808" y="6386"/>
                  <a:pt x="6152" y="6573"/>
                  <a:pt x="6474" y="6796"/>
                </a:cubicBezTo>
                <a:cubicBezTo>
                  <a:pt x="6787" y="7013"/>
                  <a:pt x="7131" y="7242"/>
                  <a:pt x="7417" y="7491"/>
                </a:cubicBezTo>
                <a:cubicBezTo>
                  <a:pt x="7703" y="7740"/>
                  <a:pt x="7987" y="7952"/>
                  <a:pt x="8285" y="8186"/>
                </a:cubicBezTo>
                <a:cubicBezTo>
                  <a:pt x="8596" y="8430"/>
                  <a:pt x="8863" y="8737"/>
                  <a:pt x="9153" y="9004"/>
                </a:cubicBezTo>
                <a:cubicBezTo>
                  <a:pt x="9342" y="9178"/>
                  <a:pt x="9531" y="9354"/>
                  <a:pt x="9723" y="9525"/>
                </a:cubicBezTo>
                <a:cubicBezTo>
                  <a:pt x="9930" y="9709"/>
                  <a:pt x="10126" y="9926"/>
                  <a:pt x="10344" y="10096"/>
                </a:cubicBezTo>
                <a:cubicBezTo>
                  <a:pt x="10523" y="10236"/>
                  <a:pt x="10732" y="10338"/>
                  <a:pt x="10914" y="10468"/>
                </a:cubicBezTo>
                <a:cubicBezTo>
                  <a:pt x="11138" y="10629"/>
                  <a:pt x="11328" y="10779"/>
                  <a:pt x="11584" y="10889"/>
                </a:cubicBezTo>
                <a:cubicBezTo>
                  <a:pt x="11917" y="11032"/>
                  <a:pt x="12292" y="11128"/>
                  <a:pt x="12650" y="11162"/>
                </a:cubicBezTo>
                <a:cubicBezTo>
                  <a:pt x="12729" y="11169"/>
                  <a:pt x="12813" y="11150"/>
                  <a:pt x="12898" y="11162"/>
                </a:cubicBezTo>
                <a:cubicBezTo>
                  <a:pt x="13012" y="11177"/>
                  <a:pt x="13092" y="11228"/>
                  <a:pt x="13196" y="11261"/>
                </a:cubicBezTo>
                <a:cubicBezTo>
                  <a:pt x="13274" y="11286"/>
                  <a:pt x="13337" y="11309"/>
                  <a:pt x="13419" y="11336"/>
                </a:cubicBezTo>
                <a:cubicBezTo>
                  <a:pt x="13289" y="11232"/>
                  <a:pt x="13156" y="11134"/>
                  <a:pt x="13022" y="11038"/>
                </a:cubicBezTo>
                <a:cubicBezTo>
                  <a:pt x="13106" y="11086"/>
                  <a:pt x="13209" y="11128"/>
                  <a:pt x="13295" y="11187"/>
                </a:cubicBezTo>
                <a:cubicBezTo>
                  <a:pt x="13336" y="11207"/>
                  <a:pt x="13352" y="11205"/>
                  <a:pt x="13345" y="11237"/>
                </a:cubicBezTo>
                <a:cubicBezTo>
                  <a:pt x="13245" y="11329"/>
                  <a:pt x="13078" y="11463"/>
                  <a:pt x="13022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20960" y="3946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838" y="10964"/>
                </a:moveTo>
                <a:lnTo>
                  <a:pt x="7838" y="109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30680" y="3946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863" y="10964"/>
                </a:moveTo>
                <a:lnTo>
                  <a:pt x="7863" y="109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1040" y="2990880"/>
            <a:ext cx="3151080" cy="2492280"/>
          </a:xfrm>
          <a:custGeom>
            <a:avLst/>
            <a:gdLst/>
            <a:ahLst/>
            <a:rect l="l" t="t" r="r" b="b"/>
            <a:pathLst>
              <a:path w="8757" h="6921">
                <a:moveTo>
                  <a:pt x="4862" y="8483"/>
                </a:moveTo>
                <a:cubicBezTo>
                  <a:pt x="4919" y="8461"/>
                  <a:pt x="4929" y="8457"/>
                  <a:pt x="4986" y="8434"/>
                </a:cubicBezTo>
                <a:cubicBezTo>
                  <a:pt x="5125" y="8378"/>
                  <a:pt x="5207" y="8354"/>
                  <a:pt x="5358" y="8334"/>
                </a:cubicBezTo>
                <a:cubicBezTo>
                  <a:pt x="5555" y="8308"/>
                  <a:pt x="5752" y="8303"/>
                  <a:pt x="5953" y="8310"/>
                </a:cubicBezTo>
                <a:cubicBezTo>
                  <a:pt x="6578" y="8332"/>
                  <a:pt x="7148" y="8467"/>
                  <a:pt x="7739" y="8657"/>
                </a:cubicBezTo>
                <a:cubicBezTo>
                  <a:pt x="8102" y="8774"/>
                  <a:pt x="8459" y="8866"/>
                  <a:pt x="8806" y="9029"/>
                </a:cubicBezTo>
                <a:cubicBezTo>
                  <a:pt x="9413" y="9315"/>
                  <a:pt x="9968" y="9873"/>
                  <a:pt x="10195" y="10517"/>
                </a:cubicBezTo>
                <a:cubicBezTo>
                  <a:pt x="10281" y="10762"/>
                  <a:pt x="10325" y="11035"/>
                  <a:pt x="10393" y="11286"/>
                </a:cubicBezTo>
                <a:cubicBezTo>
                  <a:pt x="10460" y="11536"/>
                  <a:pt x="10523" y="11786"/>
                  <a:pt x="10616" y="12030"/>
                </a:cubicBezTo>
                <a:cubicBezTo>
                  <a:pt x="10689" y="12221"/>
                  <a:pt x="10749" y="12407"/>
                  <a:pt x="10815" y="12601"/>
                </a:cubicBezTo>
                <a:cubicBezTo>
                  <a:pt x="10877" y="12784"/>
                  <a:pt x="10953" y="12965"/>
                  <a:pt x="11013" y="13146"/>
                </a:cubicBezTo>
                <a:cubicBezTo>
                  <a:pt x="11129" y="13497"/>
                  <a:pt x="11285" y="13830"/>
                  <a:pt x="11485" y="14139"/>
                </a:cubicBezTo>
                <a:cubicBezTo>
                  <a:pt x="11586" y="14295"/>
                  <a:pt x="11718" y="14488"/>
                  <a:pt x="11881" y="14585"/>
                </a:cubicBezTo>
                <a:cubicBezTo>
                  <a:pt x="11992" y="14651"/>
                  <a:pt x="12130" y="14677"/>
                  <a:pt x="12254" y="14709"/>
                </a:cubicBezTo>
                <a:cubicBezTo>
                  <a:pt x="12395" y="14745"/>
                  <a:pt x="12534" y="14753"/>
                  <a:pt x="12675" y="14784"/>
                </a:cubicBezTo>
                <a:cubicBezTo>
                  <a:pt x="12777" y="14806"/>
                  <a:pt x="12871" y="14830"/>
                  <a:pt x="12973" y="14858"/>
                </a:cubicBezTo>
                <a:cubicBezTo>
                  <a:pt x="13064" y="14883"/>
                  <a:pt x="13158" y="14908"/>
                  <a:pt x="13246" y="14932"/>
                </a:cubicBezTo>
                <a:cubicBezTo>
                  <a:pt x="13339" y="14957"/>
                  <a:pt x="13443" y="14982"/>
                  <a:pt x="13543" y="15007"/>
                </a:cubicBezTo>
                <a:cubicBezTo>
                  <a:pt x="13573" y="15015"/>
                  <a:pt x="13588" y="15025"/>
                  <a:pt x="13618" y="15032"/>
                </a:cubicBezTo>
                <a:cubicBezTo>
                  <a:pt x="13551" y="14952"/>
                  <a:pt x="13493" y="14860"/>
                  <a:pt x="13419" y="14784"/>
                </a:cubicBezTo>
                <a:cubicBezTo>
                  <a:pt x="13403" y="14776"/>
                  <a:pt x="13386" y="14767"/>
                  <a:pt x="13370" y="14759"/>
                </a:cubicBezTo>
                <a:cubicBezTo>
                  <a:pt x="13423" y="14804"/>
                  <a:pt x="13442" y="14812"/>
                  <a:pt x="13494" y="14858"/>
                </a:cubicBezTo>
                <a:cubicBezTo>
                  <a:pt x="13519" y="14883"/>
                  <a:pt x="13527" y="14891"/>
                  <a:pt x="13543" y="14908"/>
                </a:cubicBezTo>
                <a:cubicBezTo>
                  <a:pt x="13499" y="14990"/>
                  <a:pt x="13443" y="15091"/>
                  <a:pt x="13395" y="15180"/>
                </a:cubicBezTo>
                <a:cubicBezTo>
                  <a:pt x="13372" y="15203"/>
                  <a:pt x="13364" y="15207"/>
                  <a:pt x="13370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7040" y="3500280"/>
            <a:ext cx="3303720" cy="1616400"/>
          </a:xfrm>
          <a:custGeom>
            <a:avLst/>
            <a:gdLst/>
            <a:ahLst/>
            <a:rect l="l" t="t" r="r" b="b"/>
            <a:pathLst>
              <a:path w="9179" h="4491">
                <a:moveTo>
                  <a:pt x="4738" y="9847"/>
                </a:moveTo>
                <a:cubicBezTo>
                  <a:pt x="4776" y="9832"/>
                  <a:pt x="4749" y="9838"/>
                  <a:pt x="4787" y="9823"/>
                </a:cubicBezTo>
                <a:cubicBezTo>
                  <a:pt x="5113" y="9695"/>
                  <a:pt x="5430" y="9723"/>
                  <a:pt x="5779" y="9723"/>
                </a:cubicBezTo>
                <a:cubicBezTo>
                  <a:pt x="6190" y="9723"/>
                  <a:pt x="6544" y="9764"/>
                  <a:pt x="6945" y="9847"/>
                </a:cubicBezTo>
                <a:cubicBezTo>
                  <a:pt x="7288" y="9918"/>
                  <a:pt x="7585" y="10024"/>
                  <a:pt x="7913" y="10145"/>
                </a:cubicBezTo>
                <a:cubicBezTo>
                  <a:pt x="8217" y="10258"/>
                  <a:pt x="8515" y="10378"/>
                  <a:pt x="8781" y="10567"/>
                </a:cubicBezTo>
                <a:cubicBezTo>
                  <a:pt x="8972" y="10703"/>
                  <a:pt x="9146" y="10866"/>
                  <a:pt x="9302" y="11038"/>
                </a:cubicBezTo>
                <a:cubicBezTo>
                  <a:pt x="9438" y="11188"/>
                  <a:pt x="9544" y="11352"/>
                  <a:pt x="9674" y="11509"/>
                </a:cubicBezTo>
                <a:cubicBezTo>
                  <a:pt x="9821" y="11687"/>
                  <a:pt x="9983" y="11843"/>
                  <a:pt x="10145" y="12005"/>
                </a:cubicBezTo>
                <a:cubicBezTo>
                  <a:pt x="10298" y="12158"/>
                  <a:pt x="10451" y="12312"/>
                  <a:pt x="10616" y="12452"/>
                </a:cubicBezTo>
                <a:cubicBezTo>
                  <a:pt x="10773" y="12585"/>
                  <a:pt x="10942" y="12709"/>
                  <a:pt x="11112" y="12824"/>
                </a:cubicBezTo>
                <a:cubicBezTo>
                  <a:pt x="11426" y="13036"/>
                  <a:pt x="11706" y="13267"/>
                  <a:pt x="12005" y="13494"/>
                </a:cubicBezTo>
                <a:cubicBezTo>
                  <a:pt x="12100" y="13566"/>
                  <a:pt x="12225" y="13658"/>
                  <a:pt x="12328" y="13717"/>
                </a:cubicBezTo>
                <a:cubicBezTo>
                  <a:pt x="12435" y="13779"/>
                  <a:pt x="12537" y="13820"/>
                  <a:pt x="12650" y="13866"/>
                </a:cubicBezTo>
                <a:cubicBezTo>
                  <a:pt x="12730" y="13899"/>
                  <a:pt x="12790" y="13920"/>
                  <a:pt x="12874" y="13940"/>
                </a:cubicBezTo>
                <a:cubicBezTo>
                  <a:pt x="12985" y="13966"/>
                  <a:pt x="13109" y="13999"/>
                  <a:pt x="13221" y="14015"/>
                </a:cubicBezTo>
                <a:cubicBezTo>
                  <a:pt x="13306" y="14027"/>
                  <a:pt x="13381" y="14034"/>
                  <a:pt x="13469" y="14039"/>
                </a:cubicBezTo>
                <a:cubicBezTo>
                  <a:pt x="13597" y="14046"/>
                  <a:pt x="13730" y="14033"/>
                  <a:pt x="13841" y="14015"/>
                </a:cubicBezTo>
                <a:cubicBezTo>
                  <a:pt x="13883" y="14015"/>
                  <a:pt x="13899" y="14023"/>
                  <a:pt x="13891" y="13990"/>
                </a:cubicBezTo>
                <a:cubicBezTo>
                  <a:pt x="13808" y="13952"/>
                  <a:pt x="13578" y="13845"/>
                  <a:pt x="13568" y="13841"/>
                </a:cubicBezTo>
                <a:cubicBezTo>
                  <a:pt x="13628" y="13883"/>
                  <a:pt x="13712" y="13927"/>
                  <a:pt x="13767" y="13965"/>
                </a:cubicBezTo>
                <a:cubicBezTo>
                  <a:pt x="13775" y="13973"/>
                  <a:pt x="13783" y="13982"/>
                  <a:pt x="13791" y="13990"/>
                </a:cubicBezTo>
                <a:cubicBezTo>
                  <a:pt x="13745" y="14054"/>
                  <a:pt x="13751" y="14182"/>
                  <a:pt x="13643" y="14213"/>
                </a:cubicBezTo>
                <a:cubicBezTo>
                  <a:pt x="13600" y="14213"/>
                  <a:pt x="13586" y="14196"/>
                  <a:pt x="13593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8960" y="2116080"/>
            <a:ext cx="3125880" cy="3340080"/>
          </a:xfrm>
          <a:custGeom>
            <a:avLst/>
            <a:gdLst/>
            <a:ahLst/>
            <a:rect l="l" t="t" r="r" b="b"/>
            <a:pathLst>
              <a:path w="8682" h="9278">
                <a:moveTo>
                  <a:pt x="4887" y="15156"/>
                </a:moveTo>
                <a:cubicBezTo>
                  <a:pt x="5139" y="15131"/>
                  <a:pt x="5359" y="15101"/>
                  <a:pt x="5606" y="15032"/>
                </a:cubicBezTo>
                <a:cubicBezTo>
                  <a:pt x="6107" y="14891"/>
                  <a:pt x="6580" y="14723"/>
                  <a:pt x="7045" y="14486"/>
                </a:cubicBezTo>
                <a:cubicBezTo>
                  <a:pt x="7367" y="14322"/>
                  <a:pt x="7671" y="14118"/>
                  <a:pt x="7987" y="13940"/>
                </a:cubicBezTo>
                <a:cubicBezTo>
                  <a:pt x="8256" y="13788"/>
                  <a:pt x="8455" y="13650"/>
                  <a:pt x="8682" y="13444"/>
                </a:cubicBezTo>
                <a:cubicBezTo>
                  <a:pt x="9006" y="13150"/>
                  <a:pt x="9226" y="12857"/>
                  <a:pt x="9426" y="12477"/>
                </a:cubicBezTo>
                <a:cubicBezTo>
                  <a:pt x="9567" y="12210"/>
                  <a:pt x="9730" y="11917"/>
                  <a:pt x="9823" y="11633"/>
                </a:cubicBezTo>
                <a:cubicBezTo>
                  <a:pt x="9945" y="11261"/>
                  <a:pt x="10025" y="10868"/>
                  <a:pt x="10145" y="10492"/>
                </a:cubicBezTo>
                <a:cubicBezTo>
                  <a:pt x="10192" y="10345"/>
                  <a:pt x="10226" y="10189"/>
                  <a:pt x="10269" y="10046"/>
                </a:cubicBezTo>
                <a:cubicBezTo>
                  <a:pt x="10312" y="9902"/>
                  <a:pt x="10371" y="9767"/>
                  <a:pt x="10418" y="9624"/>
                </a:cubicBezTo>
                <a:cubicBezTo>
                  <a:pt x="10463" y="9485"/>
                  <a:pt x="10492" y="9340"/>
                  <a:pt x="10542" y="9203"/>
                </a:cubicBezTo>
                <a:cubicBezTo>
                  <a:pt x="10592" y="9067"/>
                  <a:pt x="10656" y="8937"/>
                  <a:pt x="10716" y="8806"/>
                </a:cubicBezTo>
                <a:cubicBezTo>
                  <a:pt x="10772" y="8684"/>
                  <a:pt x="10827" y="8555"/>
                  <a:pt x="10889" y="8434"/>
                </a:cubicBezTo>
                <a:cubicBezTo>
                  <a:pt x="11026" y="8167"/>
                  <a:pt x="11175" y="7894"/>
                  <a:pt x="11336" y="7640"/>
                </a:cubicBezTo>
                <a:cubicBezTo>
                  <a:pt x="11505" y="7373"/>
                  <a:pt x="11700" y="7109"/>
                  <a:pt x="11931" y="6896"/>
                </a:cubicBezTo>
                <a:cubicBezTo>
                  <a:pt x="12035" y="6800"/>
                  <a:pt x="12165" y="6727"/>
                  <a:pt x="12278" y="6648"/>
                </a:cubicBezTo>
                <a:cubicBezTo>
                  <a:pt x="12396" y="6565"/>
                  <a:pt x="12525" y="6496"/>
                  <a:pt x="12650" y="6424"/>
                </a:cubicBezTo>
                <a:cubicBezTo>
                  <a:pt x="12756" y="6363"/>
                  <a:pt x="12868" y="6311"/>
                  <a:pt x="12973" y="6251"/>
                </a:cubicBezTo>
                <a:cubicBezTo>
                  <a:pt x="13135" y="6159"/>
                  <a:pt x="13272" y="6071"/>
                  <a:pt x="13444" y="6003"/>
                </a:cubicBezTo>
                <a:cubicBezTo>
                  <a:pt x="13474" y="5991"/>
                  <a:pt x="13513" y="5991"/>
                  <a:pt x="13543" y="5978"/>
                </a:cubicBezTo>
                <a:cubicBezTo>
                  <a:pt x="13471" y="5939"/>
                  <a:pt x="13393" y="5906"/>
                  <a:pt x="13320" y="5879"/>
                </a:cubicBezTo>
                <a:cubicBezTo>
                  <a:pt x="13388" y="5906"/>
                  <a:pt x="13470" y="5952"/>
                  <a:pt x="13543" y="5978"/>
                </a:cubicBezTo>
                <a:cubicBezTo>
                  <a:pt x="13551" y="5978"/>
                  <a:pt x="13560" y="5978"/>
                  <a:pt x="13568" y="5978"/>
                </a:cubicBezTo>
                <a:cubicBezTo>
                  <a:pt x="13494" y="6074"/>
                  <a:pt x="13415" y="6190"/>
                  <a:pt x="13345" y="6276"/>
                </a:cubicBezTo>
                <a:cubicBezTo>
                  <a:pt x="13337" y="6284"/>
                  <a:pt x="13328" y="6292"/>
                  <a:pt x="13320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percent and fr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F. 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00600" y="1676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24280" y="25146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24280" y="34290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00600" y="49528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393920" y="2705040"/>
            <a:ext cx="2463840" cy="223920"/>
          </a:xfrm>
          <a:custGeom>
            <a:avLst/>
            <a:gdLst/>
            <a:ahLst/>
            <a:rect l="l" t="t" r="r" b="b"/>
            <a:pathLst>
              <a:path w="6847" h="621">
                <a:moveTo>
                  <a:pt x="3870" y="7615"/>
                </a:moveTo>
                <a:cubicBezTo>
                  <a:pt x="3937" y="7615"/>
                  <a:pt x="3976" y="7612"/>
                  <a:pt x="4043" y="7615"/>
                </a:cubicBezTo>
                <a:cubicBezTo>
                  <a:pt x="4283" y="7626"/>
                  <a:pt x="4522" y="7663"/>
                  <a:pt x="4762" y="7689"/>
                </a:cubicBezTo>
                <a:cubicBezTo>
                  <a:pt x="5086" y="7725"/>
                  <a:pt x="5406" y="7742"/>
                  <a:pt x="5730" y="7764"/>
                </a:cubicBezTo>
                <a:cubicBezTo>
                  <a:pt x="6177" y="7794"/>
                  <a:pt x="6623" y="7846"/>
                  <a:pt x="7069" y="7888"/>
                </a:cubicBezTo>
                <a:cubicBezTo>
                  <a:pt x="7360" y="7916"/>
                  <a:pt x="7646" y="7913"/>
                  <a:pt x="7938" y="7913"/>
                </a:cubicBezTo>
                <a:cubicBezTo>
                  <a:pt x="8297" y="7913"/>
                  <a:pt x="8653" y="7870"/>
                  <a:pt x="9004" y="7813"/>
                </a:cubicBezTo>
                <a:cubicBezTo>
                  <a:pt x="9193" y="7782"/>
                  <a:pt x="9384" y="7743"/>
                  <a:pt x="9575" y="7739"/>
                </a:cubicBezTo>
                <a:cubicBezTo>
                  <a:pt x="9747" y="7735"/>
                  <a:pt x="9899" y="7736"/>
                  <a:pt x="10071" y="7739"/>
                </a:cubicBezTo>
                <a:cubicBezTo>
                  <a:pt x="10269" y="7743"/>
                  <a:pt x="10468" y="7739"/>
                  <a:pt x="10666" y="7739"/>
                </a:cubicBezTo>
                <a:cubicBezTo>
                  <a:pt x="10544" y="7647"/>
                  <a:pt x="10430" y="7577"/>
                  <a:pt x="10294" y="7516"/>
                </a:cubicBezTo>
                <a:cubicBezTo>
                  <a:pt x="10387" y="7581"/>
                  <a:pt x="10525" y="7651"/>
                  <a:pt x="10641" y="7714"/>
                </a:cubicBezTo>
                <a:cubicBezTo>
                  <a:pt x="10666" y="7731"/>
                  <a:pt x="10691" y="7747"/>
                  <a:pt x="10716" y="7764"/>
                </a:cubicBezTo>
                <a:cubicBezTo>
                  <a:pt x="10660" y="7876"/>
                  <a:pt x="10620" y="7950"/>
                  <a:pt x="10542" y="8062"/>
                </a:cubicBezTo>
                <a:cubicBezTo>
                  <a:pt x="10503" y="8100"/>
                  <a:pt x="10486" y="8102"/>
                  <a:pt x="10492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98760" y="5232240"/>
            <a:ext cx="2206440" cy="125640"/>
          </a:xfrm>
          <a:custGeom>
            <a:avLst/>
            <a:gdLst/>
            <a:ahLst/>
            <a:rect l="l" t="t" r="r" b="b"/>
            <a:pathLst>
              <a:path w="6128" h="348">
                <a:moveTo>
                  <a:pt x="4440" y="14784"/>
                </a:moveTo>
                <a:cubicBezTo>
                  <a:pt x="4748" y="14784"/>
                  <a:pt x="5051" y="14762"/>
                  <a:pt x="5358" y="14759"/>
                </a:cubicBezTo>
                <a:cubicBezTo>
                  <a:pt x="5707" y="14755"/>
                  <a:pt x="6052" y="14764"/>
                  <a:pt x="6400" y="14734"/>
                </a:cubicBezTo>
                <a:cubicBezTo>
                  <a:pt x="6713" y="14707"/>
                  <a:pt x="7028" y="14688"/>
                  <a:pt x="7342" y="14684"/>
                </a:cubicBezTo>
                <a:cubicBezTo>
                  <a:pt x="7624" y="14680"/>
                  <a:pt x="7903" y="14660"/>
                  <a:pt x="8186" y="14660"/>
                </a:cubicBezTo>
                <a:cubicBezTo>
                  <a:pt x="8402" y="14660"/>
                  <a:pt x="8613" y="14635"/>
                  <a:pt x="8830" y="14635"/>
                </a:cubicBezTo>
                <a:cubicBezTo>
                  <a:pt x="9024" y="14635"/>
                  <a:pt x="9211" y="14646"/>
                  <a:pt x="9401" y="14660"/>
                </a:cubicBezTo>
                <a:cubicBezTo>
                  <a:pt x="9573" y="14673"/>
                  <a:pt x="9750" y="14680"/>
                  <a:pt x="9922" y="14684"/>
                </a:cubicBezTo>
                <a:cubicBezTo>
                  <a:pt x="10128" y="14689"/>
                  <a:pt x="10335" y="14684"/>
                  <a:pt x="10542" y="14684"/>
                </a:cubicBezTo>
                <a:cubicBezTo>
                  <a:pt x="10472" y="14652"/>
                  <a:pt x="10390" y="14626"/>
                  <a:pt x="10319" y="14585"/>
                </a:cubicBezTo>
                <a:cubicBezTo>
                  <a:pt x="10311" y="14577"/>
                  <a:pt x="10302" y="14568"/>
                  <a:pt x="10294" y="14560"/>
                </a:cubicBezTo>
                <a:cubicBezTo>
                  <a:pt x="10358" y="14586"/>
                  <a:pt x="10377" y="14592"/>
                  <a:pt x="10443" y="14610"/>
                </a:cubicBezTo>
                <a:cubicBezTo>
                  <a:pt x="10490" y="14622"/>
                  <a:pt x="10525" y="14626"/>
                  <a:pt x="10567" y="14635"/>
                </a:cubicBezTo>
                <a:cubicBezTo>
                  <a:pt x="10505" y="14706"/>
                  <a:pt x="10414" y="14781"/>
                  <a:pt x="10344" y="14858"/>
                </a:cubicBezTo>
                <a:cubicBezTo>
                  <a:pt x="10344" y="14866"/>
                  <a:pt x="10344" y="14875"/>
                  <a:pt x="10344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6120" y="1758960"/>
            <a:ext cx="2509920" cy="2135160"/>
          </a:xfrm>
          <a:custGeom>
            <a:avLst/>
            <a:gdLst/>
            <a:ahLst/>
            <a:rect l="l" t="t" r="r" b="b"/>
            <a:pathLst>
              <a:path w="6971" h="5929">
                <a:moveTo>
                  <a:pt x="4018" y="4936"/>
                </a:moveTo>
                <a:cubicBezTo>
                  <a:pt x="4286" y="4903"/>
                  <a:pt x="4517" y="4889"/>
                  <a:pt x="4787" y="4936"/>
                </a:cubicBezTo>
                <a:cubicBezTo>
                  <a:pt x="5304" y="5026"/>
                  <a:pt x="5737" y="5229"/>
                  <a:pt x="6152" y="5556"/>
                </a:cubicBezTo>
                <a:cubicBezTo>
                  <a:pt x="6683" y="5975"/>
                  <a:pt x="7181" y="6508"/>
                  <a:pt x="7590" y="7045"/>
                </a:cubicBezTo>
                <a:cubicBezTo>
                  <a:pt x="7850" y="7386"/>
                  <a:pt x="8042" y="7773"/>
                  <a:pt x="8310" y="8111"/>
                </a:cubicBezTo>
                <a:cubicBezTo>
                  <a:pt x="8532" y="8391"/>
                  <a:pt x="8786" y="8649"/>
                  <a:pt x="9004" y="8930"/>
                </a:cubicBezTo>
                <a:cubicBezTo>
                  <a:pt x="9138" y="9103"/>
                  <a:pt x="9274" y="9275"/>
                  <a:pt x="9401" y="9451"/>
                </a:cubicBezTo>
                <a:cubicBezTo>
                  <a:pt x="9511" y="9603"/>
                  <a:pt x="9594" y="9759"/>
                  <a:pt x="9723" y="9897"/>
                </a:cubicBezTo>
                <a:cubicBezTo>
                  <a:pt x="9823" y="10003"/>
                  <a:pt x="9941" y="10092"/>
                  <a:pt x="10046" y="10195"/>
                </a:cubicBezTo>
                <a:cubicBezTo>
                  <a:pt x="10193" y="10339"/>
                  <a:pt x="10351" y="10450"/>
                  <a:pt x="10542" y="10542"/>
                </a:cubicBezTo>
                <a:cubicBezTo>
                  <a:pt x="10631" y="10585"/>
                  <a:pt x="10721" y="10619"/>
                  <a:pt x="10815" y="10641"/>
                </a:cubicBezTo>
                <a:cubicBezTo>
                  <a:pt x="10862" y="10652"/>
                  <a:pt x="10916" y="10633"/>
                  <a:pt x="10964" y="10641"/>
                </a:cubicBezTo>
                <a:cubicBezTo>
                  <a:pt x="10940" y="10586"/>
                  <a:pt x="10902" y="10454"/>
                  <a:pt x="10840" y="10368"/>
                </a:cubicBezTo>
                <a:cubicBezTo>
                  <a:pt x="10817" y="10346"/>
                  <a:pt x="10812" y="10338"/>
                  <a:pt x="10790" y="10344"/>
                </a:cubicBezTo>
                <a:cubicBezTo>
                  <a:pt x="10829" y="10384"/>
                  <a:pt x="10970" y="10385"/>
                  <a:pt x="10988" y="10468"/>
                </a:cubicBezTo>
                <a:cubicBezTo>
                  <a:pt x="11010" y="10566"/>
                  <a:pt x="10944" y="10674"/>
                  <a:pt x="10914" y="10765"/>
                </a:cubicBezTo>
                <a:cubicBezTo>
                  <a:pt x="10905" y="10792"/>
                  <a:pt x="10871" y="10787"/>
                  <a:pt x="10864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7120" y="2054160"/>
            <a:ext cx="2589120" cy="1820880"/>
          </a:xfrm>
          <a:custGeom>
            <a:avLst/>
            <a:gdLst/>
            <a:ahLst/>
            <a:rect l="l" t="t" r="r" b="b"/>
            <a:pathLst>
              <a:path w="7194" h="5061">
                <a:moveTo>
                  <a:pt x="4242" y="10765"/>
                </a:moveTo>
                <a:cubicBezTo>
                  <a:pt x="4577" y="10735"/>
                  <a:pt x="4904" y="10690"/>
                  <a:pt x="5234" y="10616"/>
                </a:cubicBezTo>
                <a:cubicBezTo>
                  <a:pt x="5718" y="10507"/>
                  <a:pt x="6201" y="10385"/>
                  <a:pt x="6672" y="10244"/>
                </a:cubicBezTo>
                <a:cubicBezTo>
                  <a:pt x="7217" y="10081"/>
                  <a:pt x="7826" y="9878"/>
                  <a:pt x="8310" y="9575"/>
                </a:cubicBezTo>
                <a:cubicBezTo>
                  <a:pt x="8602" y="9392"/>
                  <a:pt x="8923" y="9136"/>
                  <a:pt x="9128" y="8855"/>
                </a:cubicBezTo>
                <a:cubicBezTo>
                  <a:pt x="9313" y="8602"/>
                  <a:pt x="9431" y="8302"/>
                  <a:pt x="9599" y="8037"/>
                </a:cubicBezTo>
                <a:cubicBezTo>
                  <a:pt x="9787" y="7740"/>
                  <a:pt x="9991" y="7453"/>
                  <a:pt x="10195" y="7169"/>
                </a:cubicBezTo>
                <a:cubicBezTo>
                  <a:pt x="10318" y="6999"/>
                  <a:pt x="10425" y="6828"/>
                  <a:pt x="10542" y="6648"/>
                </a:cubicBezTo>
                <a:cubicBezTo>
                  <a:pt x="10656" y="6473"/>
                  <a:pt x="10760" y="6264"/>
                  <a:pt x="10889" y="6102"/>
                </a:cubicBezTo>
                <a:cubicBezTo>
                  <a:pt x="11011" y="5949"/>
                  <a:pt x="11164" y="5839"/>
                  <a:pt x="11336" y="5755"/>
                </a:cubicBezTo>
                <a:cubicBezTo>
                  <a:pt x="11361" y="5755"/>
                  <a:pt x="11369" y="5755"/>
                  <a:pt x="11385" y="5755"/>
                </a:cubicBezTo>
                <a:cubicBezTo>
                  <a:pt x="11279" y="5746"/>
                  <a:pt x="11194" y="5734"/>
                  <a:pt x="11088" y="5730"/>
                </a:cubicBezTo>
                <a:cubicBezTo>
                  <a:pt x="11337" y="5829"/>
                  <a:pt x="11409" y="5690"/>
                  <a:pt x="11410" y="5978"/>
                </a:cubicBezTo>
                <a:cubicBezTo>
                  <a:pt x="11372" y="6093"/>
                  <a:pt x="11356" y="6107"/>
                  <a:pt x="1136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Write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ercen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Explain how you determined your answer.  Use what you know about percent in your explanation.  Use words, numbers, and/or symbols in your explan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119400" y="2057400"/>
                <a:ext cx="352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027320" y="1285920"/>
            <a:ext cx="4152960" cy="330120"/>
          </a:xfrm>
          <a:custGeom>
            <a:avLst/>
            <a:gdLst/>
            <a:ahLst/>
            <a:rect l="l" t="t" r="r" b="b"/>
            <a:pathLst>
              <a:path w="11535" h="919">
                <a:moveTo>
                  <a:pt x="11361" y="3994"/>
                </a:moveTo>
                <a:cubicBezTo>
                  <a:pt x="11301" y="4118"/>
                  <a:pt x="11245" y="4242"/>
                  <a:pt x="11187" y="4366"/>
                </a:cubicBezTo>
              </a:path>
              <a:path w="11535" h="919">
                <a:moveTo>
                  <a:pt x="12229" y="4316"/>
                </a:moveTo>
                <a:cubicBezTo>
                  <a:pt x="12141" y="4381"/>
                  <a:pt x="12113" y="4391"/>
                  <a:pt x="12105" y="4465"/>
                </a:cubicBezTo>
                <a:cubicBezTo>
                  <a:pt x="12188" y="4507"/>
                  <a:pt x="12321" y="4502"/>
                  <a:pt x="12402" y="4390"/>
                </a:cubicBezTo>
                <a:cubicBezTo>
                  <a:pt x="12402" y="4339"/>
                  <a:pt x="12383" y="4312"/>
                  <a:pt x="12328" y="4291"/>
                </a:cubicBezTo>
              </a:path>
              <a:path w="11535" h="919">
                <a:moveTo>
                  <a:pt x="11757" y="4068"/>
                </a:moveTo>
                <a:cubicBezTo>
                  <a:pt x="11924" y="4029"/>
                  <a:pt x="12083" y="4003"/>
                  <a:pt x="12254" y="3994"/>
                </a:cubicBezTo>
              </a:path>
              <a:path w="11535" h="919">
                <a:moveTo>
                  <a:pt x="12005" y="3597"/>
                </a:moveTo>
                <a:cubicBezTo>
                  <a:pt x="11994" y="3769"/>
                  <a:pt x="12099" y="3866"/>
                  <a:pt x="12254" y="3696"/>
                </a:cubicBezTo>
                <a:cubicBezTo>
                  <a:pt x="12325" y="3618"/>
                  <a:pt x="12254" y="3600"/>
                  <a:pt x="12204" y="3572"/>
                </a:cubicBezTo>
              </a:path>
              <a:path w="11535" h="919">
                <a:moveTo>
                  <a:pt x="12650" y="4142"/>
                </a:moveTo>
                <a:cubicBezTo>
                  <a:pt x="12834" y="4142"/>
                  <a:pt x="12902" y="4140"/>
                  <a:pt x="13022" y="4093"/>
                </a:cubicBezTo>
              </a:path>
              <a:path w="11535" h="919">
                <a:moveTo>
                  <a:pt x="13022" y="4093"/>
                </a:moveTo>
                <a:lnTo>
                  <a:pt x="13022" y="4093"/>
                </a:lnTo>
              </a:path>
              <a:path w="11535" h="919">
                <a:moveTo>
                  <a:pt x="19521" y="3919"/>
                </a:moveTo>
                <a:cubicBezTo>
                  <a:pt x="19592" y="3901"/>
                  <a:pt x="19685" y="3843"/>
                  <a:pt x="19769" y="3870"/>
                </a:cubicBezTo>
                <a:cubicBezTo>
                  <a:pt x="19769" y="3878"/>
                  <a:pt x="19769" y="3886"/>
                  <a:pt x="19769" y="3894"/>
                </a:cubicBezTo>
              </a:path>
              <a:path w="11535" h="919">
                <a:moveTo>
                  <a:pt x="19447" y="4068"/>
                </a:moveTo>
                <a:cubicBezTo>
                  <a:pt x="19623" y="4068"/>
                  <a:pt x="19698" y="4062"/>
                  <a:pt x="19819" y="4018"/>
                </a:cubicBezTo>
              </a:path>
              <a:path w="11535" h="919">
                <a:moveTo>
                  <a:pt x="19819" y="4018"/>
                </a:moveTo>
                <a:lnTo>
                  <a:pt x="19819" y="4018"/>
                </a:lnTo>
              </a:path>
              <a:path w="11535" h="919">
                <a:moveTo>
                  <a:pt x="22473" y="4068"/>
                </a:moveTo>
                <a:cubicBezTo>
                  <a:pt x="22502" y="4252"/>
                  <a:pt x="22581" y="4208"/>
                  <a:pt x="22721" y="4118"/>
                </a:cubicBezTo>
                <a:cubicBezTo>
                  <a:pt x="22721" y="4048"/>
                  <a:pt x="22703" y="4022"/>
                  <a:pt x="22622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97200" y="1224000"/>
            <a:ext cx="608040" cy="527040"/>
          </a:xfrm>
          <a:custGeom>
            <a:avLst/>
            <a:gdLst/>
            <a:ahLst/>
            <a:rect l="l" t="t" r="r" b="b"/>
            <a:pathLst>
              <a:path w="1688" h="1465">
                <a:moveTo>
                  <a:pt x="10269" y="3497"/>
                </a:moveTo>
                <a:cubicBezTo>
                  <a:pt x="10403" y="3437"/>
                  <a:pt x="10500" y="3399"/>
                  <a:pt x="10641" y="3423"/>
                </a:cubicBezTo>
                <a:cubicBezTo>
                  <a:pt x="10597" y="3482"/>
                  <a:pt x="10549" y="3521"/>
                  <a:pt x="10492" y="3572"/>
                </a:cubicBezTo>
                <a:cubicBezTo>
                  <a:pt x="10572" y="3598"/>
                  <a:pt x="10602" y="3637"/>
                  <a:pt x="10666" y="3696"/>
                </a:cubicBezTo>
                <a:cubicBezTo>
                  <a:pt x="10569" y="3793"/>
                  <a:pt x="10473" y="3836"/>
                  <a:pt x="10368" y="3770"/>
                </a:cubicBezTo>
              </a:path>
              <a:path w="1688" h="1465">
                <a:moveTo>
                  <a:pt x="10319" y="4093"/>
                </a:moveTo>
                <a:cubicBezTo>
                  <a:pt x="10542" y="4075"/>
                  <a:pt x="10773" y="4039"/>
                  <a:pt x="10988" y="4093"/>
                </a:cubicBezTo>
              </a:path>
              <a:path w="1688" h="1465">
                <a:moveTo>
                  <a:pt x="10666" y="4415"/>
                </a:moveTo>
                <a:cubicBezTo>
                  <a:pt x="10570" y="4386"/>
                  <a:pt x="10522" y="4359"/>
                  <a:pt x="10468" y="4440"/>
                </a:cubicBezTo>
                <a:cubicBezTo>
                  <a:pt x="10419" y="4514"/>
                  <a:pt x="10418" y="4498"/>
                  <a:pt x="10418" y="4564"/>
                </a:cubicBezTo>
                <a:cubicBezTo>
                  <a:pt x="10527" y="4564"/>
                  <a:pt x="10754" y="4511"/>
                  <a:pt x="10740" y="4688"/>
                </a:cubicBezTo>
                <a:cubicBezTo>
                  <a:pt x="10723" y="4911"/>
                  <a:pt x="10584" y="4868"/>
                  <a:pt x="10468" y="4787"/>
                </a:cubicBezTo>
              </a:path>
              <a:path w="1688" h="1465">
                <a:moveTo>
                  <a:pt x="11237" y="4068"/>
                </a:moveTo>
                <a:cubicBezTo>
                  <a:pt x="11266" y="4139"/>
                  <a:pt x="11330" y="4266"/>
                  <a:pt x="11336" y="4266"/>
                </a:cubicBezTo>
              </a:path>
              <a:path w="1688" h="1465">
                <a:moveTo>
                  <a:pt x="11609" y="3547"/>
                </a:moveTo>
                <a:cubicBezTo>
                  <a:pt x="11672" y="3556"/>
                  <a:pt x="11724" y="3573"/>
                  <a:pt x="11782" y="3597"/>
                </a:cubicBezTo>
                <a:cubicBezTo>
                  <a:pt x="11722" y="3683"/>
                  <a:pt x="11608" y="3754"/>
                  <a:pt x="11559" y="3845"/>
                </a:cubicBezTo>
                <a:cubicBezTo>
                  <a:pt x="11504" y="3946"/>
                  <a:pt x="11945" y="3753"/>
                  <a:pt x="11956" y="37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41912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2700" y="3944"/>
                </a:moveTo>
                <a:cubicBezTo>
                  <a:pt x="12774" y="3944"/>
                  <a:pt x="12849" y="3944"/>
                  <a:pt x="12923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0200" y="1152360"/>
            <a:ext cx="393840" cy="606600"/>
          </a:xfrm>
          <a:custGeom>
            <a:avLst/>
            <a:gdLst/>
            <a:ahLst/>
            <a:rect l="l" t="t" r="r" b="b"/>
            <a:pathLst>
              <a:path w="1093" h="1688">
                <a:moveTo>
                  <a:pt x="13791" y="3200"/>
                </a:moveTo>
                <a:cubicBezTo>
                  <a:pt x="13732" y="3296"/>
                  <a:pt x="13457" y="3602"/>
                  <a:pt x="13667" y="3696"/>
                </a:cubicBezTo>
                <a:cubicBezTo>
                  <a:pt x="13813" y="3761"/>
                  <a:pt x="13922" y="3626"/>
                  <a:pt x="14015" y="3547"/>
                </a:cubicBezTo>
                <a:cubicBezTo>
                  <a:pt x="13882" y="3573"/>
                  <a:pt x="13769" y="3620"/>
                  <a:pt x="13841" y="3746"/>
                </a:cubicBezTo>
              </a:path>
              <a:path w="1093" h="1688">
                <a:moveTo>
                  <a:pt x="14213" y="3398"/>
                </a:moveTo>
                <a:cubicBezTo>
                  <a:pt x="14146" y="3510"/>
                  <a:pt x="14125" y="3538"/>
                  <a:pt x="14114" y="3621"/>
                </a:cubicBezTo>
                <a:cubicBezTo>
                  <a:pt x="14228" y="3669"/>
                  <a:pt x="14460" y="3660"/>
                  <a:pt x="14436" y="3448"/>
                </a:cubicBezTo>
                <a:cubicBezTo>
                  <a:pt x="14390" y="3402"/>
                  <a:pt x="14376" y="3389"/>
                  <a:pt x="14362" y="3349"/>
                </a:cubicBezTo>
              </a:path>
              <a:path w="1093" h="1688">
                <a:moveTo>
                  <a:pt x="13469" y="4167"/>
                </a:moveTo>
                <a:cubicBezTo>
                  <a:pt x="13772" y="4072"/>
                  <a:pt x="14100" y="4015"/>
                  <a:pt x="14412" y="3944"/>
                </a:cubicBezTo>
                <a:cubicBezTo>
                  <a:pt x="14503" y="3926"/>
                  <a:pt x="14578" y="3917"/>
                  <a:pt x="14511" y="3919"/>
                </a:cubicBezTo>
              </a:path>
              <a:path w="1093" h="1688">
                <a:moveTo>
                  <a:pt x="13494" y="4366"/>
                </a:moveTo>
                <a:cubicBezTo>
                  <a:pt x="13472" y="4540"/>
                  <a:pt x="13283" y="4956"/>
                  <a:pt x="13444" y="4887"/>
                </a:cubicBezTo>
                <a:cubicBezTo>
                  <a:pt x="13469" y="4862"/>
                  <a:pt x="13494" y="4837"/>
                  <a:pt x="13519" y="4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29200" y="1330200"/>
            <a:ext cx="250920" cy="21456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16842" y="3696"/>
                </a:moveTo>
                <a:cubicBezTo>
                  <a:pt x="16645" y="3772"/>
                  <a:pt x="16562" y="3968"/>
                  <a:pt x="16470" y="4167"/>
                </a:cubicBezTo>
                <a:cubicBezTo>
                  <a:pt x="16620" y="4316"/>
                  <a:pt x="16928" y="4328"/>
                  <a:pt x="16991" y="4018"/>
                </a:cubicBezTo>
                <a:cubicBezTo>
                  <a:pt x="17026" y="3843"/>
                  <a:pt x="16878" y="3780"/>
                  <a:pt x="16768" y="3746"/>
                </a:cubicBezTo>
              </a:path>
              <a:path w="696" h="596">
                <a:moveTo>
                  <a:pt x="17165" y="4217"/>
                </a:moveTo>
                <a:cubicBezTo>
                  <a:pt x="17165" y="4258"/>
                  <a:pt x="17165" y="4266"/>
                  <a:pt x="17165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48240" y="1276200"/>
            <a:ext cx="366840" cy="2430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7735" y="3547"/>
                </a:moveTo>
                <a:cubicBezTo>
                  <a:pt x="17754" y="3655"/>
                  <a:pt x="17655" y="3855"/>
                  <a:pt x="17636" y="3994"/>
                </a:cubicBezTo>
                <a:cubicBezTo>
                  <a:pt x="17636" y="4095"/>
                  <a:pt x="17626" y="4116"/>
                  <a:pt x="17661" y="4167"/>
                </a:cubicBezTo>
                <a:cubicBezTo>
                  <a:pt x="17870" y="4147"/>
                  <a:pt x="17943" y="4140"/>
                  <a:pt x="18033" y="3944"/>
                </a:cubicBezTo>
                <a:cubicBezTo>
                  <a:pt x="17910" y="3869"/>
                  <a:pt x="17842" y="4029"/>
                  <a:pt x="17835" y="4142"/>
                </a:cubicBezTo>
                <a:cubicBezTo>
                  <a:pt x="17857" y="4210"/>
                  <a:pt x="17858" y="4238"/>
                  <a:pt x="17909" y="4192"/>
                </a:cubicBezTo>
              </a:path>
              <a:path w="1018" h="671">
                <a:moveTo>
                  <a:pt x="18455" y="3621"/>
                </a:moveTo>
                <a:cubicBezTo>
                  <a:pt x="18279" y="3765"/>
                  <a:pt x="18236" y="3876"/>
                  <a:pt x="18207" y="4093"/>
                </a:cubicBezTo>
                <a:cubicBezTo>
                  <a:pt x="18401" y="4157"/>
                  <a:pt x="18627" y="4081"/>
                  <a:pt x="18653" y="3820"/>
                </a:cubicBezTo>
                <a:cubicBezTo>
                  <a:pt x="18668" y="3672"/>
                  <a:pt x="18502" y="3638"/>
                  <a:pt x="18405" y="35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6320" y="1231920"/>
            <a:ext cx="588960" cy="30492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20886" y="3597"/>
                </a:moveTo>
                <a:cubicBezTo>
                  <a:pt x="20852" y="3763"/>
                  <a:pt x="20747" y="3925"/>
                  <a:pt x="20712" y="4093"/>
                </a:cubicBezTo>
                <a:cubicBezTo>
                  <a:pt x="20712" y="4134"/>
                  <a:pt x="20712" y="4176"/>
                  <a:pt x="20712" y="4217"/>
                </a:cubicBezTo>
                <a:cubicBezTo>
                  <a:pt x="20911" y="4255"/>
                  <a:pt x="21148" y="4234"/>
                  <a:pt x="21183" y="3969"/>
                </a:cubicBezTo>
                <a:cubicBezTo>
                  <a:pt x="21167" y="3944"/>
                  <a:pt x="21150" y="3919"/>
                  <a:pt x="21134" y="3894"/>
                </a:cubicBezTo>
                <a:cubicBezTo>
                  <a:pt x="20943" y="4016"/>
                  <a:pt x="20776" y="4110"/>
                  <a:pt x="20985" y="4266"/>
                </a:cubicBezTo>
              </a:path>
              <a:path w="1638" h="844">
                <a:moveTo>
                  <a:pt x="21456" y="3621"/>
                </a:moveTo>
                <a:cubicBezTo>
                  <a:pt x="21304" y="3782"/>
                  <a:pt x="21169" y="3905"/>
                  <a:pt x="21258" y="4118"/>
                </a:cubicBezTo>
                <a:cubicBezTo>
                  <a:pt x="21416" y="4063"/>
                  <a:pt x="21672" y="3951"/>
                  <a:pt x="21555" y="3721"/>
                </a:cubicBezTo>
                <a:cubicBezTo>
                  <a:pt x="21522" y="3688"/>
                  <a:pt x="21489" y="3654"/>
                  <a:pt x="21456" y="3621"/>
                </a:cubicBezTo>
              </a:path>
              <a:path w="1638" h="844">
                <a:moveTo>
                  <a:pt x="21977" y="3497"/>
                </a:moveTo>
                <a:cubicBezTo>
                  <a:pt x="21854" y="3600"/>
                  <a:pt x="21777" y="3661"/>
                  <a:pt x="21878" y="3795"/>
                </a:cubicBezTo>
                <a:cubicBezTo>
                  <a:pt x="22012" y="3682"/>
                  <a:pt x="22002" y="3635"/>
                  <a:pt x="22002" y="3448"/>
                </a:cubicBezTo>
                <a:cubicBezTo>
                  <a:pt x="22184" y="3413"/>
                  <a:pt x="22330" y="3433"/>
                  <a:pt x="22349" y="3671"/>
                </a:cubicBezTo>
                <a:cubicBezTo>
                  <a:pt x="22365" y="3869"/>
                  <a:pt x="21931" y="4089"/>
                  <a:pt x="22101" y="4192"/>
                </a:cubicBezTo>
                <a:cubicBezTo>
                  <a:pt x="22134" y="4184"/>
                  <a:pt x="22167" y="4175"/>
                  <a:pt x="22200" y="41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60880" y="1527120"/>
            <a:ext cx="144360" cy="142920"/>
          </a:xfrm>
          <a:custGeom>
            <a:avLst/>
            <a:gdLst/>
            <a:ahLst/>
            <a:rect l="l" t="t" r="r" b="b"/>
            <a:pathLst>
              <a:path w="398" h="397">
                <a:moveTo>
                  <a:pt x="11609" y="4242"/>
                </a:moveTo>
                <a:cubicBezTo>
                  <a:pt x="11680" y="4242"/>
                  <a:pt x="11747" y="4232"/>
                  <a:pt x="11782" y="4266"/>
                </a:cubicBezTo>
                <a:cubicBezTo>
                  <a:pt x="11713" y="4387"/>
                  <a:pt x="11624" y="4484"/>
                  <a:pt x="11559" y="4614"/>
                </a:cubicBezTo>
                <a:cubicBezTo>
                  <a:pt x="11752" y="4661"/>
                  <a:pt x="11759" y="4617"/>
                  <a:pt x="11956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88040" y="2394000"/>
            <a:ext cx="652320" cy="357120"/>
          </a:xfrm>
          <a:custGeom>
            <a:avLst/>
            <a:gdLst/>
            <a:ahLst/>
            <a:rect l="l" t="t" r="r" b="b"/>
            <a:pathLst>
              <a:path w="1811" h="993">
                <a:moveTo>
                  <a:pt x="17487" y="6772"/>
                </a:moveTo>
                <a:cubicBezTo>
                  <a:pt x="17374" y="6929"/>
                  <a:pt x="17235" y="7152"/>
                  <a:pt x="17190" y="7342"/>
                </a:cubicBezTo>
                <a:cubicBezTo>
                  <a:pt x="17190" y="7400"/>
                  <a:pt x="17190" y="7458"/>
                  <a:pt x="17190" y="7516"/>
                </a:cubicBezTo>
                <a:cubicBezTo>
                  <a:pt x="17395" y="7625"/>
                  <a:pt x="17630" y="7512"/>
                  <a:pt x="17711" y="7218"/>
                </a:cubicBezTo>
                <a:cubicBezTo>
                  <a:pt x="17685" y="7140"/>
                  <a:pt x="17673" y="7113"/>
                  <a:pt x="17611" y="7094"/>
                </a:cubicBezTo>
                <a:cubicBezTo>
                  <a:pt x="17400" y="7276"/>
                  <a:pt x="17290" y="7379"/>
                  <a:pt x="17413" y="7640"/>
                </a:cubicBezTo>
              </a:path>
              <a:path w="1811" h="993">
                <a:moveTo>
                  <a:pt x="18083" y="6821"/>
                </a:moveTo>
                <a:cubicBezTo>
                  <a:pt x="17834" y="7011"/>
                  <a:pt x="17773" y="7105"/>
                  <a:pt x="17785" y="7417"/>
                </a:cubicBezTo>
                <a:cubicBezTo>
                  <a:pt x="18031" y="7446"/>
                  <a:pt x="18323" y="7364"/>
                  <a:pt x="18306" y="7020"/>
                </a:cubicBezTo>
                <a:cubicBezTo>
                  <a:pt x="18300" y="6893"/>
                  <a:pt x="18187" y="6840"/>
                  <a:pt x="18107" y="6772"/>
                </a:cubicBezTo>
              </a:path>
              <a:path w="1811" h="993">
                <a:moveTo>
                  <a:pt x="18703" y="6697"/>
                </a:moveTo>
                <a:cubicBezTo>
                  <a:pt x="18571" y="6759"/>
                  <a:pt x="18465" y="6814"/>
                  <a:pt x="18579" y="6945"/>
                </a:cubicBezTo>
                <a:cubicBezTo>
                  <a:pt x="18691" y="6856"/>
                  <a:pt x="18675" y="6824"/>
                  <a:pt x="18653" y="6672"/>
                </a:cubicBezTo>
                <a:cubicBezTo>
                  <a:pt x="18771" y="6641"/>
                  <a:pt x="18978" y="6616"/>
                  <a:pt x="19000" y="6796"/>
                </a:cubicBezTo>
                <a:cubicBezTo>
                  <a:pt x="19025" y="7000"/>
                  <a:pt x="18760" y="7193"/>
                  <a:pt x="18777" y="7342"/>
                </a:cubicBezTo>
                <a:cubicBezTo>
                  <a:pt x="18794" y="7334"/>
                  <a:pt x="18810" y="7325"/>
                  <a:pt x="18827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8840" y="1509840"/>
            <a:ext cx="696960" cy="177840"/>
          </a:xfrm>
          <a:custGeom>
            <a:avLst/>
            <a:gdLst/>
            <a:ahLst/>
            <a:rect l="l" t="t" r="r" b="b"/>
            <a:pathLst>
              <a:path w="1936" h="497">
                <a:moveTo>
                  <a:pt x="13891" y="4341"/>
                </a:moveTo>
                <a:cubicBezTo>
                  <a:pt x="13792" y="4479"/>
                  <a:pt x="13742" y="4528"/>
                  <a:pt x="13742" y="4688"/>
                </a:cubicBezTo>
                <a:cubicBezTo>
                  <a:pt x="13855" y="4668"/>
                  <a:pt x="14263" y="4578"/>
                  <a:pt x="14114" y="4366"/>
                </a:cubicBezTo>
                <a:cubicBezTo>
                  <a:pt x="14031" y="4324"/>
                  <a:pt x="14015" y="4316"/>
                  <a:pt x="13965" y="4291"/>
                </a:cubicBezTo>
              </a:path>
              <a:path w="1936" h="497">
                <a:moveTo>
                  <a:pt x="14337" y="4266"/>
                </a:moveTo>
                <a:cubicBezTo>
                  <a:pt x="14228" y="4442"/>
                  <a:pt x="14209" y="4444"/>
                  <a:pt x="14263" y="4638"/>
                </a:cubicBezTo>
                <a:cubicBezTo>
                  <a:pt x="14406" y="4613"/>
                  <a:pt x="14731" y="4516"/>
                  <a:pt x="14536" y="4291"/>
                </a:cubicBezTo>
                <a:cubicBezTo>
                  <a:pt x="14503" y="4275"/>
                  <a:pt x="14469" y="4258"/>
                  <a:pt x="14436" y="4242"/>
                </a:cubicBezTo>
              </a:path>
              <a:path w="1936" h="497">
                <a:moveTo>
                  <a:pt x="15280" y="4242"/>
                </a:moveTo>
                <a:cubicBezTo>
                  <a:pt x="15391" y="4204"/>
                  <a:pt x="15484" y="4198"/>
                  <a:pt x="15602" y="4192"/>
                </a:cubicBezTo>
              </a:path>
              <a:path w="1936" h="497">
                <a:moveTo>
                  <a:pt x="15354" y="4390"/>
                </a:moveTo>
                <a:cubicBezTo>
                  <a:pt x="15480" y="4390"/>
                  <a:pt x="15555" y="4379"/>
                  <a:pt x="15652" y="4341"/>
                </a:cubicBezTo>
              </a:path>
              <a:path w="1936" h="497">
                <a:moveTo>
                  <a:pt x="15652" y="4341"/>
                </a:moveTo>
                <a:lnTo>
                  <a:pt x="15652" y="43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1800" y="2562120"/>
            <a:ext cx="3697200" cy="1598760"/>
          </a:xfrm>
          <a:custGeom>
            <a:avLst/>
            <a:gdLst/>
            <a:ahLst/>
            <a:rect l="l" t="t" r="r" b="b"/>
            <a:pathLst>
              <a:path w="10270" h="4441">
                <a:moveTo>
                  <a:pt x="19124" y="7144"/>
                </a:moveTo>
                <a:cubicBezTo>
                  <a:pt x="19079" y="7313"/>
                  <a:pt x="19240" y="7392"/>
                  <a:pt x="19273" y="7243"/>
                </a:cubicBezTo>
                <a:cubicBezTo>
                  <a:pt x="19245" y="7159"/>
                  <a:pt x="19226" y="7129"/>
                  <a:pt x="19149" y="7119"/>
                </a:cubicBezTo>
              </a:path>
              <a:path w="10270" h="4441">
                <a:moveTo>
                  <a:pt x="9004" y="11559"/>
                </a:moveTo>
                <a:cubicBezTo>
                  <a:pt x="9054" y="11524"/>
                  <a:pt x="9027" y="11533"/>
                  <a:pt x="9079" y="11509"/>
                </a:cubicBezTo>
                <a:cubicBezTo>
                  <a:pt x="9091" y="11503"/>
                  <a:pt x="9172" y="11475"/>
                  <a:pt x="9203" y="11460"/>
                </a:cubicBezTo>
                <a:cubicBezTo>
                  <a:pt x="9340" y="11394"/>
                  <a:pt x="9443" y="11379"/>
                  <a:pt x="9599" y="11361"/>
                </a:cubicBezTo>
                <a:cubicBezTo>
                  <a:pt x="9831" y="11335"/>
                  <a:pt x="10059" y="11336"/>
                  <a:pt x="10294" y="11336"/>
                </a:cubicBezTo>
                <a:cubicBezTo>
                  <a:pt x="10552" y="11336"/>
                  <a:pt x="10806" y="11298"/>
                  <a:pt x="11063" y="11286"/>
                </a:cubicBezTo>
                <a:cubicBezTo>
                  <a:pt x="11377" y="11272"/>
                  <a:pt x="11691" y="11285"/>
                  <a:pt x="12005" y="11261"/>
                </a:cubicBezTo>
                <a:cubicBezTo>
                  <a:pt x="12284" y="11240"/>
                  <a:pt x="12543" y="11166"/>
                  <a:pt x="12824" y="11162"/>
                </a:cubicBezTo>
                <a:cubicBezTo>
                  <a:pt x="13245" y="11155"/>
                  <a:pt x="13670" y="11155"/>
                  <a:pt x="14089" y="11187"/>
                </a:cubicBezTo>
                <a:cubicBezTo>
                  <a:pt x="14354" y="11207"/>
                  <a:pt x="14617" y="11233"/>
                  <a:pt x="14883" y="11237"/>
                </a:cubicBezTo>
                <a:cubicBezTo>
                  <a:pt x="15151" y="11241"/>
                  <a:pt x="15408" y="11241"/>
                  <a:pt x="15677" y="11237"/>
                </a:cubicBezTo>
                <a:cubicBezTo>
                  <a:pt x="15974" y="11233"/>
                  <a:pt x="16278" y="11268"/>
                  <a:pt x="16570" y="11237"/>
                </a:cubicBezTo>
                <a:cubicBezTo>
                  <a:pt x="16839" y="11209"/>
                  <a:pt x="17094" y="11204"/>
                  <a:pt x="17363" y="11237"/>
                </a:cubicBezTo>
                <a:cubicBezTo>
                  <a:pt x="17471" y="11254"/>
                  <a:pt x="17478" y="11262"/>
                  <a:pt x="17537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67320" y="4786200"/>
            <a:ext cx="19692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8008" y="13295"/>
                </a:moveTo>
                <a:cubicBezTo>
                  <a:pt x="17639" y="13405"/>
                  <a:pt x="17669" y="13450"/>
                  <a:pt x="17785" y="13791"/>
                </a:cubicBezTo>
                <a:cubicBezTo>
                  <a:pt x="17820" y="13895"/>
                  <a:pt x="17861" y="13996"/>
                  <a:pt x="17810" y="14064"/>
                </a:cubicBezTo>
              </a:path>
              <a:path w="546" h="770">
                <a:moveTo>
                  <a:pt x="17711" y="13717"/>
                </a:moveTo>
                <a:cubicBezTo>
                  <a:pt x="17975" y="13717"/>
                  <a:pt x="18058" y="13717"/>
                  <a:pt x="18231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3960" y="4830840"/>
            <a:ext cx="4429080" cy="455400"/>
          </a:xfrm>
          <a:custGeom>
            <a:avLst/>
            <a:gdLst/>
            <a:ahLst/>
            <a:rect l="l" t="t" r="r" b="b"/>
            <a:pathLst>
              <a:path w="12304" h="1266">
                <a:moveTo>
                  <a:pt x="5259" y="14015"/>
                </a:moveTo>
                <a:cubicBezTo>
                  <a:pt x="5274" y="14192"/>
                  <a:pt x="5254" y="14554"/>
                  <a:pt x="5358" y="14684"/>
                </a:cubicBezTo>
              </a:path>
              <a:path w="12304" h="1266">
                <a:moveTo>
                  <a:pt x="12502" y="14039"/>
                </a:moveTo>
                <a:cubicBezTo>
                  <a:pt x="12742" y="14013"/>
                  <a:pt x="12832" y="14004"/>
                  <a:pt x="12998" y="13990"/>
                </a:cubicBezTo>
              </a:path>
              <a:path w="12304" h="1266">
                <a:moveTo>
                  <a:pt x="17487" y="13767"/>
                </a:moveTo>
                <a:cubicBezTo>
                  <a:pt x="17499" y="13838"/>
                  <a:pt x="17613" y="14118"/>
                  <a:pt x="17537" y="14039"/>
                </a:cubicBezTo>
              </a:path>
              <a:path w="12304" h="1266">
                <a:moveTo>
                  <a:pt x="17438" y="13419"/>
                </a:moveTo>
                <a:cubicBezTo>
                  <a:pt x="17454" y="13427"/>
                  <a:pt x="17471" y="13436"/>
                  <a:pt x="17487" y="13444"/>
                </a:cubicBezTo>
              </a:path>
              <a:path w="12304" h="1266">
                <a:moveTo>
                  <a:pt x="17487" y="13444"/>
                </a:moveTo>
                <a:lnTo>
                  <a:pt x="17487" y="134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6960" y="5099040"/>
            <a:ext cx="1465200" cy="438120"/>
          </a:xfrm>
          <a:custGeom>
            <a:avLst/>
            <a:gdLst/>
            <a:ahLst/>
            <a:rect l="l" t="t" r="r" b="b"/>
            <a:pathLst>
              <a:path w="4069" h="1217">
                <a:moveTo>
                  <a:pt x="2183" y="14486"/>
                </a:moveTo>
                <a:cubicBezTo>
                  <a:pt x="2183" y="14478"/>
                  <a:pt x="2183" y="14469"/>
                  <a:pt x="2183" y="14461"/>
                </a:cubicBezTo>
                <a:cubicBezTo>
                  <a:pt x="2309" y="14503"/>
                  <a:pt x="2201" y="14701"/>
                  <a:pt x="2208" y="14833"/>
                </a:cubicBezTo>
                <a:cubicBezTo>
                  <a:pt x="2217" y="15019"/>
                  <a:pt x="2232" y="15194"/>
                  <a:pt x="2232" y="15379"/>
                </a:cubicBezTo>
              </a:path>
              <a:path w="4069" h="1217">
                <a:moveTo>
                  <a:pt x="1935" y="14387"/>
                </a:moveTo>
                <a:cubicBezTo>
                  <a:pt x="2143" y="14334"/>
                  <a:pt x="2687" y="14225"/>
                  <a:pt x="2629" y="14635"/>
                </a:cubicBezTo>
                <a:cubicBezTo>
                  <a:pt x="2595" y="14874"/>
                  <a:pt x="2307" y="14883"/>
                  <a:pt x="2208" y="14784"/>
                </a:cubicBezTo>
              </a:path>
              <a:path w="4069" h="1217">
                <a:moveTo>
                  <a:pt x="2902" y="14560"/>
                </a:moveTo>
                <a:cubicBezTo>
                  <a:pt x="3004" y="14543"/>
                  <a:pt x="3027" y="14517"/>
                  <a:pt x="3101" y="14560"/>
                </a:cubicBezTo>
                <a:cubicBezTo>
                  <a:pt x="3101" y="14499"/>
                  <a:pt x="3012" y="14351"/>
                  <a:pt x="2927" y="14387"/>
                </a:cubicBezTo>
                <a:cubicBezTo>
                  <a:pt x="2701" y="14484"/>
                  <a:pt x="2711" y="14883"/>
                  <a:pt x="3001" y="14858"/>
                </a:cubicBezTo>
                <a:cubicBezTo>
                  <a:pt x="3218" y="14786"/>
                  <a:pt x="3288" y="14768"/>
                  <a:pt x="3349" y="14610"/>
                </a:cubicBezTo>
              </a:path>
              <a:path w="4069" h="1217">
                <a:moveTo>
                  <a:pt x="3349" y="14486"/>
                </a:moveTo>
                <a:cubicBezTo>
                  <a:pt x="3373" y="14584"/>
                  <a:pt x="3381" y="14616"/>
                  <a:pt x="3373" y="14684"/>
                </a:cubicBezTo>
                <a:cubicBezTo>
                  <a:pt x="3440" y="14729"/>
                  <a:pt x="3356" y="14524"/>
                  <a:pt x="3373" y="14461"/>
                </a:cubicBezTo>
                <a:cubicBezTo>
                  <a:pt x="3410" y="14323"/>
                  <a:pt x="3595" y="14332"/>
                  <a:pt x="3696" y="14312"/>
                </a:cubicBezTo>
              </a:path>
              <a:path w="4069" h="1217">
                <a:moveTo>
                  <a:pt x="3994" y="14312"/>
                </a:moveTo>
                <a:cubicBezTo>
                  <a:pt x="4051" y="14293"/>
                  <a:pt x="3906" y="14228"/>
                  <a:pt x="3820" y="14337"/>
                </a:cubicBezTo>
                <a:cubicBezTo>
                  <a:pt x="3624" y="14585"/>
                  <a:pt x="3701" y="14855"/>
                  <a:pt x="4043" y="14759"/>
                </a:cubicBezTo>
                <a:cubicBezTo>
                  <a:pt x="4084" y="14734"/>
                  <a:pt x="4126" y="14709"/>
                  <a:pt x="4167" y="14684"/>
                </a:cubicBezTo>
              </a:path>
              <a:path w="4069" h="1217">
                <a:moveTo>
                  <a:pt x="4366" y="14436"/>
                </a:moveTo>
                <a:cubicBezTo>
                  <a:pt x="4435" y="14379"/>
                  <a:pt x="4527" y="14331"/>
                  <a:pt x="4415" y="14312"/>
                </a:cubicBezTo>
                <a:cubicBezTo>
                  <a:pt x="4225" y="14402"/>
                  <a:pt x="4228" y="14425"/>
                  <a:pt x="4167" y="14635"/>
                </a:cubicBezTo>
                <a:cubicBezTo>
                  <a:pt x="4412" y="14831"/>
                  <a:pt x="4579" y="14828"/>
                  <a:pt x="4688" y="14486"/>
                </a:cubicBezTo>
                <a:cubicBezTo>
                  <a:pt x="4688" y="14461"/>
                  <a:pt x="4688" y="14437"/>
                  <a:pt x="4688" y="14412"/>
                </a:cubicBezTo>
                <a:cubicBezTo>
                  <a:pt x="4688" y="14429"/>
                  <a:pt x="4654" y="14800"/>
                  <a:pt x="4688" y="14660"/>
                </a:cubicBezTo>
                <a:cubicBezTo>
                  <a:pt x="4732" y="14479"/>
                  <a:pt x="4713" y="14424"/>
                  <a:pt x="4837" y="14337"/>
                </a:cubicBezTo>
                <a:cubicBezTo>
                  <a:pt x="4963" y="14448"/>
                  <a:pt x="5023" y="14547"/>
                  <a:pt x="5110" y="14684"/>
                </a:cubicBezTo>
              </a:path>
              <a:path w="4069" h="1217">
                <a:moveTo>
                  <a:pt x="5060" y="14362"/>
                </a:moveTo>
                <a:cubicBezTo>
                  <a:pt x="5292" y="14302"/>
                  <a:pt x="5589" y="14291"/>
                  <a:pt x="5804" y="14188"/>
                </a:cubicBezTo>
                <a:cubicBezTo>
                  <a:pt x="5804" y="14180"/>
                  <a:pt x="5804" y="14171"/>
                  <a:pt x="5804" y="14163"/>
                </a:cubicBezTo>
                <a:cubicBezTo>
                  <a:pt x="5756" y="14203"/>
                  <a:pt x="5601" y="14256"/>
                  <a:pt x="5705" y="14288"/>
                </a:cubicBezTo>
                <a:cubicBezTo>
                  <a:pt x="5847" y="14331"/>
                  <a:pt x="5900" y="14334"/>
                  <a:pt x="6003" y="14436"/>
                </a:cubicBezTo>
                <a:cubicBezTo>
                  <a:pt x="5933" y="14576"/>
                  <a:pt x="5800" y="14693"/>
                  <a:pt x="5631" y="14560"/>
                </a:cubicBezTo>
                <a:cubicBezTo>
                  <a:pt x="5606" y="14519"/>
                  <a:pt x="5581" y="14477"/>
                  <a:pt x="5556" y="14436"/>
                </a:cubicBezTo>
              </a:path>
              <a:path w="4069" h="1217">
                <a:moveTo>
                  <a:pt x="4366" y="14387"/>
                </a:moveTo>
                <a:cubicBezTo>
                  <a:pt x="4366" y="14379"/>
                  <a:pt x="4366" y="14370"/>
                  <a:pt x="4366" y="14362"/>
                </a:cubicBezTo>
                <a:cubicBezTo>
                  <a:pt x="4397" y="14458"/>
                  <a:pt x="4314" y="14563"/>
                  <a:pt x="4266" y="14660"/>
                </a:cubicBezTo>
                <a:cubicBezTo>
                  <a:pt x="4242" y="14709"/>
                  <a:pt x="4184" y="14734"/>
                  <a:pt x="4266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0200" y="5099040"/>
            <a:ext cx="527040" cy="187200"/>
          </a:xfrm>
          <a:custGeom>
            <a:avLst/>
            <a:gdLst/>
            <a:ahLst/>
            <a:rect l="l" t="t" r="r" b="b"/>
            <a:pathLst>
              <a:path w="1465" h="522">
                <a:moveTo>
                  <a:pt x="7317" y="14263"/>
                </a:moveTo>
                <a:cubicBezTo>
                  <a:pt x="7317" y="14384"/>
                  <a:pt x="7339" y="14362"/>
                  <a:pt x="7268" y="14288"/>
                </a:cubicBezTo>
                <a:cubicBezTo>
                  <a:pt x="7235" y="14255"/>
                  <a:pt x="7202" y="14221"/>
                  <a:pt x="7169" y="14188"/>
                </a:cubicBezTo>
                <a:cubicBezTo>
                  <a:pt x="7096" y="14234"/>
                  <a:pt x="6756" y="14587"/>
                  <a:pt x="6995" y="14684"/>
                </a:cubicBezTo>
                <a:cubicBezTo>
                  <a:pt x="7121" y="14735"/>
                  <a:pt x="7133" y="14534"/>
                  <a:pt x="7193" y="14412"/>
                </a:cubicBezTo>
                <a:cubicBezTo>
                  <a:pt x="7176" y="14596"/>
                  <a:pt x="7274" y="14621"/>
                  <a:pt x="7417" y="14486"/>
                </a:cubicBezTo>
                <a:cubicBezTo>
                  <a:pt x="7442" y="14453"/>
                  <a:pt x="7466" y="14420"/>
                  <a:pt x="7491" y="14387"/>
                </a:cubicBezTo>
                <a:cubicBezTo>
                  <a:pt x="7502" y="14462"/>
                  <a:pt x="7522" y="14536"/>
                  <a:pt x="7541" y="14610"/>
                </a:cubicBezTo>
                <a:cubicBezTo>
                  <a:pt x="7551" y="14485"/>
                  <a:pt x="7525" y="14240"/>
                  <a:pt x="7665" y="14188"/>
                </a:cubicBezTo>
                <a:cubicBezTo>
                  <a:pt x="7706" y="14188"/>
                  <a:pt x="7748" y="14188"/>
                  <a:pt x="7789" y="14188"/>
                </a:cubicBezTo>
              </a:path>
              <a:path w="1465" h="522">
                <a:moveTo>
                  <a:pt x="8037" y="14288"/>
                </a:moveTo>
                <a:cubicBezTo>
                  <a:pt x="8138" y="14240"/>
                  <a:pt x="8174" y="14254"/>
                  <a:pt x="8210" y="14163"/>
                </a:cubicBezTo>
                <a:cubicBezTo>
                  <a:pt x="7996" y="14183"/>
                  <a:pt x="7980" y="14246"/>
                  <a:pt x="7913" y="14436"/>
                </a:cubicBezTo>
                <a:cubicBezTo>
                  <a:pt x="8131" y="14553"/>
                  <a:pt x="8160" y="14497"/>
                  <a:pt x="840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59080" y="4946760"/>
            <a:ext cx="804960" cy="438120"/>
          </a:xfrm>
          <a:custGeom>
            <a:avLst/>
            <a:gdLst/>
            <a:ahLst/>
            <a:rect l="l" t="t" r="r" b="b"/>
            <a:pathLst>
              <a:path w="2233" h="1216">
                <a:moveTo>
                  <a:pt x="9054" y="14163"/>
                </a:moveTo>
                <a:cubicBezTo>
                  <a:pt x="9126" y="14432"/>
                  <a:pt x="9207" y="14682"/>
                  <a:pt x="9178" y="14957"/>
                </a:cubicBezTo>
                <a:cubicBezTo>
                  <a:pt x="9070" y="14706"/>
                  <a:pt x="8994" y="14433"/>
                  <a:pt x="9103" y="14163"/>
                </a:cubicBezTo>
                <a:cubicBezTo>
                  <a:pt x="9201" y="14066"/>
                  <a:pt x="9233" y="14032"/>
                  <a:pt x="9327" y="14114"/>
                </a:cubicBezTo>
                <a:cubicBezTo>
                  <a:pt x="9368" y="14210"/>
                  <a:pt x="9533" y="14754"/>
                  <a:pt x="9178" y="14536"/>
                </a:cubicBezTo>
                <a:cubicBezTo>
                  <a:pt x="9137" y="14486"/>
                  <a:pt x="9095" y="14437"/>
                  <a:pt x="9054" y="14387"/>
                </a:cubicBezTo>
              </a:path>
              <a:path w="2233" h="1216">
                <a:moveTo>
                  <a:pt x="9798" y="14139"/>
                </a:moveTo>
                <a:cubicBezTo>
                  <a:pt x="9736" y="14045"/>
                  <a:pt x="9540" y="14221"/>
                  <a:pt x="9500" y="14288"/>
                </a:cubicBezTo>
                <a:cubicBezTo>
                  <a:pt x="9325" y="14583"/>
                  <a:pt x="9770" y="14310"/>
                  <a:pt x="9823" y="14263"/>
                </a:cubicBezTo>
                <a:cubicBezTo>
                  <a:pt x="9806" y="14230"/>
                  <a:pt x="9790" y="14196"/>
                  <a:pt x="9773" y="14163"/>
                </a:cubicBezTo>
                <a:cubicBezTo>
                  <a:pt x="9712" y="14265"/>
                  <a:pt x="9770" y="14433"/>
                  <a:pt x="9947" y="14387"/>
                </a:cubicBezTo>
                <a:cubicBezTo>
                  <a:pt x="10066" y="14315"/>
                  <a:pt x="10106" y="14296"/>
                  <a:pt x="10096" y="14188"/>
                </a:cubicBezTo>
              </a:path>
              <a:path w="2233" h="1216">
                <a:moveTo>
                  <a:pt x="10071" y="14312"/>
                </a:moveTo>
                <a:cubicBezTo>
                  <a:pt x="10071" y="14403"/>
                  <a:pt x="10071" y="14411"/>
                  <a:pt x="10071" y="14461"/>
                </a:cubicBezTo>
                <a:cubicBezTo>
                  <a:pt x="10104" y="14331"/>
                  <a:pt x="10084" y="14100"/>
                  <a:pt x="10244" y="14064"/>
                </a:cubicBezTo>
                <a:cubicBezTo>
                  <a:pt x="10285" y="14064"/>
                  <a:pt x="10327" y="14064"/>
                  <a:pt x="10368" y="14064"/>
                </a:cubicBezTo>
              </a:path>
              <a:path w="2233" h="1216">
                <a:moveTo>
                  <a:pt x="10641" y="13742"/>
                </a:moveTo>
                <a:cubicBezTo>
                  <a:pt x="10648" y="13992"/>
                  <a:pt x="10674" y="14237"/>
                  <a:pt x="10691" y="14486"/>
                </a:cubicBezTo>
              </a:path>
              <a:path w="2233" h="1216">
                <a:moveTo>
                  <a:pt x="10517" y="14089"/>
                </a:moveTo>
                <a:cubicBezTo>
                  <a:pt x="10689" y="14061"/>
                  <a:pt x="11029" y="13993"/>
                  <a:pt x="11112" y="13965"/>
                </a:cubicBezTo>
                <a:cubicBezTo>
                  <a:pt x="11029" y="14019"/>
                  <a:pt x="10945" y="14063"/>
                  <a:pt x="10864" y="14114"/>
                </a:cubicBezTo>
                <a:cubicBezTo>
                  <a:pt x="10934" y="14118"/>
                  <a:pt x="11300" y="14104"/>
                  <a:pt x="11286" y="14238"/>
                </a:cubicBezTo>
                <a:cubicBezTo>
                  <a:pt x="11271" y="14380"/>
                  <a:pt x="10992" y="14314"/>
                  <a:pt x="10939" y="143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03800" y="4894200"/>
            <a:ext cx="322200" cy="32076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12303" y="14015"/>
                </a:moveTo>
                <a:cubicBezTo>
                  <a:pt x="12170" y="13992"/>
                  <a:pt x="11978" y="14213"/>
                  <a:pt x="11956" y="14362"/>
                </a:cubicBezTo>
                <a:cubicBezTo>
                  <a:pt x="11972" y="14403"/>
                  <a:pt x="11989" y="14445"/>
                  <a:pt x="12005" y="14486"/>
                </a:cubicBezTo>
                <a:cubicBezTo>
                  <a:pt x="12182" y="14429"/>
                  <a:pt x="12615" y="14235"/>
                  <a:pt x="12254" y="14039"/>
                </a:cubicBezTo>
                <a:cubicBezTo>
                  <a:pt x="12147" y="14022"/>
                  <a:pt x="12055" y="14014"/>
                  <a:pt x="12129" y="14015"/>
                </a:cubicBezTo>
              </a:path>
              <a:path w="894" h="894">
                <a:moveTo>
                  <a:pt x="12849" y="13618"/>
                </a:moveTo>
                <a:cubicBezTo>
                  <a:pt x="12613" y="13601"/>
                  <a:pt x="12548" y="13722"/>
                  <a:pt x="12601" y="13965"/>
                </a:cubicBezTo>
                <a:cubicBezTo>
                  <a:pt x="12629" y="14095"/>
                  <a:pt x="12701" y="14208"/>
                  <a:pt x="12725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73760" y="4894200"/>
            <a:ext cx="455400" cy="23184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3816" y="13717"/>
                </a:moveTo>
                <a:cubicBezTo>
                  <a:pt x="13854" y="13891"/>
                  <a:pt x="13885" y="14062"/>
                  <a:pt x="13915" y="14238"/>
                </a:cubicBezTo>
              </a:path>
              <a:path w="1266" h="646">
                <a:moveTo>
                  <a:pt x="14312" y="13618"/>
                </a:moveTo>
                <a:cubicBezTo>
                  <a:pt x="14138" y="13714"/>
                  <a:pt x="13971" y="13969"/>
                  <a:pt x="14114" y="14188"/>
                </a:cubicBezTo>
                <a:cubicBezTo>
                  <a:pt x="14276" y="14437"/>
                  <a:pt x="14604" y="14066"/>
                  <a:pt x="14560" y="13866"/>
                </a:cubicBezTo>
                <a:cubicBezTo>
                  <a:pt x="14466" y="13749"/>
                  <a:pt x="14441" y="13710"/>
                  <a:pt x="14337" y="13692"/>
                </a:cubicBezTo>
              </a:path>
              <a:path w="1266" h="646">
                <a:moveTo>
                  <a:pt x="14808" y="13593"/>
                </a:moveTo>
                <a:cubicBezTo>
                  <a:pt x="14707" y="13721"/>
                  <a:pt x="14381" y="14107"/>
                  <a:pt x="14734" y="14163"/>
                </a:cubicBezTo>
                <a:cubicBezTo>
                  <a:pt x="14979" y="14202"/>
                  <a:pt x="15191" y="13943"/>
                  <a:pt x="15007" y="13742"/>
                </a:cubicBezTo>
                <a:cubicBezTo>
                  <a:pt x="14966" y="13717"/>
                  <a:pt x="14924" y="13692"/>
                  <a:pt x="14883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7360" y="4911840"/>
            <a:ext cx="295560" cy="169920"/>
          </a:xfrm>
          <a:custGeom>
            <a:avLst/>
            <a:gdLst/>
            <a:ahLst/>
            <a:rect l="l" t="t" r="r" b="b"/>
            <a:pathLst>
              <a:path w="820" h="472">
                <a:moveTo>
                  <a:pt x="16247" y="13643"/>
                </a:moveTo>
                <a:cubicBezTo>
                  <a:pt x="16102" y="13691"/>
                  <a:pt x="16056" y="13705"/>
                  <a:pt x="15974" y="13767"/>
                </a:cubicBezTo>
                <a:cubicBezTo>
                  <a:pt x="16075" y="13800"/>
                  <a:pt x="16400" y="13871"/>
                  <a:pt x="16222" y="14039"/>
                </a:cubicBezTo>
                <a:cubicBezTo>
                  <a:pt x="16051" y="14200"/>
                  <a:pt x="15948" y="14072"/>
                  <a:pt x="15825" y="13965"/>
                </a:cubicBezTo>
              </a:path>
              <a:path w="820" h="472">
                <a:moveTo>
                  <a:pt x="16470" y="13717"/>
                </a:moveTo>
                <a:cubicBezTo>
                  <a:pt x="16306" y="13816"/>
                  <a:pt x="16322" y="13841"/>
                  <a:pt x="16297" y="14039"/>
                </a:cubicBezTo>
                <a:cubicBezTo>
                  <a:pt x="16415" y="14106"/>
                  <a:pt x="16799" y="14130"/>
                  <a:pt x="16619" y="13866"/>
                </a:cubicBezTo>
                <a:cubicBezTo>
                  <a:pt x="16517" y="13718"/>
                  <a:pt x="16340" y="13841"/>
                  <a:pt x="16570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80160" y="4724280"/>
            <a:ext cx="1446120" cy="500040"/>
          </a:xfrm>
          <a:custGeom>
            <a:avLst/>
            <a:gdLst/>
            <a:ahLst/>
            <a:rect l="l" t="t" r="r" b="b"/>
            <a:pathLst>
              <a:path w="4019" h="1390">
                <a:moveTo>
                  <a:pt x="18554" y="13643"/>
                </a:moveTo>
                <a:cubicBezTo>
                  <a:pt x="18620" y="13796"/>
                  <a:pt x="18694" y="14081"/>
                  <a:pt x="18926" y="13965"/>
                </a:cubicBezTo>
                <a:cubicBezTo>
                  <a:pt x="19070" y="13893"/>
                  <a:pt x="19043" y="13748"/>
                  <a:pt x="19050" y="13618"/>
                </a:cubicBezTo>
                <a:cubicBezTo>
                  <a:pt x="19084" y="13803"/>
                  <a:pt x="19305" y="14375"/>
                  <a:pt x="19075" y="14511"/>
                </a:cubicBezTo>
                <a:cubicBezTo>
                  <a:pt x="18845" y="14647"/>
                  <a:pt x="18712" y="14388"/>
                  <a:pt x="18628" y="14263"/>
                </a:cubicBezTo>
              </a:path>
              <a:path w="4019" h="1390">
                <a:moveTo>
                  <a:pt x="19372" y="13643"/>
                </a:moveTo>
                <a:cubicBezTo>
                  <a:pt x="19205" y="13713"/>
                  <a:pt x="19167" y="13843"/>
                  <a:pt x="19199" y="14015"/>
                </a:cubicBezTo>
                <a:cubicBezTo>
                  <a:pt x="19363" y="13991"/>
                  <a:pt x="19638" y="13926"/>
                  <a:pt x="19422" y="13717"/>
                </a:cubicBezTo>
                <a:cubicBezTo>
                  <a:pt x="19389" y="13700"/>
                  <a:pt x="19356" y="13684"/>
                  <a:pt x="19323" y="13667"/>
                </a:cubicBezTo>
              </a:path>
              <a:path w="4019" h="1390">
                <a:moveTo>
                  <a:pt x="19571" y="13618"/>
                </a:moveTo>
                <a:cubicBezTo>
                  <a:pt x="19581" y="13695"/>
                  <a:pt x="19604" y="13951"/>
                  <a:pt x="19720" y="13965"/>
                </a:cubicBezTo>
                <a:cubicBezTo>
                  <a:pt x="19857" y="13982"/>
                  <a:pt x="19945" y="13757"/>
                  <a:pt x="19968" y="13667"/>
                </a:cubicBezTo>
                <a:cubicBezTo>
                  <a:pt x="20001" y="13867"/>
                  <a:pt x="19991" y="13857"/>
                  <a:pt x="20166" y="13915"/>
                </a:cubicBezTo>
              </a:path>
              <a:path w="4019" h="1390">
                <a:moveTo>
                  <a:pt x="20489" y="13122"/>
                </a:moveTo>
                <a:cubicBezTo>
                  <a:pt x="20536" y="13369"/>
                  <a:pt x="20592" y="13616"/>
                  <a:pt x="20613" y="13866"/>
                </a:cubicBezTo>
                <a:cubicBezTo>
                  <a:pt x="20626" y="13641"/>
                  <a:pt x="20668" y="13508"/>
                  <a:pt x="20786" y="13320"/>
                </a:cubicBezTo>
                <a:cubicBezTo>
                  <a:pt x="21034" y="13467"/>
                  <a:pt x="21048" y="13569"/>
                  <a:pt x="21059" y="13866"/>
                </a:cubicBezTo>
                <a:cubicBezTo>
                  <a:pt x="21059" y="13947"/>
                  <a:pt x="21095" y="13912"/>
                  <a:pt x="21183" y="13742"/>
                </a:cubicBezTo>
              </a:path>
              <a:path w="4019" h="1390">
                <a:moveTo>
                  <a:pt x="21382" y="13370"/>
                </a:moveTo>
                <a:cubicBezTo>
                  <a:pt x="21198" y="13492"/>
                  <a:pt x="21093" y="13590"/>
                  <a:pt x="21134" y="13791"/>
                </a:cubicBezTo>
                <a:cubicBezTo>
                  <a:pt x="21372" y="13760"/>
                  <a:pt x="21348" y="13785"/>
                  <a:pt x="21431" y="13568"/>
                </a:cubicBezTo>
                <a:cubicBezTo>
                  <a:pt x="21350" y="13382"/>
                  <a:pt x="21479" y="13693"/>
                  <a:pt x="21506" y="13717"/>
                </a:cubicBezTo>
                <a:cubicBezTo>
                  <a:pt x="21630" y="13791"/>
                  <a:pt x="21671" y="13816"/>
                  <a:pt x="21754" y="13717"/>
                </a:cubicBezTo>
              </a:path>
              <a:path w="4019" h="1390">
                <a:moveTo>
                  <a:pt x="21704" y="13395"/>
                </a:moveTo>
                <a:cubicBezTo>
                  <a:pt x="21748" y="13527"/>
                  <a:pt x="21789" y="13646"/>
                  <a:pt x="21853" y="13767"/>
                </a:cubicBezTo>
                <a:cubicBezTo>
                  <a:pt x="21979" y="13682"/>
                  <a:pt x="22008" y="13495"/>
                  <a:pt x="22051" y="13345"/>
                </a:cubicBezTo>
                <a:cubicBezTo>
                  <a:pt x="22051" y="13310"/>
                  <a:pt x="22047" y="13311"/>
                  <a:pt x="22027" y="13370"/>
                </a:cubicBezTo>
              </a:path>
              <a:path w="4019" h="1390">
                <a:moveTo>
                  <a:pt x="22324" y="13419"/>
                </a:moveTo>
                <a:cubicBezTo>
                  <a:pt x="22408" y="13335"/>
                  <a:pt x="22435" y="13321"/>
                  <a:pt x="22448" y="13246"/>
                </a:cubicBezTo>
                <a:cubicBezTo>
                  <a:pt x="22281" y="13307"/>
                  <a:pt x="22103" y="13493"/>
                  <a:pt x="22250" y="13692"/>
                </a:cubicBezTo>
                <a:cubicBezTo>
                  <a:pt x="22401" y="13753"/>
                  <a:pt x="22469" y="13757"/>
                  <a:pt x="22572" y="13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3160" y="5232240"/>
            <a:ext cx="5268960" cy="447840"/>
          </a:xfrm>
          <a:custGeom>
            <a:avLst/>
            <a:gdLst/>
            <a:ahLst/>
            <a:rect l="l" t="t" r="r" b="b"/>
            <a:pathLst>
              <a:path w="14636" h="1241">
                <a:moveTo>
                  <a:pt x="5631" y="15106"/>
                </a:moveTo>
                <a:cubicBezTo>
                  <a:pt x="5678" y="15318"/>
                  <a:pt x="5691" y="15546"/>
                  <a:pt x="5755" y="15751"/>
                </a:cubicBezTo>
                <a:cubicBezTo>
                  <a:pt x="5755" y="15743"/>
                  <a:pt x="5755" y="15734"/>
                  <a:pt x="5755" y="15726"/>
                </a:cubicBezTo>
              </a:path>
              <a:path w="14636" h="1241">
                <a:moveTo>
                  <a:pt x="5482" y="15453"/>
                </a:moveTo>
                <a:cubicBezTo>
                  <a:pt x="5800" y="15403"/>
                  <a:pt x="5879" y="15388"/>
                  <a:pt x="6003" y="15701"/>
                </a:cubicBezTo>
                <a:cubicBezTo>
                  <a:pt x="6011" y="15726"/>
                  <a:pt x="6020" y="15751"/>
                  <a:pt x="6028" y="15776"/>
                </a:cubicBezTo>
              </a:path>
              <a:path w="14636" h="1241">
                <a:moveTo>
                  <a:pt x="5953" y="15280"/>
                </a:moveTo>
                <a:cubicBezTo>
                  <a:pt x="5953" y="15288"/>
                  <a:pt x="5953" y="15296"/>
                  <a:pt x="5953" y="15304"/>
                </a:cubicBezTo>
              </a:path>
              <a:path w="14636" h="1241">
                <a:moveTo>
                  <a:pt x="5953" y="15304"/>
                </a:moveTo>
                <a:lnTo>
                  <a:pt x="5953" y="15304"/>
                </a:lnTo>
              </a:path>
              <a:path w="14636" h="1241">
                <a:moveTo>
                  <a:pt x="8706" y="15404"/>
                </a:moveTo>
                <a:cubicBezTo>
                  <a:pt x="8722" y="15477"/>
                  <a:pt x="8735" y="15670"/>
                  <a:pt x="8756" y="15503"/>
                </a:cubicBezTo>
              </a:path>
              <a:path w="14636" h="1241">
                <a:moveTo>
                  <a:pt x="8657" y="15156"/>
                </a:moveTo>
                <a:cubicBezTo>
                  <a:pt x="8627" y="15126"/>
                  <a:pt x="8622" y="15112"/>
                  <a:pt x="8657" y="15081"/>
                </a:cubicBezTo>
              </a:path>
              <a:path w="14636" h="1241">
                <a:moveTo>
                  <a:pt x="8657" y="15081"/>
                </a:moveTo>
                <a:lnTo>
                  <a:pt x="8657" y="15081"/>
                </a:lnTo>
              </a:path>
              <a:path w="14636" h="1241">
                <a:moveTo>
                  <a:pt x="11857" y="14858"/>
                </a:moveTo>
                <a:cubicBezTo>
                  <a:pt x="12086" y="14984"/>
                  <a:pt x="12065" y="15190"/>
                  <a:pt x="12129" y="15429"/>
                </a:cubicBezTo>
                <a:cubicBezTo>
                  <a:pt x="12137" y="15445"/>
                  <a:pt x="12146" y="15462"/>
                  <a:pt x="12154" y="15478"/>
                </a:cubicBezTo>
              </a:path>
              <a:path w="14636" h="1241">
                <a:moveTo>
                  <a:pt x="14585" y="15180"/>
                </a:moveTo>
                <a:cubicBezTo>
                  <a:pt x="14603" y="15271"/>
                  <a:pt x="14612" y="15278"/>
                  <a:pt x="14610" y="15329"/>
                </a:cubicBezTo>
              </a:path>
              <a:path w="14636" h="1241">
                <a:moveTo>
                  <a:pt x="14610" y="15329"/>
                </a:moveTo>
                <a:lnTo>
                  <a:pt x="14610" y="15329"/>
                </a:lnTo>
              </a:path>
              <a:path w="14636" h="1241">
                <a:moveTo>
                  <a:pt x="14536" y="14808"/>
                </a:moveTo>
                <a:lnTo>
                  <a:pt x="14536" y="14808"/>
                </a:lnTo>
              </a:path>
              <a:path w="14636" h="1241">
                <a:moveTo>
                  <a:pt x="15925" y="14610"/>
                </a:moveTo>
                <a:cubicBezTo>
                  <a:pt x="15895" y="14791"/>
                  <a:pt x="15919" y="15067"/>
                  <a:pt x="16049" y="15230"/>
                </a:cubicBezTo>
                <a:cubicBezTo>
                  <a:pt x="16057" y="15222"/>
                  <a:pt x="16065" y="15213"/>
                  <a:pt x="16073" y="15205"/>
                </a:cubicBezTo>
              </a:path>
              <a:path w="14636" h="1241">
                <a:moveTo>
                  <a:pt x="18827" y="14784"/>
                </a:moveTo>
                <a:cubicBezTo>
                  <a:pt x="19033" y="14758"/>
                  <a:pt x="19107" y="14750"/>
                  <a:pt x="19248" y="14759"/>
                </a:cubicBezTo>
              </a:path>
              <a:path w="14636" h="1241">
                <a:moveTo>
                  <a:pt x="20067" y="14536"/>
                </a:moveTo>
                <a:cubicBezTo>
                  <a:pt x="20072" y="14709"/>
                  <a:pt x="20083" y="14862"/>
                  <a:pt x="20117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6160" y="5643720"/>
            <a:ext cx="250920" cy="152280"/>
          </a:xfrm>
          <a:custGeom>
            <a:avLst/>
            <a:gdLst/>
            <a:ahLst/>
            <a:rect l="l" t="t" r="r" b="b"/>
            <a:pathLst>
              <a:path w="696" h="422">
                <a:moveTo>
                  <a:pt x="2604" y="15900"/>
                </a:moveTo>
                <a:cubicBezTo>
                  <a:pt x="2573" y="15815"/>
                  <a:pt x="2451" y="15569"/>
                  <a:pt x="2307" y="15701"/>
                </a:cubicBezTo>
                <a:cubicBezTo>
                  <a:pt x="2180" y="15892"/>
                  <a:pt x="2124" y="15928"/>
                  <a:pt x="2183" y="16073"/>
                </a:cubicBezTo>
                <a:cubicBezTo>
                  <a:pt x="2425" y="16053"/>
                  <a:pt x="2415" y="16039"/>
                  <a:pt x="2555" y="15825"/>
                </a:cubicBezTo>
                <a:cubicBezTo>
                  <a:pt x="2485" y="15593"/>
                  <a:pt x="2589" y="15947"/>
                  <a:pt x="2654" y="15999"/>
                </a:cubicBezTo>
                <a:cubicBezTo>
                  <a:pt x="2756" y="16025"/>
                  <a:pt x="2792" y="16032"/>
                  <a:pt x="2853" y="159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20840" y="5402160"/>
            <a:ext cx="1206360" cy="339840"/>
          </a:xfrm>
          <a:custGeom>
            <a:avLst/>
            <a:gdLst/>
            <a:ahLst/>
            <a:rect l="l" t="t" r="r" b="b"/>
            <a:pathLst>
              <a:path w="3350" h="943">
                <a:moveTo>
                  <a:pt x="4118" y="15106"/>
                </a:moveTo>
                <a:cubicBezTo>
                  <a:pt x="3859" y="14940"/>
                  <a:pt x="3757" y="15109"/>
                  <a:pt x="3795" y="15429"/>
                </a:cubicBezTo>
                <a:cubicBezTo>
                  <a:pt x="3800" y="15472"/>
                  <a:pt x="4041" y="16078"/>
                  <a:pt x="3894" y="15875"/>
                </a:cubicBezTo>
              </a:path>
              <a:path w="3350" h="943">
                <a:moveTo>
                  <a:pt x="3671" y="15577"/>
                </a:moveTo>
                <a:cubicBezTo>
                  <a:pt x="3994" y="15522"/>
                  <a:pt x="4097" y="15478"/>
                  <a:pt x="4291" y="15726"/>
                </a:cubicBezTo>
                <a:cubicBezTo>
                  <a:pt x="4308" y="15743"/>
                  <a:pt x="4324" y="15759"/>
                  <a:pt x="4341" y="15776"/>
                </a:cubicBezTo>
                <a:cubicBezTo>
                  <a:pt x="4341" y="15835"/>
                  <a:pt x="4316" y="15555"/>
                  <a:pt x="4316" y="15553"/>
                </a:cubicBezTo>
                <a:cubicBezTo>
                  <a:pt x="4331" y="15439"/>
                  <a:pt x="4540" y="15445"/>
                  <a:pt x="4614" y="15429"/>
                </a:cubicBezTo>
              </a:path>
              <a:path w="3350" h="943">
                <a:moveTo>
                  <a:pt x="4812" y="15503"/>
                </a:moveTo>
                <a:cubicBezTo>
                  <a:pt x="4724" y="15443"/>
                  <a:pt x="4536" y="15685"/>
                  <a:pt x="4539" y="15801"/>
                </a:cubicBezTo>
                <a:cubicBezTo>
                  <a:pt x="4564" y="15826"/>
                  <a:pt x="4589" y="15850"/>
                  <a:pt x="4614" y="15875"/>
                </a:cubicBezTo>
                <a:cubicBezTo>
                  <a:pt x="4800" y="15796"/>
                  <a:pt x="4797" y="15800"/>
                  <a:pt x="4837" y="15602"/>
                </a:cubicBezTo>
                <a:cubicBezTo>
                  <a:pt x="4837" y="15713"/>
                  <a:pt x="4903" y="15801"/>
                  <a:pt x="5011" y="15776"/>
                </a:cubicBezTo>
                <a:cubicBezTo>
                  <a:pt x="5052" y="15751"/>
                  <a:pt x="5094" y="15726"/>
                  <a:pt x="5135" y="15701"/>
                </a:cubicBezTo>
              </a:path>
              <a:path w="3350" h="943">
                <a:moveTo>
                  <a:pt x="5333" y="15478"/>
                </a:moveTo>
                <a:cubicBezTo>
                  <a:pt x="5341" y="15478"/>
                  <a:pt x="5350" y="15478"/>
                  <a:pt x="5358" y="15478"/>
                </a:cubicBezTo>
                <a:cubicBezTo>
                  <a:pt x="5216" y="15355"/>
                  <a:pt x="5078" y="15513"/>
                  <a:pt x="5085" y="15701"/>
                </a:cubicBezTo>
                <a:cubicBezTo>
                  <a:pt x="5098" y="16065"/>
                  <a:pt x="5659" y="15653"/>
                  <a:pt x="5705" y="15478"/>
                </a:cubicBezTo>
                <a:cubicBezTo>
                  <a:pt x="5697" y="15404"/>
                  <a:pt x="5688" y="15329"/>
                  <a:pt x="5680" y="15255"/>
                </a:cubicBezTo>
              </a:path>
              <a:path w="3350" h="943">
                <a:moveTo>
                  <a:pt x="6325" y="15429"/>
                </a:moveTo>
                <a:cubicBezTo>
                  <a:pt x="6184" y="15473"/>
                  <a:pt x="6166" y="15522"/>
                  <a:pt x="6077" y="15652"/>
                </a:cubicBezTo>
                <a:cubicBezTo>
                  <a:pt x="6144" y="15741"/>
                  <a:pt x="6480" y="15936"/>
                  <a:pt x="6474" y="15627"/>
                </a:cubicBezTo>
                <a:cubicBezTo>
                  <a:pt x="6471" y="15460"/>
                  <a:pt x="6318" y="15433"/>
                  <a:pt x="6201" y="15404"/>
                </a:cubicBezTo>
              </a:path>
              <a:path w="3350" h="943">
                <a:moveTo>
                  <a:pt x="6524" y="15577"/>
                </a:moveTo>
                <a:cubicBezTo>
                  <a:pt x="6544" y="15678"/>
                  <a:pt x="6541" y="15698"/>
                  <a:pt x="6573" y="15751"/>
                </a:cubicBezTo>
                <a:cubicBezTo>
                  <a:pt x="6581" y="15637"/>
                  <a:pt x="6579" y="15346"/>
                  <a:pt x="6772" y="15379"/>
                </a:cubicBezTo>
                <a:cubicBezTo>
                  <a:pt x="6959" y="15411"/>
                  <a:pt x="7003" y="15627"/>
                  <a:pt x="7020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20960" y="5357880"/>
            <a:ext cx="706320" cy="322200"/>
          </a:xfrm>
          <a:custGeom>
            <a:avLst/>
            <a:gdLst/>
            <a:ahLst/>
            <a:rect l="l" t="t" r="r" b="b"/>
            <a:pathLst>
              <a:path w="1961" h="894">
                <a:moveTo>
                  <a:pt x="7838" y="15280"/>
                </a:moveTo>
                <a:cubicBezTo>
                  <a:pt x="7841" y="15365"/>
                  <a:pt x="7817" y="15902"/>
                  <a:pt x="8037" y="15776"/>
                </a:cubicBezTo>
                <a:cubicBezTo>
                  <a:pt x="8176" y="15697"/>
                  <a:pt x="8153" y="15534"/>
                  <a:pt x="8161" y="15404"/>
                </a:cubicBezTo>
                <a:cubicBezTo>
                  <a:pt x="8176" y="15556"/>
                  <a:pt x="8206" y="15795"/>
                  <a:pt x="8434" y="15677"/>
                </a:cubicBezTo>
                <a:cubicBezTo>
                  <a:pt x="8704" y="15537"/>
                  <a:pt x="8416" y="15314"/>
                  <a:pt x="8285" y="15280"/>
                </a:cubicBezTo>
              </a:path>
              <a:path w="1961" h="894">
                <a:moveTo>
                  <a:pt x="8905" y="14883"/>
                </a:moveTo>
                <a:cubicBezTo>
                  <a:pt x="8933" y="15126"/>
                  <a:pt x="8991" y="15370"/>
                  <a:pt x="9079" y="15602"/>
                </a:cubicBezTo>
                <a:cubicBezTo>
                  <a:pt x="9079" y="15594"/>
                  <a:pt x="9079" y="15585"/>
                  <a:pt x="9079" y="15577"/>
                </a:cubicBezTo>
              </a:path>
              <a:path w="1961" h="894">
                <a:moveTo>
                  <a:pt x="8806" y="15354"/>
                </a:moveTo>
                <a:cubicBezTo>
                  <a:pt x="9010" y="15417"/>
                  <a:pt x="9338" y="15493"/>
                  <a:pt x="9351" y="15156"/>
                </a:cubicBezTo>
                <a:cubicBezTo>
                  <a:pt x="9335" y="15106"/>
                  <a:pt x="9318" y="15057"/>
                  <a:pt x="9302" y="15007"/>
                </a:cubicBezTo>
                <a:cubicBezTo>
                  <a:pt x="9289" y="15166"/>
                  <a:pt x="9353" y="15380"/>
                  <a:pt x="9401" y="15553"/>
                </a:cubicBezTo>
                <a:cubicBezTo>
                  <a:pt x="9423" y="15355"/>
                  <a:pt x="9433" y="15281"/>
                  <a:pt x="9575" y="15180"/>
                </a:cubicBezTo>
                <a:cubicBezTo>
                  <a:pt x="9650" y="15306"/>
                  <a:pt x="9717" y="15436"/>
                  <a:pt x="9798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87840" y="5438880"/>
            <a:ext cx="241200" cy="142920"/>
          </a:xfrm>
          <a:custGeom>
            <a:avLst/>
            <a:gdLst/>
            <a:ahLst/>
            <a:rect l="l" t="t" r="r" b="b"/>
            <a:pathLst>
              <a:path w="671" h="398">
                <a:moveTo>
                  <a:pt x="10616" y="15180"/>
                </a:moveTo>
                <a:cubicBezTo>
                  <a:pt x="10477" y="15068"/>
                  <a:pt x="10232" y="15205"/>
                  <a:pt x="10244" y="15429"/>
                </a:cubicBezTo>
                <a:cubicBezTo>
                  <a:pt x="10269" y="15454"/>
                  <a:pt x="10294" y="15478"/>
                  <a:pt x="10319" y="15503"/>
                </a:cubicBezTo>
                <a:cubicBezTo>
                  <a:pt x="10467" y="15433"/>
                  <a:pt x="10491" y="15417"/>
                  <a:pt x="10567" y="15255"/>
                </a:cubicBezTo>
                <a:cubicBezTo>
                  <a:pt x="10696" y="15464"/>
                  <a:pt x="10772" y="15495"/>
                  <a:pt x="10914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79960" y="5303880"/>
            <a:ext cx="2027160" cy="287280"/>
          </a:xfrm>
          <a:custGeom>
            <a:avLst/>
            <a:gdLst/>
            <a:ahLst/>
            <a:rect l="l" t="t" r="r" b="b"/>
            <a:pathLst>
              <a:path w="5631" h="795">
                <a:moveTo>
                  <a:pt x="12129" y="15230"/>
                </a:moveTo>
                <a:cubicBezTo>
                  <a:pt x="12044" y="15060"/>
                  <a:pt x="11935" y="14953"/>
                  <a:pt x="11757" y="15131"/>
                </a:cubicBezTo>
                <a:cubicBezTo>
                  <a:pt x="11631" y="15322"/>
                  <a:pt x="11575" y="15358"/>
                  <a:pt x="11633" y="15503"/>
                </a:cubicBezTo>
                <a:cubicBezTo>
                  <a:pt x="11976" y="15483"/>
                  <a:pt x="11946" y="15539"/>
                  <a:pt x="11981" y="15205"/>
                </a:cubicBezTo>
              </a:path>
              <a:path w="5631" h="795">
                <a:moveTo>
                  <a:pt x="12254" y="15180"/>
                </a:moveTo>
                <a:cubicBezTo>
                  <a:pt x="12309" y="15177"/>
                  <a:pt x="12592" y="15204"/>
                  <a:pt x="12576" y="15106"/>
                </a:cubicBezTo>
                <a:cubicBezTo>
                  <a:pt x="12568" y="15081"/>
                  <a:pt x="12559" y="15057"/>
                  <a:pt x="12551" y="15032"/>
                </a:cubicBezTo>
                <a:cubicBezTo>
                  <a:pt x="12352" y="14965"/>
                  <a:pt x="12074" y="15126"/>
                  <a:pt x="12278" y="15379"/>
                </a:cubicBezTo>
                <a:cubicBezTo>
                  <a:pt x="12469" y="15616"/>
                  <a:pt x="12629" y="15366"/>
                  <a:pt x="12725" y="15255"/>
                </a:cubicBezTo>
              </a:path>
              <a:path w="5631" h="795">
                <a:moveTo>
                  <a:pt x="12750" y="15081"/>
                </a:moveTo>
                <a:cubicBezTo>
                  <a:pt x="12767" y="15179"/>
                  <a:pt x="12787" y="15281"/>
                  <a:pt x="12799" y="15379"/>
                </a:cubicBezTo>
                <a:cubicBezTo>
                  <a:pt x="12799" y="15191"/>
                  <a:pt x="12814" y="15106"/>
                  <a:pt x="12923" y="14957"/>
                </a:cubicBezTo>
                <a:cubicBezTo>
                  <a:pt x="13089" y="15097"/>
                  <a:pt x="13112" y="15191"/>
                  <a:pt x="13196" y="15379"/>
                </a:cubicBezTo>
              </a:path>
              <a:path w="5631" h="795">
                <a:moveTo>
                  <a:pt x="13519" y="14908"/>
                </a:moveTo>
                <a:cubicBezTo>
                  <a:pt x="13403" y="14979"/>
                  <a:pt x="13002" y="15272"/>
                  <a:pt x="13320" y="15404"/>
                </a:cubicBezTo>
                <a:cubicBezTo>
                  <a:pt x="13625" y="15530"/>
                  <a:pt x="13650" y="15202"/>
                  <a:pt x="13519" y="15032"/>
                </a:cubicBezTo>
                <a:cubicBezTo>
                  <a:pt x="13502" y="15024"/>
                  <a:pt x="13486" y="15015"/>
                  <a:pt x="13469" y="15007"/>
                </a:cubicBezTo>
              </a:path>
              <a:path w="5631" h="795">
                <a:moveTo>
                  <a:pt x="13717" y="15205"/>
                </a:moveTo>
                <a:cubicBezTo>
                  <a:pt x="13757" y="15265"/>
                  <a:pt x="13786" y="15303"/>
                  <a:pt x="13742" y="15255"/>
                </a:cubicBezTo>
                <a:cubicBezTo>
                  <a:pt x="13735" y="15100"/>
                  <a:pt x="13766" y="14768"/>
                  <a:pt x="13990" y="15032"/>
                </a:cubicBezTo>
                <a:cubicBezTo>
                  <a:pt x="14112" y="15175"/>
                  <a:pt x="14041" y="15300"/>
                  <a:pt x="14064" y="15180"/>
                </a:cubicBezTo>
                <a:cubicBezTo>
                  <a:pt x="14109" y="15046"/>
                  <a:pt x="14112" y="15004"/>
                  <a:pt x="14213" y="14982"/>
                </a:cubicBezTo>
                <a:cubicBezTo>
                  <a:pt x="14262" y="15031"/>
                  <a:pt x="14406" y="15304"/>
                  <a:pt x="14436" y="15304"/>
                </a:cubicBezTo>
                <a:cubicBezTo>
                  <a:pt x="14444" y="15296"/>
                  <a:pt x="14453" y="15288"/>
                  <a:pt x="14461" y="15280"/>
                </a:cubicBezTo>
              </a:path>
              <a:path w="5631" h="795">
                <a:moveTo>
                  <a:pt x="14734" y="15081"/>
                </a:moveTo>
                <a:cubicBezTo>
                  <a:pt x="14780" y="15150"/>
                  <a:pt x="14792" y="15170"/>
                  <a:pt x="14833" y="15205"/>
                </a:cubicBezTo>
                <a:cubicBezTo>
                  <a:pt x="14816" y="15033"/>
                  <a:pt x="14816" y="14795"/>
                  <a:pt x="15081" y="14908"/>
                </a:cubicBezTo>
                <a:cubicBezTo>
                  <a:pt x="15236" y="14974"/>
                  <a:pt x="15259" y="15135"/>
                  <a:pt x="15280" y="15280"/>
                </a:cubicBezTo>
              </a:path>
              <a:path w="5631" h="795">
                <a:moveTo>
                  <a:pt x="15602" y="14883"/>
                </a:moveTo>
                <a:cubicBezTo>
                  <a:pt x="15357" y="14910"/>
                  <a:pt x="15285" y="15038"/>
                  <a:pt x="15230" y="15280"/>
                </a:cubicBezTo>
                <a:cubicBezTo>
                  <a:pt x="15443" y="15279"/>
                  <a:pt x="15444" y="15231"/>
                  <a:pt x="15528" y="15032"/>
                </a:cubicBezTo>
                <a:cubicBezTo>
                  <a:pt x="15574" y="15147"/>
                  <a:pt x="15751" y="15319"/>
                  <a:pt x="15875" y="15131"/>
                </a:cubicBezTo>
                <a:cubicBezTo>
                  <a:pt x="15900" y="15057"/>
                  <a:pt x="15924" y="14982"/>
                  <a:pt x="15949" y="14908"/>
                </a:cubicBezTo>
              </a:path>
              <a:path w="5631" h="795">
                <a:moveTo>
                  <a:pt x="15677" y="14759"/>
                </a:moveTo>
                <a:cubicBezTo>
                  <a:pt x="15945" y="14767"/>
                  <a:pt x="16203" y="14774"/>
                  <a:pt x="16470" y="14759"/>
                </a:cubicBezTo>
                <a:cubicBezTo>
                  <a:pt x="16350" y="14856"/>
                  <a:pt x="16346" y="14984"/>
                  <a:pt x="16346" y="15131"/>
                </a:cubicBezTo>
                <a:cubicBezTo>
                  <a:pt x="16484" y="15164"/>
                  <a:pt x="16806" y="15206"/>
                  <a:pt x="16718" y="14932"/>
                </a:cubicBezTo>
                <a:cubicBezTo>
                  <a:pt x="16652" y="14866"/>
                  <a:pt x="16635" y="14849"/>
                  <a:pt x="16594" y="14808"/>
                </a:cubicBezTo>
              </a:path>
              <a:path w="5631" h="795">
                <a:moveTo>
                  <a:pt x="16842" y="15056"/>
                </a:moveTo>
                <a:cubicBezTo>
                  <a:pt x="16850" y="15073"/>
                  <a:pt x="16859" y="15089"/>
                  <a:pt x="16867" y="15106"/>
                </a:cubicBezTo>
                <a:cubicBezTo>
                  <a:pt x="16867" y="14968"/>
                  <a:pt x="16870" y="14874"/>
                  <a:pt x="16991" y="14784"/>
                </a:cubicBezTo>
                <a:cubicBezTo>
                  <a:pt x="17095" y="14707"/>
                  <a:pt x="17133" y="14744"/>
                  <a:pt x="17239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4880" y="5170320"/>
            <a:ext cx="312480" cy="295560"/>
          </a:xfrm>
          <a:custGeom>
            <a:avLst/>
            <a:gdLst/>
            <a:ahLst/>
            <a:rect l="l" t="t" r="r" b="b"/>
            <a:pathLst>
              <a:path w="869" h="819">
                <a:moveTo>
                  <a:pt x="18430" y="14784"/>
                </a:moveTo>
                <a:cubicBezTo>
                  <a:pt x="18385" y="14605"/>
                  <a:pt x="18210" y="14948"/>
                  <a:pt x="18207" y="14957"/>
                </a:cubicBezTo>
                <a:cubicBezTo>
                  <a:pt x="18207" y="15015"/>
                  <a:pt x="18207" y="15073"/>
                  <a:pt x="18207" y="15131"/>
                </a:cubicBezTo>
                <a:cubicBezTo>
                  <a:pt x="18361" y="15159"/>
                  <a:pt x="18800" y="15121"/>
                  <a:pt x="18579" y="14833"/>
                </a:cubicBezTo>
                <a:cubicBezTo>
                  <a:pt x="18479" y="14793"/>
                  <a:pt x="18449" y="14800"/>
                  <a:pt x="18430" y="14734"/>
                </a:cubicBezTo>
              </a:path>
              <a:path w="869" h="819">
                <a:moveTo>
                  <a:pt x="19075" y="14362"/>
                </a:moveTo>
                <a:cubicBezTo>
                  <a:pt x="18898" y="14539"/>
                  <a:pt x="18902" y="14733"/>
                  <a:pt x="18926" y="14982"/>
                </a:cubicBezTo>
                <a:cubicBezTo>
                  <a:pt x="18945" y="15056"/>
                  <a:pt x="18953" y="15063"/>
                  <a:pt x="18951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69120" y="5180040"/>
            <a:ext cx="392040" cy="214200"/>
          </a:xfrm>
          <a:custGeom>
            <a:avLst/>
            <a:gdLst/>
            <a:ahLst/>
            <a:rect l="l" t="t" r="r" b="b"/>
            <a:pathLst>
              <a:path w="1092" h="596">
                <a:moveTo>
                  <a:pt x="20439" y="14436"/>
                </a:moveTo>
                <a:cubicBezTo>
                  <a:pt x="20312" y="14528"/>
                  <a:pt x="20020" y="14838"/>
                  <a:pt x="20290" y="14982"/>
                </a:cubicBezTo>
                <a:cubicBezTo>
                  <a:pt x="20564" y="15128"/>
                  <a:pt x="20739" y="14771"/>
                  <a:pt x="20613" y="14560"/>
                </a:cubicBezTo>
                <a:cubicBezTo>
                  <a:pt x="20540" y="14506"/>
                  <a:pt x="20506" y="14448"/>
                  <a:pt x="20513" y="14511"/>
                </a:cubicBezTo>
              </a:path>
              <a:path w="1092" h="596">
                <a:moveTo>
                  <a:pt x="21134" y="14412"/>
                </a:moveTo>
                <a:cubicBezTo>
                  <a:pt x="20926" y="14395"/>
                  <a:pt x="20774" y="14575"/>
                  <a:pt x="20836" y="14808"/>
                </a:cubicBezTo>
                <a:cubicBezTo>
                  <a:pt x="20869" y="14849"/>
                  <a:pt x="20902" y="14891"/>
                  <a:pt x="20935" y="14932"/>
                </a:cubicBezTo>
                <a:cubicBezTo>
                  <a:pt x="21198" y="14893"/>
                  <a:pt x="21435" y="14780"/>
                  <a:pt x="21183" y="14486"/>
                </a:cubicBezTo>
                <a:cubicBezTo>
                  <a:pt x="21150" y="14469"/>
                  <a:pt x="21117" y="14453"/>
                  <a:pt x="21084" y="144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67800" y="5116680"/>
            <a:ext cx="758520" cy="277560"/>
          </a:xfrm>
          <a:custGeom>
            <a:avLst/>
            <a:gdLst/>
            <a:ahLst/>
            <a:rect l="l" t="t" r="r" b="b"/>
            <a:pathLst>
              <a:path w="2109" h="770">
                <a:moveTo>
                  <a:pt x="22175" y="14263"/>
                </a:moveTo>
                <a:cubicBezTo>
                  <a:pt x="22164" y="14486"/>
                  <a:pt x="22178" y="14766"/>
                  <a:pt x="22126" y="14982"/>
                </a:cubicBezTo>
                <a:cubicBezTo>
                  <a:pt x="22118" y="14982"/>
                  <a:pt x="22109" y="14982"/>
                  <a:pt x="22101" y="14982"/>
                </a:cubicBezTo>
              </a:path>
              <a:path w="2109" h="770">
                <a:moveTo>
                  <a:pt x="21853" y="14635"/>
                </a:moveTo>
                <a:cubicBezTo>
                  <a:pt x="22097" y="14741"/>
                  <a:pt x="22324" y="14821"/>
                  <a:pt x="22423" y="14486"/>
                </a:cubicBezTo>
                <a:cubicBezTo>
                  <a:pt x="22423" y="14336"/>
                  <a:pt x="22429" y="14301"/>
                  <a:pt x="22399" y="14213"/>
                </a:cubicBezTo>
                <a:cubicBezTo>
                  <a:pt x="22399" y="14436"/>
                  <a:pt x="22379" y="14669"/>
                  <a:pt x="22423" y="14883"/>
                </a:cubicBezTo>
                <a:cubicBezTo>
                  <a:pt x="22483" y="14716"/>
                  <a:pt x="22527" y="14613"/>
                  <a:pt x="22647" y="14486"/>
                </a:cubicBezTo>
                <a:cubicBezTo>
                  <a:pt x="22777" y="14627"/>
                  <a:pt x="22789" y="14750"/>
                  <a:pt x="22845" y="14932"/>
                </a:cubicBezTo>
              </a:path>
              <a:path w="2109" h="770">
                <a:moveTo>
                  <a:pt x="22994" y="14635"/>
                </a:moveTo>
                <a:cubicBezTo>
                  <a:pt x="23195" y="14581"/>
                  <a:pt x="23178" y="14643"/>
                  <a:pt x="23118" y="14486"/>
                </a:cubicBezTo>
                <a:cubicBezTo>
                  <a:pt x="22943" y="14406"/>
                  <a:pt x="22880" y="14606"/>
                  <a:pt x="22895" y="14784"/>
                </a:cubicBezTo>
                <a:cubicBezTo>
                  <a:pt x="22911" y="14817"/>
                  <a:pt x="22928" y="14850"/>
                  <a:pt x="22944" y="14883"/>
                </a:cubicBezTo>
                <a:cubicBezTo>
                  <a:pt x="23205" y="14883"/>
                  <a:pt x="23360" y="14832"/>
                  <a:pt x="23465" y="14560"/>
                </a:cubicBezTo>
                <a:cubicBezTo>
                  <a:pt x="23498" y="14474"/>
                  <a:pt x="23433" y="14643"/>
                  <a:pt x="23416" y="14734"/>
                </a:cubicBezTo>
                <a:cubicBezTo>
                  <a:pt x="23480" y="14865"/>
                  <a:pt x="23402" y="14611"/>
                  <a:pt x="23515" y="14486"/>
                </a:cubicBezTo>
                <a:cubicBezTo>
                  <a:pt x="23776" y="14195"/>
                  <a:pt x="23896" y="14759"/>
                  <a:pt x="23937" y="14908"/>
                </a:cubicBezTo>
                <a:cubicBezTo>
                  <a:pt x="23956" y="14965"/>
                  <a:pt x="23964" y="15008"/>
                  <a:pt x="23961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44920" y="5796000"/>
            <a:ext cx="2509920" cy="268200"/>
          </a:xfrm>
          <a:custGeom>
            <a:avLst/>
            <a:gdLst/>
            <a:ahLst/>
            <a:rect l="l" t="t" r="r" b="b"/>
            <a:pathLst>
              <a:path w="6972" h="745">
                <a:moveTo>
                  <a:pt x="9872" y="16346"/>
                </a:moveTo>
                <a:cubicBezTo>
                  <a:pt x="9864" y="16354"/>
                  <a:pt x="9855" y="16363"/>
                  <a:pt x="9847" y="16371"/>
                </a:cubicBezTo>
              </a:path>
              <a:path w="6972" h="745">
                <a:moveTo>
                  <a:pt x="9847" y="16371"/>
                </a:moveTo>
                <a:lnTo>
                  <a:pt x="9847" y="16371"/>
                </a:lnTo>
              </a:path>
              <a:path w="6972" h="745">
                <a:moveTo>
                  <a:pt x="11385" y="16098"/>
                </a:moveTo>
                <a:cubicBezTo>
                  <a:pt x="11409" y="16329"/>
                  <a:pt x="11404" y="16661"/>
                  <a:pt x="11534" y="16842"/>
                </a:cubicBezTo>
              </a:path>
              <a:path w="6972" h="745">
                <a:moveTo>
                  <a:pt x="16818" y="16346"/>
                </a:moveTo>
                <a:cubicBezTo>
                  <a:pt x="16818" y="16379"/>
                  <a:pt x="16810" y="16388"/>
                  <a:pt x="16768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240" y="5938920"/>
            <a:ext cx="608040" cy="303120"/>
          </a:xfrm>
          <a:custGeom>
            <a:avLst/>
            <a:gdLst/>
            <a:ahLst/>
            <a:rect l="l" t="t" r="r" b="b"/>
            <a:pathLst>
              <a:path w="1688" h="844">
                <a:moveTo>
                  <a:pt x="2208" y="16495"/>
                </a:moveTo>
                <a:cubicBezTo>
                  <a:pt x="2239" y="16760"/>
                  <a:pt x="2292" y="17025"/>
                  <a:pt x="2332" y="17289"/>
                </a:cubicBezTo>
              </a:path>
              <a:path w="1688" h="844">
                <a:moveTo>
                  <a:pt x="1910" y="16867"/>
                </a:moveTo>
                <a:cubicBezTo>
                  <a:pt x="2089" y="16893"/>
                  <a:pt x="2560" y="17003"/>
                  <a:pt x="2629" y="16718"/>
                </a:cubicBezTo>
                <a:cubicBezTo>
                  <a:pt x="2621" y="16669"/>
                  <a:pt x="2612" y="16619"/>
                  <a:pt x="2604" y="16570"/>
                </a:cubicBezTo>
                <a:cubicBezTo>
                  <a:pt x="2544" y="16606"/>
                  <a:pt x="2593" y="16759"/>
                  <a:pt x="2629" y="16991"/>
                </a:cubicBezTo>
                <a:cubicBezTo>
                  <a:pt x="2648" y="17140"/>
                  <a:pt x="2656" y="17156"/>
                  <a:pt x="2654" y="17239"/>
                </a:cubicBezTo>
                <a:cubicBezTo>
                  <a:pt x="2646" y="17018"/>
                  <a:pt x="2640" y="16961"/>
                  <a:pt x="2778" y="16793"/>
                </a:cubicBezTo>
                <a:cubicBezTo>
                  <a:pt x="2997" y="16955"/>
                  <a:pt x="3067" y="17055"/>
                  <a:pt x="3101" y="17338"/>
                </a:cubicBezTo>
              </a:path>
              <a:path w="1688" h="844">
                <a:moveTo>
                  <a:pt x="3200" y="17066"/>
                </a:moveTo>
                <a:cubicBezTo>
                  <a:pt x="3244" y="17062"/>
                  <a:pt x="3489" y="17039"/>
                  <a:pt x="3497" y="16991"/>
                </a:cubicBezTo>
                <a:cubicBezTo>
                  <a:pt x="3489" y="16975"/>
                  <a:pt x="3481" y="16958"/>
                  <a:pt x="3473" y="16942"/>
                </a:cubicBezTo>
                <a:cubicBezTo>
                  <a:pt x="3336" y="16850"/>
                  <a:pt x="3200" y="16955"/>
                  <a:pt x="3200" y="17140"/>
                </a:cubicBezTo>
                <a:cubicBezTo>
                  <a:pt x="3200" y="17373"/>
                  <a:pt x="3462" y="17294"/>
                  <a:pt x="3597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62040" y="5892840"/>
            <a:ext cx="1670040" cy="331920"/>
          </a:xfrm>
          <a:custGeom>
            <a:avLst/>
            <a:gdLst/>
            <a:ahLst/>
            <a:rect l="l" t="t" r="r" b="b"/>
            <a:pathLst>
              <a:path w="4639" h="919">
                <a:moveTo>
                  <a:pt x="4341" y="16793"/>
                </a:moveTo>
                <a:cubicBezTo>
                  <a:pt x="4341" y="16943"/>
                  <a:pt x="4382" y="17088"/>
                  <a:pt x="4390" y="17239"/>
                </a:cubicBezTo>
                <a:cubicBezTo>
                  <a:pt x="4390" y="17256"/>
                  <a:pt x="4390" y="17272"/>
                  <a:pt x="4390" y="17289"/>
                </a:cubicBezTo>
                <a:cubicBezTo>
                  <a:pt x="4374" y="17138"/>
                  <a:pt x="4296" y="16971"/>
                  <a:pt x="4366" y="16818"/>
                </a:cubicBezTo>
                <a:cubicBezTo>
                  <a:pt x="4530" y="16458"/>
                  <a:pt x="4787" y="16966"/>
                  <a:pt x="4837" y="17090"/>
                </a:cubicBezTo>
                <a:cubicBezTo>
                  <a:pt x="4873" y="17180"/>
                  <a:pt x="4887" y="17345"/>
                  <a:pt x="4887" y="17190"/>
                </a:cubicBezTo>
              </a:path>
              <a:path w="4639" h="919">
                <a:moveTo>
                  <a:pt x="4911" y="16768"/>
                </a:moveTo>
                <a:cubicBezTo>
                  <a:pt x="4925" y="16965"/>
                  <a:pt x="4920" y="17148"/>
                  <a:pt x="5060" y="17289"/>
                </a:cubicBezTo>
                <a:cubicBezTo>
                  <a:pt x="5079" y="17257"/>
                  <a:pt x="5245" y="16819"/>
                  <a:pt x="5159" y="16818"/>
                </a:cubicBezTo>
                <a:cubicBezTo>
                  <a:pt x="5151" y="16834"/>
                  <a:pt x="5143" y="16851"/>
                  <a:pt x="5135" y="16867"/>
                </a:cubicBezTo>
                <a:cubicBezTo>
                  <a:pt x="5215" y="17080"/>
                  <a:pt x="5255" y="17364"/>
                  <a:pt x="5432" y="17115"/>
                </a:cubicBezTo>
              </a:path>
              <a:path w="4639" h="919">
                <a:moveTo>
                  <a:pt x="5432" y="16818"/>
                </a:moveTo>
                <a:cubicBezTo>
                  <a:pt x="5454" y="16952"/>
                  <a:pt x="5474" y="17083"/>
                  <a:pt x="5507" y="17214"/>
                </a:cubicBezTo>
                <a:cubicBezTo>
                  <a:pt x="5507" y="17074"/>
                  <a:pt x="5483" y="16960"/>
                  <a:pt x="5507" y="16818"/>
                </a:cubicBezTo>
                <a:cubicBezTo>
                  <a:pt x="5550" y="16567"/>
                  <a:pt x="5753" y="17009"/>
                  <a:pt x="5779" y="17066"/>
                </a:cubicBezTo>
                <a:cubicBezTo>
                  <a:pt x="5787" y="17074"/>
                  <a:pt x="5796" y="17082"/>
                  <a:pt x="5804" y="17090"/>
                </a:cubicBezTo>
                <a:cubicBezTo>
                  <a:pt x="5781" y="17015"/>
                  <a:pt x="5743" y="16828"/>
                  <a:pt x="5879" y="16818"/>
                </a:cubicBezTo>
                <a:cubicBezTo>
                  <a:pt x="6056" y="16805"/>
                  <a:pt x="6139" y="17132"/>
                  <a:pt x="6176" y="17264"/>
                </a:cubicBezTo>
                <a:cubicBezTo>
                  <a:pt x="6176" y="17272"/>
                  <a:pt x="6176" y="17281"/>
                  <a:pt x="6176" y="17289"/>
                </a:cubicBezTo>
              </a:path>
              <a:path w="4639" h="919">
                <a:moveTo>
                  <a:pt x="6077" y="16371"/>
                </a:moveTo>
                <a:cubicBezTo>
                  <a:pt x="6077" y="16528"/>
                  <a:pt x="6107" y="16692"/>
                  <a:pt x="6152" y="16842"/>
                </a:cubicBezTo>
                <a:cubicBezTo>
                  <a:pt x="6210" y="16999"/>
                  <a:pt x="6221" y="17023"/>
                  <a:pt x="6251" y="17115"/>
                </a:cubicBezTo>
                <a:cubicBezTo>
                  <a:pt x="6234" y="16862"/>
                  <a:pt x="6201" y="16781"/>
                  <a:pt x="6375" y="16619"/>
                </a:cubicBezTo>
                <a:cubicBezTo>
                  <a:pt x="6503" y="16707"/>
                  <a:pt x="6802" y="16918"/>
                  <a:pt x="6548" y="17090"/>
                </a:cubicBezTo>
                <a:cubicBezTo>
                  <a:pt x="6395" y="17194"/>
                  <a:pt x="6302" y="17055"/>
                  <a:pt x="6226" y="16966"/>
                </a:cubicBezTo>
              </a:path>
              <a:path w="4639" h="919">
                <a:moveTo>
                  <a:pt x="6747" y="16842"/>
                </a:moveTo>
                <a:cubicBezTo>
                  <a:pt x="6849" y="16809"/>
                  <a:pt x="6953" y="16807"/>
                  <a:pt x="6921" y="16694"/>
                </a:cubicBezTo>
                <a:cubicBezTo>
                  <a:pt x="6781" y="16729"/>
                  <a:pt x="6538" y="16890"/>
                  <a:pt x="6672" y="17090"/>
                </a:cubicBezTo>
                <a:cubicBezTo>
                  <a:pt x="6856" y="17363"/>
                  <a:pt x="7023" y="17011"/>
                  <a:pt x="7045" y="16867"/>
                </a:cubicBezTo>
                <a:cubicBezTo>
                  <a:pt x="7045" y="16859"/>
                  <a:pt x="7045" y="16850"/>
                  <a:pt x="7045" y="16842"/>
                </a:cubicBezTo>
                <a:cubicBezTo>
                  <a:pt x="7045" y="16875"/>
                  <a:pt x="7045" y="17128"/>
                  <a:pt x="7045" y="16991"/>
                </a:cubicBezTo>
                <a:cubicBezTo>
                  <a:pt x="7045" y="16899"/>
                  <a:pt x="7110" y="16616"/>
                  <a:pt x="7243" y="16644"/>
                </a:cubicBezTo>
                <a:cubicBezTo>
                  <a:pt x="7276" y="16661"/>
                  <a:pt x="7309" y="16677"/>
                  <a:pt x="7342" y="16694"/>
                </a:cubicBezTo>
              </a:path>
              <a:path w="4639" h="919">
                <a:moveTo>
                  <a:pt x="7689" y="16768"/>
                </a:moveTo>
                <a:cubicBezTo>
                  <a:pt x="7657" y="16634"/>
                  <a:pt x="7488" y="16760"/>
                  <a:pt x="7441" y="16818"/>
                </a:cubicBezTo>
                <a:cubicBezTo>
                  <a:pt x="7383" y="16933"/>
                  <a:pt x="7342" y="16950"/>
                  <a:pt x="7392" y="17016"/>
                </a:cubicBezTo>
                <a:cubicBezTo>
                  <a:pt x="7577" y="17016"/>
                  <a:pt x="7628" y="16993"/>
                  <a:pt x="7665" y="16793"/>
                </a:cubicBezTo>
                <a:cubicBezTo>
                  <a:pt x="7687" y="16924"/>
                  <a:pt x="7797" y="17093"/>
                  <a:pt x="7962" y="16942"/>
                </a:cubicBezTo>
                <a:cubicBezTo>
                  <a:pt x="8102" y="16814"/>
                  <a:pt x="8030" y="16601"/>
                  <a:pt x="8012" y="16446"/>
                </a:cubicBezTo>
                <a:cubicBezTo>
                  <a:pt x="7913" y="16281"/>
                  <a:pt x="8066" y="16712"/>
                  <a:pt x="8136" y="16892"/>
                </a:cubicBezTo>
                <a:cubicBezTo>
                  <a:pt x="8174" y="16985"/>
                  <a:pt x="8167" y="17003"/>
                  <a:pt x="8210" y="17041"/>
                </a:cubicBezTo>
              </a:path>
              <a:path w="4639" h="919">
                <a:moveTo>
                  <a:pt x="7838" y="16669"/>
                </a:moveTo>
                <a:cubicBezTo>
                  <a:pt x="8030" y="16662"/>
                  <a:pt x="8218" y="16634"/>
                  <a:pt x="8409" y="16619"/>
                </a:cubicBezTo>
                <a:cubicBezTo>
                  <a:pt x="8323" y="16653"/>
                  <a:pt x="8204" y="16779"/>
                  <a:pt x="8260" y="16892"/>
                </a:cubicBezTo>
                <a:cubicBezTo>
                  <a:pt x="8347" y="17066"/>
                  <a:pt x="8643" y="17008"/>
                  <a:pt x="8657" y="16818"/>
                </a:cubicBezTo>
                <a:cubicBezTo>
                  <a:pt x="8671" y="16631"/>
                  <a:pt x="8494" y="16631"/>
                  <a:pt x="8359" y="16619"/>
                </a:cubicBezTo>
              </a:path>
              <a:path w="4639" h="919">
                <a:moveTo>
                  <a:pt x="8731" y="16793"/>
                </a:moveTo>
                <a:cubicBezTo>
                  <a:pt x="8751" y="16870"/>
                  <a:pt x="8743" y="16888"/>
                  <a:pt x="8781" y="16917"/>
                </a:cubicBezTo>
                <a:cubicBezTo>
                  <a:pt x="8768" y="16769"/>
                  <a:pt x="8736" y="16602"/>
                  <a:pt x="8880" y="16495"/>
                </a:cubicBezTo>
                <a:cubicBezTo>
                  <a:pt x="8954" y="16476"/>
                  <a:pt x="8987" y="16494"/>
                  <a:pt x="8979" y="164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6840" y="5911920"/>
            <a:ext cx="198360" cy="169920"/>
          </a:xfrm>
          <a:custGeom>
            <a:avLst/>
            <a:gdLst/>
            <a:ahLst/>
            <a:rect l="l" t="t" r="r" b="b"/>
            <a:pathLst>
              <a:path w="547" h="472">
                <a:moveTo>
                  <a:pt x="10021" y="16619"/>
                </a:moveTo>
                <a:cubicBezTo>
                  <a:pt x="10056" y="16715"/>
                  <a:pt x="10071" y="16765"/>
                  <a:pt x="10071" y="16867"/>
                </a:cubicBezTo>
              </a:path>
              <a:path w="547" h="472">
                <a:moveTo>
                  <a:pt x="10393" y="16421"/>
                </a:moveTo>
                <a:cubicBezTo>
                  <a:pt x="10329" y="16474"/>
                  <a:pt x="10261" y="16520"/>
                  <a:pt x="10195" y="16570"/>
                </a:cubicBezTo>
                <a:cubicBezTo>
                  <a:pt x="10325" y="16633"/>
                  <a:pt x="10444" y="16637"/>
                  <a:pt x="10567" y="16718"/>
                </a:cubicBezTo>
                <a:cubicBezTo>
                  <a:pt x="10444" y="16912"/>
                  <a:pt x="10374" y="16872"/>
                  <a:pt x="10294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00680" y="5769000"/>
            <a:ext cx="509400" cy="249120"/>
          </a:xfrm>
          <a:custGeom>
            <a:avLst/>
            <a:gdLst/>
            <a:ahLst/>
            <a:rect l="l" t="t" r="r" b="b"/>
            <a:pathLst>
              <a:path w="1415" h="695">
                <a:moveTo>
                  <a:pt x="11112" y="16495"/>
                </a:moveTo>
                <a:cubicBezTo>
                  <a:pt x="11300" y="16628"/>
                  <a:pt x="11646" y="16813"/>
                  <a:pt x="11757" y="16446"/>
                </a:cubicBezTo>
                <a:cubicBezTo>
                  <a:pt x="11792" y="16329"/>
                  <a:pt x="11750" y="16128"/>
                  <a:pt x="11708" y="16024"/>
                </a:cubicBezTo>
                <a:cubicBezTo>
                  <a:pt x="11717" y="16258"/>
                  <a:pt x="11731" y="16490"/>
                  <a:pt x="11782" y="16718"/>
                </a:cubicBezTo>
                <a:cubicBezTo>
                  <a:pt x="11794" y="16591"/>
                  <a:pt x="11763" y="16260"/>
                  <a:pt x="11857" y="16346"/>
                </a:cubicBezTo>
                <a:cubicBezTo>
                  <a:pt x="11970" y="16449"/>
                  <a:pt x="11889" y="16843"/>
                  <a:pt x="12204" y="16718"/>
                </a:cubicBezTo>
                <a:cubicBezTo>
                  <a:pt x="12352" y="16595"/>
                  <a:pt x="12400" y="16556"/>
                  <a:pt x="12427" y="16421"/>
                </a:cubicBezTo>
                <a:cubicBezTo>
                  <a:pt x="12404" y="16329"/>
                  <a:pt x="12404" y="16293"/>
                  <a:pt x="12328" y="16346"/>
                </a:cubicBezTo>
                <a:cubicBezTo>
                  <a:pt x="12247" y="16622"/>
                  <a:pt x="12216" y="16743"/>
                  <a:pt x="12526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32200" y="5680080"/>
            <a:ext cx="1206720" cy="480960"/>
          </a:xfrm>
          <a:custGeom>
            <a:avLst/>
            <a:gdLst/>
            <a:ahLst/>
            <a:rect l="l" t="t" r="r" b="b"/>
            <a:pathLst>
              <a:path w="3350" h="1340">
                <a:moveTo>
                  <a:pt x="13370" y="16793"/>
                </a:moveTo>
                <a:cubicBezTo>
                  <a:pt x="13390" y="16974"/>
                  <a:pt x="13399" y="17007"/>
                  <a:pt x="13395" y="17115"/>
                </a:cubicBezTo>
                <a:cubicBezTo>
                  <a:pt x="13222" y="16972"/>
                  <a:pt x="13186" y="16644"/>
                  <a:pt x="13221" y="16421"/>
                </a:cubicBezTo>
                <a:cubicBezTo>
                  <a:pt x="13246" y="16371"/>
                  <a:pt x="13270" y="16322"/>
                  <a:pt x="13295" y="16272"/>
                </a:cubicBezTo>
                <a:cubicBezTo>
                  <a:pt x="13416" y="16319"/>
                  <a:pt x="13814" y="16620"/>
                  <a:pt x="13494" y="16768"/>
                </a:cubicBezTo>
                <a:cubicBezTo>
                  <a:pt x="13338" y="16840"/>
                  <a:pt x="13233" y="16705"/>
                  <a:pt x="13146" y="16619"/>
                </a:cubicBezTo>
              </a:path>
              <a:path w="3350" h="1340">
                <a:moveTo>
                  <a:pt x="13667" y="16396"/>
                </a:moveTo>
                <a:cubicBezTo>
                  <a:pt x="13761" y="16379"/>
                  <a:pt x="13858" y="16367"/>
                  <a:pt x="13940" y="16346"/>
                </a:cubicBezTo>
                <a:cubicBezTo>
                  <a:pt x="13856" y="16276"/>
                  <a:pt x="13690" y="16157"/>
                  <a:pt x="13643" y="16346"/>
                </a:cubicBezTo>
                <a:cubicBezTo>
                  <a:pt x="13564" y="16663"/>
                  <a:pt x="13814" y="16833"/>
                  <a:pt x="14064" y="16619"/>
                </a:cubicBezTo>
                <a:cubicBezTo>
                  <a:pt x="14216" y="16489"/>
                  <a:pt x="14163" y="16183"/>
                  <a:pt x="14163" y="16570"/>
                </a:cubicBezTo>
                <a:cubicBezTo>
                  <a:pt x="14211" y="16601"/>
                  <a:pt x="14169" y="16393"/>
                  <a:pt x="14188" y="16321"/>
                </a:cubicBezTo>
                <a:cubicBezTo>
                  <a:pt x="14234" y="16142"/>
                  <a:pt x="14291" y="16179"/>
                  <a:pt x="14436" y="16197"/>
                </a:cubicBezTo>
              </a:path>
              <a:path w="3350" h="1340">
                <a:moveTo>
                  <a:pt x="14734" y="16222"/>
                </a:moveTo>
                <a:cubicBezTo>
                  <a:pt x="14792" y="16241"/>
                  <a:pt x="14760" y="16217"/>
                  <a:pt x="14734" y="16148"/>
                </a:cubicBezTo>
                <a:cubicBezTo>
                  <a:pt x="14567" y="16147"/>
                  <a:pt x="14483" y="16400"/>
                  <a:pt x="14560" y="16570"/>
                </a:cubicBezTo>
                <a:cubicBezTo>
                  <a:pt x="14684" y="16841"/>
                  <a:pt x="14954" y="16427"/>
                  <a:pt x="15007" y="16371"/>
                </a:cubicBezTo>
              </a:path>
              <a:path w="3350" h="1340">
                <a:moveTo>
                  <a:pt x="15106" y="16297"/>
                </a:moveTo>
                <a:cubicBezTo>
                  <a:pt x="15235" y="16237"/>
                  <a:pt x="15267" y="16259"/>
                  <a:pt x="15156" y="16173"/>
                </a:cubicBezTo>
                <a:cubicBezTo>
                  <a:pt x="14959" y="16329"/>
                  <a:pt x="14944" y="16407"/>
                  <a:pt x="15106" y="16594"/>
                </a:cubicBezTo>
                <a:cubicBezTo>
                  <a:pt x="15353" y="16509"/>
                  <a:pt x="15384" y="16453"/>
                  <a:pt x="15453" y="16197"/>
                </a:cubicBezTo>
                <a:cubicBezTo>
                  <a:pt x="15483" y="16085"/>
                  <a:pt x="15453" y="16429"/>
                  <a:pt x="15453" y="16545"/>
                </a:cubicBezTo>
                <a:cubicBezTo>
                  <a:pt x="15469" y="16414"/>
                  <a:pt x="15463" y="16301"/>
                  <a:pt x="15478" y="16173"/>
                </a:cubicBezTo>
                <a:cubicBezTo>
                  <a:pt x="15688" y="16143"/>
                  <a:pt x="15750" y="16220"/>
                  <a:pt x="15825" y="16421"/>
                </a:cubicBezTo>
                <a:cubicBezTo>
                  <a:pt x="15844" y="16495"/>
                  <a:pt x="15852" y="16502"/>
                  <a:pt x="15850" y="16545"/>
                </a:cubicBezTo>
              </a:path>
              <a:path w="3350" h="1340">
                <a:moveTo>
                  <a:pt x="15999" y="15776"/>
                </a:moveTo>
                <a:cubicBezTo>
                  <a:pt x="16044" y="15998"/>
                  <a:pt x="15986" y="16245"/>
                  <a:pt x="16049" y="16470"/>
                </a:cubicBezTo>
                <a:cubicBezTo>
                  <a:pt x="16089" y="16614"/>
                  <a:pt x="16305" y="16597"/>
                  <a:pt x="16396" y="16520"/>
                </a:cubicBezTo>
                <a:cubicBezTo>
                  <a:pt x="16483" y="16411"/>
                  <a:pt x="16521" y="16388"/>
                  <a:pt x="16470" y="16297"/>
                </a:cubicBezTo>
              </a:path>
              <a:path w="3350" h="1340">
                <a:moveTo>
                  <a:pt x="15825" y="16073"/>
                </a:moveTo>
                <a:cubicBezTo>
                  <a:pt x="16015" y="16053"/>
                  <a:pt x="16205" y="16024"/>
                  <a:pt x="16396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cp:lastPrinted>2009-09-29T02:37:49Z</cp:lastPrinted>
  <dcterms:modified xsi:type="dcterms:W3CDTF">2011-10-06T16:35:18Z</dcterms:modified>
  <cp:revision>56</cp:revision>
  <dc:subject/>
  <dc:title>Unit 1 – Variables and Equations </dc:title>
</cp:coreProperties>
</file>